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0.wmf" ContentType="image/x-wmf"/>
  <Override PartName="/ppt/media/image6.png" ContentType="image/png"/>
  <Override PartName="/ppt/media/image55.jpeg" ContentType="image/jpeg"/>
  <Override PartName="/ppt/media/image15.wmf" ContentType="image/x-wmf"/>
  <Override PartName="/ppt/media/image39.png" ContentType="image/png"/>
  <Override PartName="/ppt/media/image22.jpeg" ContentType="image/jpe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36.png" ContentType="image/png"/>
  <Override PartName="/ppt/media/image50.png" ContentType="image/png"/>
  <Override PartName="/ppt/media/image5.jpeg" ContentType="image/jpeg"/>
  <Override PartName="/ppt/media/image54.png" ContentType="image/png"/>
  <Override PartName="/ppt/media/image11.wmf" ContentType="image/x-wmf"/>
  <Override PartName="/ppt/media/image18.wmf" ContentType="image/x-wmf"/>
  <Override PartName="/ppt/media/image26.jpeg" ContentType="image/jpeg"/>
  <Override PartName="/ppt/media/image42.png" ContentType="image/png"/>
  <Override PartName="/ppt/media/image31.png" ContentType="image/png"/>
  <Override PartName="/ppt/media/image29.wmf" ContentType="image/x-wmf"/>
  <Override PartName="/ppt/media/image61.jpeg" ContentType="image/jpeg"/>
  <Override PartName="/ppt/media/image60.jpeg" ContentType="image/jpeg"/>
  <Override PartName="/ppt/media/image30.png" ContentType="image/png"/>
  <Override PartName="/ppt/media/image63.jpeg" ContentType="image/jpeg"/>
  <Override PartName="/ppt/media/image27.wmf" ContentType="image/x-wmf"/>
  <Override PartName="/ppt/media/image38.jpeg" ContentType="image/jpeg"/>
  <Override PartName="/ppt/media/image28.png" ContentType="image/png"/>
  <Override PartName="/ppt/media/image24.png" ContentType="image/png"/>
  <Override PartName="/ppt/media/image57.png" ContentType="image/png"/>
  <Override PartName="/ppt/media/image2.wmf" ContentType="image/x-wmf"/>
  <Override PartName="/ppt/media/image23.jpeg" ContentType="image/jpeg"/>
  <Override PartName="/ppt/media/image49.png" ContentType="image/png"/>
  <Override PartName="/ppt/media/image14.png" ContentType="image/png"/>
  <Override PartName="/ppt/media/image8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.png" ContentType="image/png"/>
  <Override PartName="/ppt/media/image33.png" ContentType="image/png"/>
  <Override PartName="/ppt/media/image17.wmf" ContentType="image/x-wmf"/>
  <Override PartName="/ppt/media/image56.png" ContentType="image/png"/>
  <Override PartName="/ppt/media/image16.png" ContentType="image/png"/>
  <Override PartName="/ppt/media/image4.png" ContentType="image/png"/>
  <Override PartName="/ppt/media/image20.jpeg" ContentType="image/jpeg"/>
  <Override PartName="/ppt/media/image12.wmf" ContentType="image/x-wmf"/>
  <Override PartName="/ppt/media/image32.png" ContentType="image/png"/>
  <Override PartName="/ppt/media/image35.png" ContentType="image/png"/>
  <Override PartName="/ppt/media/image37.wmf" ContentType="image/x-wmf"/>
  <Override PartName="/ppt/media/image41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png" ContentType="image/png"/>
  <Override PartName="/ppt/media/image51.jpeg" ContentType="image/jpeg"/>
  <Override PartName="/ppt/media/image13.png" ContentType="image/png"/>
  <Override PartName="/ppt/media/image52.jpeg" ContentType="image/jpeg"/>
  <Override PartName="/ppt/media/image10.wmf" ContentType="image/x-wmf"/>
  <Override PartName="/ppt/media/image53.png" ContentType="image/png"/>
  <Override PartName="/ppt/media/image58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3E74-EE74-43CF-99D1-F56D155104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puis que l’homme a découvert les combustibles fossiles, la consommation de l’humanité n’a cessé d’augmenter. Chaque nouvelle source d’énergie est venue se surajouter aux autres et connaît sa propre évolution exponentielle : aucune substitution ne se constate au niveau mond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B19F-60A6-42B6-BA80-FA56332F01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63520" y="631800"/>
            <a:ext cx="4577040" cy="34322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729720" y="4344840"/>
            <a:ext cx="54565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énarios = jeu d’hypothèses sur le développement économique, l’intensité et les modes d’approvisionnement énergétique et le développement de la population mondi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 pourrait penser que cela est essentiellement du à l ’évolution démographique fulgurante que nous avons conn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 pourrait penser que cela est essentiellement du à l ’évolution démographique fulgurante que nous avons conn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 pourrait penser que cela est essentiellement du à l ’évolution démographique fulgurante que nous avons conn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puis que l’homme a découvert les combustibles fossiles, la consommation de l’humanité n’a cessé d’augmenter. Chaque nouvelle source d’énergie est venue se surajouter aux autres et connaît sa propre évolution exponentielle : aucune substitution ne se constate au niveau mond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69720" y="325440"/>
            <a:ext cx="8774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88000"/>
            <a:ext cx="91440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430360" y="6629400"/>
            <a:ext cx="40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160800" y="6629400"/>
            <a:ext cx="302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9680" y="6613560"/>
            <a:ext cx="87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an-Marc Jancovici - 27 mars 2008 - www.carbone4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0" y="0"/>
          <a:ext cx="927000" cy="316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2700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0" y="6621480"/>
            <a:ext cx="498600" cy="2365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wmf"/><Relationship Id="rId6" Type="http://schemas.openxmlformats.org/officeDocument/2006/relationships/image" Target="../media/image41.png"/><Relationship Id="rId7" Type="http://schemas.openxmlformats.org/officeDocument/2006/relationships/image" Target="../media/image37.wmf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58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wmf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58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2080" y="479520"/>
            <a:ext cx="86043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Energie et climat : la fin de l’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âge d’or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423040" y="1330200"/>
            <a:ext cx="3363840" cy="4435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4160" y="6195960"/>
            <a:ext cx="860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an-Marc Jancovici - SPIE - 27 mars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73120" y="1303200"/>
            <a:ext cx="360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900000" y="0"/>
            <a:ext cx="8244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ie = carbone, ce n’est pas parfaitement exact, mais pres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255600" y="1495440"/>
          <a:ext cx="4124160" cy="33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495440"/>
                    <a:ext cx="412416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"/>
          <p:cNvSpPr/>
          <p:nvPr/>
        </p:nvSpPr>
        <p:spPr>
          <a:xfrm>
            <a:off x="2013840" y="620064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lan énergétique mondial en 2004 - Source : AIE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181520" y="5241960"/>
            <a:ext cx="293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,1 Gtep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prim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545000" y="1700280"/>
          <a:ext cx="4595760" cy="33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5000" y="1700280"/>
                    <a:ext cx="459576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"/>
          <p:cNvSpPr/>
          <p:nvPr/>
        </p:nvSpPr>
        <p:spPr>
          <a:xfrm>
            <a:off x="5749920" y="5324400"/>
            <a:ext cx="2560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,6 Gtep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87960" y="553392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9377600">
            <a:off x="-112680" y="1495080"/>
            <a:ext cx="2459160" cy="142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965160" y="0"/>
            <a:ext cx="6934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France, nucléaire = moins de pétrol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960" y="5667480"/>
            <a:ext cx="84582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rt du pétrole dans la consommation d’énergie primaire hors bois en Europe en 2004. La France est très exactement dans une honn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ête moyenne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ource BP Stat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8510760" cy="480060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533160" y="2057400"/>
            <a:ext cx="7924680" cy="2362320"/>
            <a:chOff x="533160" y="2057400"/>
            <a:chExt cx="7924680" cy="2362320"/>
          </a:xfrm>
        </p:grpSpPr>
        <p:sp>
          <p:nvSpPr>
            <p:cNvPr id="416" name=""/>
            <p:cNvSpPr/>
            <p:nvPr/>
          </p:nvSpPr>
          <p:spPr>
            <a:xfrm flipH="1">
              <a:off x="533160" y="2438280"/>
              <a:ext cx="7924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62320" y="2057400"/>
              <a:ext cx="380880" cy="23623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42880" y="1371600"/>
            <a:ext cx="7229520" cy="3809880"/>
            <a:chOff x="542880" y="1371600"/>
            <a:chExt cx="7229520" cy="3809880"/>
          </a:xfrm>
        </p:grpSpPr>
        <p:sp>
          <p:nvSpPr>
            <p:cNvPr id="419" name=""/>
            <p:cNvSpPr/>
            <p:nvPr/>
          </p:nvSpPr>
          <p:spPr>
            <a:xfrm>
              <a:off x="7467480" y="2133720"/>
              <a:ext cx="304920" cy="304776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53080" y="1828800"/>
              <a:ext cx="304920" cy="304812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1371600"/>
              <a:ext cx="304920" cy="304812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2880" y="1600200"/>
              <a:ext cx="304920" cy="304812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590920" y="2057400"/>
              <a:ext cx="304560" cy="304812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958680" y="0"/>
            <a:ext cx="7864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nt d’extraire du pétrole, il est bon de pouvoir le découvri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9280" y="5548320"/>
            <a:ext cx="89154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écouvertes mondiales de pétrole récupérable depuis 1900, en moyenne mobile sur 5 ans, en milliards de tonnes équivalent pétrole  (1 tonne = 7,3 baril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 : Exxon Mobil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6360" y="614520"/>
            <a:ext cx="9107640" cy="3979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028880" y="4740120"/>
            <a:ext cx="728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couvertes cumulées d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étrole récupérabl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réserves </a:t>
            </a: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ultime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max de la production cumulée possible de -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∞ à +∞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39840" y="1800360"/>
            <a:ext cx="6881760" cy="2490480"/>
          </a:xfrm>
          <a:custGeom>
            <a:avLst/>
            <a:gdLst/>
            <a:ahLst/>
            <a:rect l="l" t="t" r="r" b="b"/>
            <a:pathLst>
              <a:path w="4215" h="1481">
                <a:moveTo>
                  <a:pt x="0" y="1455"/>
                </a:moveTo>
                <a:cubicBezTo>
                  <a:pt x="38" y="1452"/>
                  <a:pt x="84" y="1466"/>
                  <a:pt x="114" y="1443"/>
                </a:cubicBezTo>
                <a:cubicBezTo>
                  <a:pt x="139" y="1422"/>
                  <a:pt x="147" y="1397"/>
                  <a:pt x="183" y="1386"/>
                </a:cubicBezTo>
                <a:cubicBezTo>
                  <a:pt x="195" y="1362"/>
                  <a:pt x="200" y="1341"/>
                  <a:pt x="208" y="1317"/>
                </a:cubicBezTo>
                <a:cubicBezTo>
                  <a:pt x="213" y="1275"/>
                  <a:pt x="216" y="1243"/>
                  <a:pt x="240" y="1210"/>
                </a:cubicBezTo>
                <a:cubicBezTo>
                  <a:pt x="244" y="1180"/>
                  <a:pt x="255" y="1062"/>
                  <a:pt x="259" y="1058"/>
                </a:cubicBezTo>
                <a:cubicBezTo>
                  <a:pt x="270" y="1043"/>
                  <a:pt x="296" y="1054"/>
                  <a:pt x="315" y="1052"/>
                </a:cubicBezTo>
                <a:cubicBezTo>
                  <a:pt x="323" y="980"/>
                  <a:pt x="302" y="965"/>
                  <a:pt x="372" y="977"/>
                </a:cubicBezTo>
                <a:cubicBezTo>
                  <a:pt x="379" y="998"/>
                  <a:pt x="390" y="1076"/>
                  <a:pt x="404" y="1090"/>
                </a:cubicBezTo>
                <a:cubicBezTo>
                  <a:pt x="408" y="1094"/>
                  <a:pt x="416" y="1094"/>
                  <a:pt x="422" y="1096"/>
                </a:cubicBezTo>
                <a:cubicBezTo>
                  <a:pt x="470" y="1144"/>
                  <a:pt x="446" y="1216"/>
                  <a:pt x="467" y="1279"/>
                </a:cubicBezTo>
                <a:cubicBezTo>
                  <a:pt x="469" y="1285"/>
                  <a:pt x="478" y="1328"/>
                  <a:pt x="492" y="1336"/>
                </a:cubicBezTo>
                <a:cubicBezTo>
                  <a:pt x="501" y="1341"/>
                  <a:pt x="512" y="1340"/>
                  <a:pt x="523" y="1342"/>
                </a:cubicBezTo>
                <a:cubicBezTo>
                  <a:pt x="525" y="1350"/>
                  <a:pt x="526" y="1359"/>
                  <a:pt x="530" y="1367"/>
                </a:cubicBezTo>
                <a:cubicBezTo>
                  <a:pt x="532" y="1373"/>
                  <a:pt x="539" y="1378"/>
                  <a:pt x="542" y="1386"/>
                </a:cubicBezTo>
                <a:cubicBezTo>
                  <a:pt x="557" y="1439"/>
                  <a:pt x="530" y="1424"/>
                  <a:pt x="567" y="1436"/>
                </a:cubicBezTo>
                <a:cubicBezTo>
                  <a:pt x="574" y="1391"/>
                  <a:pt x="565" y="1336"/>
                  <a:pt x="605" y="1310"/>
                </a:cubicBezTo>
                <a:cubicBezTo>
                  <a:pt x="616" y="1275"/>
                  <a:pt x="643" y="1250"/>
                  <a:pt x="655" y="1216"/>
                </a:cubicBezTo>
                <a:cubicBezTo>
                  <a:pt x="659" y="1137"/>
                  <a:pt x="660" y="1118"/>
                  <a:pt x="674" y="1058"/>
                </a:cubicBezTo>
                <a:cubicBezTo>
                  <a:pt x="677" y="980"/>
                  <a:pt x="668" y="900"/>
                  <a:pt x="687" y="825"/>
                </a:cubicBezTo>
                <a:cubicBezTo>
                  <a:pt x="688" y="818"/>
                  <a:pt x="699" y="821"/>
                  <a:pt x="706" y="819"/>
                </a:cubicBezTo>
                <a:cubicBezTo>
                  <a:pt x="748" y="789"/>
                  <a:pt x="735" y="777"/>
                  <a:pt x="744" y="718"/>
                </a:cubicBezTo>
                <a:cubicBezTo>
                  <a:pt x="746" y="696"/>
                  <a:pt x="755" y="675"/>
                  <a:pt x="763" y="655"/>
                </a:cubicBezTo>
                <a:cubicBezTo>
                  <a:pt x="785" y="663"/>
                  <a:pt x="793" y="679"/>
                  <a:pt x="813" y="693"/>
                </a:cubicBezTo>
                <a:cubicBezTo>
                  <a:pt x="821" y="718"/>
                  <a:pt x="834" y="728"/>
                  <a:pt x="857" y="743"/>
                </a:cubicBezTo>
                <a:cubicBezTo>
                  <a:pt x="837" y="825"/>
                  <a:pt x="818" y="924"/>
                  <a:pt x="870" y="995"/>
                </a:cubicBezTo>
                <a:cubicBezTo>
                  <a:pt x="884" y="1040"/>
                  <a:pt x="880" y="1087"/>
                  <a:pt x="895" y="1134"/>
                </a:cubicBezTo>
                <a:cubicBezTo>
                  <a:pt x="897" y="1148"/>
                  <a:pt x="895" y="1164"/>
                  <a:pt x="901" y="1178"/>
                </a:cubicBezTo>
                <a:cubicBezTo>
                  <a:pt x="904" y="1185"/>
                  <a:pt x="914" y="1185"/>
                  <a:pt x="920" y="1191"/>
                </a:cubicBezTo>
                <a:cubicBezTo>
                  <a:pt x="938" y="1209"/>
                  <a:pt x="944" y="1218"/>
                  <a:pt x="970" y="1229"/>
                </a:cubicBezTo>
                <a:cubicBezTo>
                  <a:pt x="986" y="1252"/>
                  <a:pt x="982" y="1274"/>
                  <a:pt x="996" y="1298"/>
                </a:cubicBezTo>
                <a:cubicBezTo>
                  <a:pt x="1004" y="1311"/>
                  <a:pt x="1037" y="1324"/>
                  <a:pt x="1052" y="1329"/>
                </a:cubicBezTo>
                <a:cubicBezTo>
                  <a:pt x="1086" y="1279"/>
                  <a:pt x="1055" y="1217"/>
                  <a:pt x="1090" y="1166"/>
                </a:cubicBezTo>
                <a:cubicBezTo>
                  <a:pt x="1092" y="1140"/>
                  <a:pt x="1109" y="1086"/>
                  <a:pt x="1103" y="1065"/>
                </a:cubicBezTo>
                <a:cubicBezTo>
                  <a:pt x="1101" y="1012"/>
                  <a:pt x="1071" y="742"/>
                  <a:pt x="1115" y="674"/>
                </a:cubicBezTo>
                <a:cubicBezTo>
                  <a:pt x="1117" y="625"/>
                  <a:pt x="1110" y="576"/>
                  <a:pt x="1122" y="529"/>
                </a:cubicBezTo>
                <a:cubicBezTo>
                  <a:pt x="1126" y="512"/>
                  <a:pt x="1159" y="492"/>
                  <a:pt x="1159" y="492"/>
                </a:cubicBezTo>
                <a:cubicBezTo>
                  <a:pt x="1174" y="449"/>
                  <a:pt x="1177" y="490"/>
                  <a:pt x="1185" y="510"/>
                </a:cubicBezTo>
                <a:cubicBezTo>
                  <a:pt x="1189" y="497"/>
                  <a:pt x="1195" y="485"/>
                  <a:pt x="1197" y="473"/>
                </a:cubicBezTo>
                <a:cubicBezTo>
                  <a:pt x="1199" y="452"/>
                  <a:pt x="1197" y="430"/>
                  <a:pt x="1204" y="410"/>
                </a:cubicBezTo>
                <a:cubicBezTo>
                  <a:pt x="1208" y="394"/>
                  <a:pt x="1225" y="385"/>
                  <a:pt x="1235" y="372"/>
                </a:cubicBezTo>
                <a:cubicBezTo>
                  <a:pt x="1237" y="359"/>
                  <a:pt x="1231" y="342"/>
                  <a:pt x="1241" y="334"/>
                </a:cubicBezTo>
                <a:cubicBezTo>
                  <a:pt x="1269" y="309"/>
                  <a:pt x="1275" y="348"/>
                  <a:pt x="1279" y="359"/>
                </a:cubicBezTo>
                <a:cubicBezTo>
                  <a:pt x="1286" y="571"/>
                  <a:pt x="1259" y="627"/>
                  <a:pt x="1311" y="769"/>
                </a:cubicBezTo>
                <a:cubicBezTo>
                  <a:pt x="1317" y="916"/>
                  <a:pt x="1280" y="886"/>
                  <a:pt x="1355" y="914"/>
                </a:cubicBezTo>
                <a:cubicBezTo>
                  <a:pt x="1387" y="881"/>
                  <a:pt x="1373" y="846"/>
                  <a:pt x="1411" y="819"/>
                </a:cubicBezTo>
                <a:cubicBezTo>
                  <a:pt x="1417" y="821"/>
                  <a:pt x="1426" y="819"/>
                  <a:pt x="1430" y="825"/>
                </a:cubicBezTo>
                <a:cubicBezTo>
                  <a:pt x="1453" y="864"/>
                  <a:pt x="1416" y="869"/>
                  <a:pt x="1456" y="857"/>
                </a:cubicBezTo>
                <a:cubicBezTo>
                  <a:pt x="1495" y="794"/>
                  <a:pt x="1423" y="632"/>
                  <a:pt x="1506" y="586"/>
                </a:cubicBezTo>
                <a:cubicBezTo>
                  <a:pt x="1519" y="578"/>
                  <a:pt x="1535" y="578"/>
                  <a:pt x="1550" y="573"/>
                </a:cubicBezTo>
                <a:cubicBezTo>
                  <a:pt x="1565" y="528"/>
                  <a:pt x="1556" y="547"/>
                  <a:pt x="1575" y="517"/>
                </a:cubicBezTo>
                <a:cubicBezTo>
                  <a:pt x="1582" y="471"/>
                  <a:pt x="1597" y="428"/>
                  <a:pt x="1607" y="384"/>
                </a:cubicBezTo>
                <a:cubicBezTo>
                  <a:pt x="1609" y="359"/>
                  <a:pt x="1608" y="333"/>
                  <a:pt x="1613" y="309"/>
                </a:cubicBezTo>
                <a:cubicBezTo>
                  <a:pt x="1614" y="301"/>
                  <a:pt x="1622" y="296"/>
                  <a:pt x="1626" y="290"/>
                </a:cubicBezTo>
                <a:cubicBezTo>
                  <a:pt x="1642" y="260"/>
                  <a:pt x="1640" y="232"/>
                  <a:pt x="1676" y="221"/>
                </a:cubicBezTo>
                <a:cubicBezTo>
                  <a:pt x="1723" y="235"/>
                  <a:pt x="1684" y="267"/>
                  <a:pt x="1707" y="290"/>
                </a:cubicBezTo>
                <a:cubicBezTo>
                  <a:pt x="1717" y="300"/>
                  <a:pt x="1745" y="315"/>
                  <a:pt x="1745" y="315"/>
                </a:cubicBezTo>
                <a:cubicBezTo>
                  <a:pt x="1753" y="291"/>
                  <a:pt x="1759" y="282"/>
                  <a:pt x="1752" y="258"/>
                </a:cubicBezTo>
                <a:cubicBezTo>
                  <a:pt x="1757" y="171"/>
                  <a:pt x="1735" y="88"/>
                  <a:pt x="1783" y="19"/>
                </a:cubicBezTo>
                <a:cubicBezTo>
                  <a:pt x="1785" y="12"/>
                  <a:pt x="1782" y="0"/>
                  <a:pt x="1789" y="0"/>
                </a:cubicBezTo>
                <a:cubicBezTo>
                  <a:pt x="1791" y="0"/>
                  <a:pt x="1817" y="51"/>
                  <a:pt x="1821" y="57"/>
                </a:cubicBezTo>
                <a:cubicBezTo>
                  <a:pt x="1829" y="98"/>
                  <a:pt x="1821" y="141"/>
                  <a:pt x="1846" y="177"/>
                </a:cubicBezTo>
                <a:cubicBezTo>
                  <a:pt x="1860" y="220"/>
                  <a:pt x="1835" y="269"/>
                  <a:pt x="1878" y="296"/>
                </a:cubicBezTo>
                <a:cubicBezTo>
                  <a:pt x="1886" y="321"/>
                  <a:pt x="1899" y="331"/>
                  <a:pt x="1922" y="347"/>
                </a:cubicBezTo>
                <a:cubicBezTo>
                  <a:pt x="1930" y="203"/>
                  <a:pt x="1925" y="234"/>
                  <a:pt x="1947" y="303"/>
                </a:cubicBezTo>
                <a:cubicBezTo>
                  <a:pt x="1949" y="319"/>
                  <a:pt x="1946" y="337"/>
                  <a:pt x="1953" y="353"/>
                </a:cubicBezTo>
                <a:cubicBezTo>
                  <a:pt x="1955" y="359"/>
                  <a:pt x="1967" y="354"/>
                  <a:pt x="1972" y="359"/>
                </a:cubicBezTo>
                <a:cubicBezTo>
                  <a:pt x="1976" y="363"/>
                  <a:pt x="1976" y="371"/>
                  <a:pt x="1978" y="378"/>
                </a:cubicBezTo>
                <a:cubicBezTo>
                  <a:pt x="1976" y="388"/>
                  <a:pt x="1972" y="399"/>
                  <a:pt x="1972" y="410"/>
                </a:cubicBezTo>
                <a:cubicBezTo>
                  <a:pt x="1972" y="457"/>
                  <a:pt x="1993" y="563"/>
                  <a:pt x="2010" y="605"/>
                </a:cubicBezTo>
                <a:cubicBezTo>
                  <a:pt x="2012" y="611"/>
                  <a:pt x="2022" y="609"/>
                  <a:pt x="2029" y="611"/>
                </a:cubicBezTo>
                <a:cubicBezTo>
                  <a:pt x="2043" y="656"/>
                  <a:pt x="2033" y="659"/>
                  <a:pt x="2054" y="630"/>
                </a:cubicBezTo>
                <a:cubicBezTo>
                  <a:pt x="2062" y="594"/>
                  <a:pt x="2070" y="596"/>
                  <a:pt x="2104" y="605"/>
                </a:cubicBezTo>
                <a:cubicBezTo>
                  <a:pt x="2114" y="651"/>
                  <a:pt x="2098" y="709"/>
                  <a:pt x="2142" y="737"/>
                </a:cubicBezTo>
                <a:cubicBezTo>
                  <a:pt x="2172" y="781"/>
                  <a:pt x="2180" y="768"/>
                  <a:pt x="2243" y="762"/>
                </a:cubicBezTo>
                <a:cubicBezTo>
                  <a:pt x="2249" y="758"/>
                  <a:pt x="2257" y="756"/>
                  <a:pt x="2262" y="750"/>
                </a:cubicBezTo>
                <a:cubicBezTo>
                  <a:pt x="2270" y="737"/>
                  <a:pt x="2269" y="720"/>
                  <a:pt x="2274" y="706"/>
                </a:cubicBezTo>
                <a:cubicBezTo>
                  <a:pt x="2283" y="679"/>
                  <a:pt x="2297" y="657"/>
                  <a:pt x="2306" y="630"/>
                </a:cubicBezTo>
                <a:cubicBezTo>
                  <a:pt x="2313" y="541"/>
                  <a:pt x="2301" y="545"/>
                  <a:pt x="2382" y="536"/>
                </a:cubicBezTo>
                <a:cubicBezTo>
                  <a:pt x="2398" y="538"/>
                  <a:pt x="2416" y="535"/>
                  <a:pt x="2432" y="542"/>
                </a:cubicBezTo>
                <a:cubicBezTo>
                  <a:pt x="2451" y="549"/>
                  <a:pt x="2459" y="598"/>
                  <a:pt x="2463" y="617"/>
                </a:cubicBezTo>
                <a:cubicBezTo>
                  <a:pt x="2465" y="629"/>
                  <a:pt x="2466" y="642"/>
                  <a:pt x="2470" y="655"/>
                </a:cubicBezTo>
                <a:cubicBezTo>
                  <a:pt x="2473" y="667"/>
                  <a:pt x="2482" y="693"/>
                  <a:pt x="2482" y="693"/>
                </a:cubicBezTo>
                <a:cubicBezTo>
                  <a:pt x="2489" y="744"/>
                  <a:pt x="2513" y="870"/>
                  <a:pt x="2558" y="901"/>
                </a:cubicBezTo>
                <a:cubicBezTo>
                  <a:pt x="2578" y="931"/>
                  <a:pt x="2574" y="965"/>
                  <a:pt x="2596" y="995"/>
                </a:cubicBezTo>
                <a:cubicBezTo>
                  <a:pt x="2603" y="1027"/>
                  <a:pt x="2610" y="1029"/>
                  <a:pt x="2640" y="1040"/>
                </a:cubicBezTo>
                <a:cubicBezTo>
                  <a:pt x="2672" y="1027"/>
                  <a:pt x="2680" y="1013"/>
                  <a:pt x="2703" y="1046"/>
                </a:cubicBezTo>
                <a:cubicBezTo>
                  <a:pt x="2717" y="1092"/>
                  <a:pt x="2702" y="1087"/>
                  <a:pt x="2741" y="1077"/>
                </a:cubicBezTo>
                <a:cubicBezTo>
                  <a:pt x="2774" y="1054"/>
                  <a:pt x="2795" y="1051"/>
                  <a:pt x="2835" y="1058"/>
                </a:cubicBezTo>
                <a:cubicBezTo>
                  <a:pt x="2853" y="1118"/>
                  <a:pt x="2823" y="1115"/>
                  <a:pt x="2898" y="1096"/>
                </a:cubicBezTo>
                <a:cubicBezTo>
                  <a:pt x="2907" y="1066"/>
                  <a:pt x="2894" y="1046"/>
                  <a:pt x="2930" y="1058"/>
                </a:cubicBezTo>
                <a:cubicBezTo>
                  <a:pt x="2941" y="1106"/>
                  <a:pt x="2957" y="1098"/>
                  <a:pt x="2993" y="1121"/>
                </a:cubicBezTo>
                <a:cubicBezTo>
                  <a:pt x="2998" y="1138"/>
                  <a:pt x="3010" y="1170"/>
                  <a:pt x="3024" y="1184"/>
                </a:cubicBezTo>
                <a:cubicBezTo>
                  <a:pt x="3034" y="1194"/>
                  <a:pt x="3050" y="1195"/>
                  <a:pt x="3062" y="1203"/>
                </a:cubicBezTo>
                <a:cubicBezTo>
                  <a:pt x="3069" y="1214"/>
                  <a:pt x="3070" y="1231"/>
                  <a:pt x="3081" y="1241"/>
                </a:cubicBezTo>
                <a:cubicBezTo>
                  <a:pt x="3090" y="1250"/>
                  <a:pt x="3106" y="1249"/>
                  <a:pt x="3119" y="1254"/>
                </a:cubicBezTo>
                <a:cubicBezTo>
                  <a:pt x="3150" y="1287"/>
                  <a:pt x="3123" y="1302"/>
                  <a:pt x="3163" y="1317"/>
                </a:cubicBezTo>
                <a:cubicBezTo>
                  <a:pt x="3235" y="1303"/>
                  <a:pt x="3185" y="1307"/>
                  <a:pt x="3213" y="1266"/>
                </a:cubicBezTo>
                <a:cubicBezTo>
                  <a:pt x="3217" y="1259"/>
                  <a:pt x="3226" y="1258"/>
                  <a:pt x="3232" y="1254"/>
                </a:cubicBezTo>
                <a:cubicBezTo>
                  <a:pt x="3245" y="1242"/>
                  <a:pt x="3260" y="1231"/>
                  <a:pt x="3270" y="1216"/>
                </a:cubicBezTo>
                <a:cubicBezTo>
                  <a:pt x="3285" y="1191"/>
                  <a:pt x="3290" y="1143"/>
                  <a:pt x="3301" y="1128"/>
                </a:cubicBezTo>
                <a:cubicBezTo>
                  <a:pt x="3324" y="1093"/>
                  <a:pt x="3352" y="1062"/>
                  <a:pt x="3377" y="1027"/>
                </a:cubicBezTo>
                <a:cubicBezTo>
                  <a:pt x="3417" y="1029"/>
                  <a:pt x="3464" y="1016"/>
                  <a:pt x="3497" y="1040"/>
                </a:cubicBezTo>
                <a:cubicBezTo>
                  <a:pt x="3543" y="1073"/>
                  <a:pt x="3535" y="1084"/>
                  <a:pt x="3585" y="1103"/>
                </a:cubicBezTo>
                <a:cubicBezTo>
                  <a:pt x="3602" y="1156"/>
                  <a:pt x="3602" y="1147"/>
                  <a:pt x="3654" y="1166"/>
                </a:cubicBezTo>
                <a:cubicBezTo>
                  <a:pt x="3666" y="1178"/>
                  <a:pt x="3679" y="1190"/>
                  <a:pt x="3692" y="1203"/>
                </a:cubicBezTo>
                <a:cubicBezTo>
                  <a:pt x="3698" y="1209"/>
                  <a:pt x="3711" y="1222"/>
                  <a:pt x="3711" y="1222"/>
                </a:cubicBezTo>
                <a:cubicBezTo>
                  <a:pt x="3725" y="1252"/>
                  <a:pt x="3751" y="1272"/>
                  <a:pt x="3780" y="1292"/>
                </a:cubicBezTo>
                <a:cubicBezTo>
                  <a:pt x="3789" y="1305"/>
                  <a:pt x="3802" y="1315"/>
                  <a:pt x="3811" y="1329"/>
                </a:cubicBezTo>
                <a:cubicBezTo>
                  <a:pt x="3814" y="1334"/>
                  <a:pt x="3813" y="1343"/>
                  <a:pt x="3818" y="1348"/>
                </a:cubicBezTo>
                <a:cubicBezTo>
                  <a:pt x="3831" y="1361"/>
                  <a:pt x="3869" y="1369"/>
                  <a:pt x="3887" y="1373"/>
                </a:cubicBezTo>
                <a:cubicBezTo>
                  <a:pt x="3911" y="1409"/>
                  <a:pt x="3934" y="1400"/>
                  <a:pt x="3982" y="1405"/>
                </a:cubicBezTo>
                <a:cubicBezTo>
                  <a:pt x="4023" y="1435"/>
                  <a:pt x="4070" y="1437"/>
                  <a:pt x="4120" y="1443"/>
                </a:cubicBezTo>
                <a:cubicBezTo>
                  <a:pt x="4136" y="1448"/>
                  <a:pt x="4215" y="1467"/>
                  <a:pt x="4215" y="1481"/>
                </a:cubicBez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5159520" y="3862440"/>
            <a:ext cx="261720" cy="89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850160" y="3560760"/>
            <a:ext cx="1170000" cy="719280"/>
          </a:xfrm>
          <a:custGeom>
            <a:avLst/>
            <a:gdLst/>
            <a:ahLst/>
            <a:rect l="l" t="t" r="r" b="b"/>
            <a:pathLst>
              <a:path w="737" h="453">
                <a:moveTo>
                  <a:pt x="0" y="0"/>
                </a:moveTo>
                <a:cubicBezTo>
                  <a:pt x="39" y="31"/>
                  <a:pt x="78" y="62"/>
                  <a:pt x="107" y="82"/>
                </a:cubicBezTo>
                <a:cubicBezTo>
                  <a:pt x="136" y="102"/>
                  <a:pt x="155" y="102"/>
                  <a:pt x="176" y="120"/>
                </a:cubicBezTo>
                <a:cubicBezTo>
                  <a:pt x="197" y="138"/>
                  <a:pt x="223" y="170"/>
                  <a:pt x="233" y="189"/>
                </a:cubicBezTo>
                <a:cubicBezTo>
                  <a:pt x="243" y="208"/>
                  <a:pt x="227" y="220"/>
                  <a:pt x="239" y="233"/>
                </a:cubicBezTo>
                <a:cubicBezTo>
                  <a:pt x="251" y="246"/>
                  <a:pt x="293" y="255"/>
                  <a:pt x="309" y="271"/>
                </a:cubicBezTo>
                <a:cubicBezTo>
                  <a:pt x="325" y="287"/>
                  <a:pt x="320" y="316"/>
                  <a:pt x="334" y="327"/>
                </a:cubicBezTo>
                <a:cubicBezTo>
                  <a:pt x="348" y="338"/>
                  <a:pt x="376" y="334"/>
                  <a:pt x="391" y="340"/>
                </a:cubicBezTo>
                <a:cubicBezTo>
                  <a:pt x="406" y="346"/>
                  <a:pt x="404" y="359"/>
                  <a:pt x="422" y="365"/>
                </a:cubicBezTo>
                <a:cubicBezTo>
                  <a:pt x="440" y="371"/>
                  <a:pt x="474" y="372"/>
                  <a:pt x="498" y="378"/>
                </a:cubicBezTo>
                <a:cubicBezTo>
                  <a:pt x="522" y="384"/>
                  <a:pt x="541" y="395"/>
                  <a:pt x="567" y="403"/>
                </a:cubicBezTo>
                <a:cubicBezTo>
                  <a:pt x="593" y="411"/>
                  <a:pt x="627" y="420"/>
                  <a:pt x="655" y="428"/>
                </a:cubicBezTo>
                <a:cubicBezTo>
                  <a:pt x="683" y="436"/>
                  <a:pt x="723" y="449"/>
                  <a:pt x="737" y="453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884160" y="0"/>
            <a:ext cx="7454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Gross Kapital, décidément imprécateur d’apocalyps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080" y="5419800"/>
            <a:ext cx="9124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couvertes mondiales de pétrole récupérable depuis 1900 (valeurs annuelles et moyenne mobile sur 20 ans), en milliards de barils, et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extrapolation pour le futu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(y compris offshore profond, polaire, condensats, etc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ource : Shell/IHS Energy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412920" y="474840"/>
            <a:ext cx="692604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152280" y="668160"/>
            <a:ext cx="8650440" cy="41324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309600" y="1870200"/>
            <a:ext cx="8815320" cy="2520720"/>
          </a:xfrm>
          <a:custGeom>
            <a:avLst/>
            <a:gdLst/>
            <a:ahLst/>
            <a:rect l="l" t="t" r="r" b="b"/>
            <a:pathLst>
              <a:path w="5553" h="1588">
                <a:moveTo>
                  <a:pt x="0" y="1581"/>
                </a:moveTo>
                <a:cubicBezTo>
                  <a:pt x="26" y="1572"/>
                  <a:pt x="54" y="1569"/>
                  <a:pt x="82" y="1562"/>
                </a:cubicBezTo>
                <a:cubicBezTo>
                  <a:pt x="99" y="1537"/>
                  <a:pt x="140" y="1515"/>
                  <a:pt x="170" y="1506"/>
                </a:cubicBezTo>
                <a:cubicBezTo>
                  <a:pt x="190" y="1491"/>
                  <a:pt x="196" y="1475"/>
                  <a:pt x="221" y="1468"/>
                </a:cubicBezTo>
                <a:cubicBezTo>
                  <a:pt x="234" y="1458"/>
                  <a:pt x="245" y="1445"/>
                  <a:pt x="259" y="1436"/>
                </a:cubicBezTo>
                <a:cubicBezTo>
                  <a:pt x="281" y="1421"/>
                  <a:pt x="360" y="1408"/>
                  <a:pt x="385" y="1405"/>
                </a:cubicBezTo>
                <a:cubicBezTo>
                  <a:pt x="405" y="1398"/>
                  <a:pt x="420" y="1386"/>
                  <a:pt x="441" y="1380"/>
                </a:cubicBezTo>
                <a:cubicBezTo>
                  <a:pt x="488" y="1332"/>
                  <a:pt x="559" y="1323"/>
                  <a:pt x="624" y="1317"/>
                </a:cubicBezTo>
                <a:cubicBezTo>
                  <a:pt x="649" y="1299"/>
                  <a:pt x="676" y="1293"/>
                  <a:pt x="706" y="1285"/>
                </a:cubicBezTo>
                <a:cubicBezTo>
                  <a:pt x="740" y="1262"/>
                  <a:pt x="774" y="1243"/>
                  <a:pt x="813" y="1229"/>
                </a:cubicBezTo>
                <a:cubicBezTo>
                  <a:pt x="831" y="1222"/>
                  <a:pt x="870" y="1210"/>
                  <a:pt x="870" y="1210"/>
                </a:cubicBezTo>
                <a:cubicBezTo>
                  <a:pt x="932" y="1144"/>
                  <a:pt x="846" y="1232"/>
                  <a:pt x="907" y="1178"/>
                </a:cubicBezTo>
                <a:cubicBezTo>
                  <a:pt x="920" y="1166"/>
                  <a:pt x="945" y="1140"/>
                  <a:pt x="945" y="1140"/>
                </a:cubicBezTo>
                <a:cubicBezTo>
                  <a:pt x="959" y="1093"/>
                  <a:pt x="936" y="1148"/>
                  <a:pt x="977" y="1115"/>
                </a:cubicBezTo>
                <a:cubicBezTo>
                  <a:pt x="1027" y="1073"/>
                  <a:pt x="947" y="1099"/>
                  <a:pt x="1014" y="1084"/>
                </a:cubicBezTo>
                <a:cubicBezTo>
                  <a:pt x="1026" y="1075"/>
                  <a:pt x="1037" y="1062"/>
                  <a:pt x="1052" y="1058"/>
                </a:cubicBezTo>
                <a:cubicBezTo>
                  <a:pt x="1064" y="1054"/>
                  <a:pt x="1090" y="1046"/>
                  <a:pt x="1090" y="1046"/>
                </a:cubicBezTo>
                <a:cubicBezTo>
                  <a:pt x="1094" y="1039"/>
                  <a:pt x="1096" y="1031"/>
                  <a:pt x="1103" y="1027"/>
                </a:cubicBezTo>
                <a:cubicBezTo>
                  <a:pt x="1108" y="1022"/>
                  <a:pt x="1117" y="1026"/>
                  <a:pt x="1122" y="1021"/>
                </a:cubicBezTo>
                <a:cubicBezTo>
                  <a:pt x="1127" y="1013"/>
                  <a:pt x="1124" y="1003"/>
                  <a:pt x="1128" y="995"/>
                </a:cubicBezTo>
                <a:cubicBezTo>
                  <a:pt x="1135" y="976"/>
                  <a:pt x="1143" y="974"/>
                  <a:pt x="1159" y="964"/>
                </a:cubicBezTo>
                <a:cubicBezTo>
                  <a:pt x="1176" y="939"/>
                  <a:pt x="1186" y="933"/>
                  <a:pt x="1216" y="926"/>
                </a:cubicBezTo>
                <a:cubicBezTo>
                  <a:pt x="1244" y="884"/>
                  <a:pt x="1226" y="858"/>
                  <a:pt x="1279" y="844"/>
                </a:cubicBezTo>
                <a:cubicBezTo>
                  <a:pt x="1287" y="818"/>
                  <a:pt x="1316" y="769"/>
                  <a:pt x="1342" y="762"/>
                </a:cubicBezTo>
                <a:cubicBezTo>
                  <a:pt x="1354" y="758"/>
                  <a:pt x="1380" y="750"/>
                  <a:pt x="1380" y="750"/>
                </a:cubicBezTo>
                <a:cubicBezTo>
                  <a:pt x="1403" y="726"/>
                  <a:pt x="1410" y="697"/>
                  <a:pt x="1443" y="687"/>
                </a:cubicBezTo>
                <a:cubicBezTo>
                  <a:pt x="1478" y="663"/>
                  <a:pt x="1524" y="650"/>
                  <a:pt x="1556" y="624"/>
                </a:cubicBezTo>
                <a:cubicBezTo>
                  <a:pt x="1574" y="608"/>
                  <a:pt x="1576" y="570"/>
                  <a:pt x="1600" y="567"/>
                </a:cubicBezTo>
                <a:cubicBezTo>
                  <a:pt x="1664" y="558"/>
                  <a:pt x="1629" y="562"/>
                  <a:pt x="1707" y="555"/>
                </a:cubicBezTo>
                <a:cubicBezTo>
                  <a:pt x="1755" y="544"/>
                  <a:pt x="1762" y="562"/>
                  <a:pt x="1808" y="573"/>
                </a:cubicBezTo>
                <a:cubicBezTo>
                  <a:pt x="1812" y="579"/>
                  <a:pt x="1817" y="584"/>
                  <a:pt x="1821" y="592"/>
                </a:cubicBezTo>
                <a:cubicBezTo>
                  <a:pt x="1826" y="604"/>
                  <a:pt x="1820" y="626"/>
                  <a:pt x="1833" y="630"/>
                </a:cubicBezTo>
                <a:cubicBezTo>
                  <a:pt x="1858" y="637"/>
                  <a:pt x="1883" y="641"/>
                  <a:pt x="1909" y="649"/>
                </a:cubicBezTo>
                <a:cubicBezTo>
                  <a:pt x="1979" y="640"/>
                  <a:pt x="2046" y="626"/>
                  <a:pt x="2117" y="618"/>
                </a:cubicBezTo>
                <a:cubicBezTo>
                  <a:pt x="2203" y="555"/>
                  <a:pt x="2213" y="552"/>
                  <a:pt x="2325" y="542"/>
                </a:cubicBezTo>
                <a:cubicBezTo>
                  <a:pt x="2345" y="535"/>
                  <a:pt x="2360" y="516"/>
                  <a:pt x="2381" y="510"/>
                </a:cubicBezTo>
                <a:cubicBezTo>
                  <a:pt x="2429" y="494"/>
                  <a:pt x="2447" y="490"/>
                  <a:pt x="2501" y="485"/>
                </a:cubicBezTo>
                <a:cubicBezTo>
                  <a:pt x="2574" y="436"/>
                  <a:pt x="2586" y="424"/>
                  <a:pt x="2678" y="416"/>
                </a:cubicBezTo>
                <a:cubicBezTo>
                  <a:pt x="2712" y="404"/>
                  <a:pt x="2730" y="385"/>
                  <a:pt x="2759" y="366"/>
                </a:cubicBezTo>
                <a:cubicBezTo>
                  <a:pt x="2795" y="341"/>
                  <a:pt x="2897" y="325"/>
                  <a:pt x="2942" y="315"/>
                </a:cubicBezTo>
                <a:cubicBezTo>
                  <a:pt x="2988" y="285"/>
                  <a:pt x="3048" y="277"/>
                  <a:pt x="3100" y="258"/>
                </a:cubicBezTo>
                <a:cubicBezTo>
                  <a:pt x="3111" y="246"/>
                  <a:pt x="3118" y="231"/>
                  <a:pt x="3131" y="221"/>
                </a:cubicBezTo>
                <a:cubicBezTo>
                  <a:pt x="3151" y="204"/>
                  <a:pt x="3199" y="197"/>
                  <a:pt x="3226" y="189"/>
                </a:cubicBezTo>
                <a:cubicBezTo>
                  <a:pt x="3247" y="174"/>
                  <a:pt x="3270" y="165"/>
                  <a:pt x="3295" y="158"/>
                </a:cubicBezTo>
                <a:cubicBezTo>
                  <a:pt x="3319" y="118"/>
                  <a:pt x="3291" y="154"/>
                  <a:pt x="3326" y="132"/>
                </a:cubicBezTo>
                <a:cubicBezTo>
                  <a:pt x="3348" y="117"/>
                  <a:pt x="3339" y="111"/>
                  <a:pt x="3364" y="101"/>
                </a:cubicBezTo>
                <a:cubicBezTo>
                  <a:pt x="3389" y="90"/>
                  <a:pt x="3419" y="90"/>
                  <a:pt x="3446" y="82"/>
                </a:cubicBezTo>
                <a:cubicBezTo>
                  <a:pt x="3497" y="46"/>
                  <a:pt x="3417" y="97"/>
                  <a:pt x="3515" y="63"/>
                </a:cubicBezTo>
                <a:cubicBezTo>
                  <a:pt x="3529" y="57"/>
                  <a:pt x="3553" y="38"/>
                  <a:pt x="3553" y="38"/>
                </a:cubicBezTo>
                <a:cubicBezTo>
                  <a:pt x="3570" y="11"/>
                  <a:pt x="3599" y="9"/>
                  <a:pt x="3629" y="0"/>
                </a:cubicBezTo>
                <a:cubicBezTo>
                  <a:pt x="3751" y="25"/>
                  <a:pt x="3630" y="6"/>
                  <a:pt x="3805" y="6"/>
                </a:cubicBezTo>
                <a:cubicBezTo>
                  <a:pt x="3825" y="6"/>
                  <a:pt x="3860" y="21"/>
                  <a:pt x="3881" y="25"/>
                </a:cubicBezTo>
                <a:cubicBezTo>
                  <a:pt x="3904" y="41"/>
                  <a:pt x="3921" y="44"/>
                  <a:pt x="3950" y="51"/>
                </a:cubicBezTo>
                <a:cubicBezTo>
                  <a:pt x="4028" y="88"/>
                  <a:pt x="4048" y="94"/>
                  <a:pt x="4145" y="101"/>
                </a:cubicBezTo>
                <a:cubicBezTo>
                  <a:pt x="4200" y="130"/>
                  <a:pt x="4196" y="137"/>
                  <a:pt x="4259" y="145"/>
                </a:cubicBezTo>
                <a:cubicBezTo>
                  <a:pt x="4264" y="146"/>
                  <a:pt x="4304" y="155"/>
                  <a:pt x="4309" y="158"/>
                </a:cubicBezTo>
                <a:cubicBezTo>
                  <a:pt x="4322" y="164"/>
                  <a:pt x="4332" y="178"/>
                  <a:pt x="4347" y="183"/>
                </a:cubicBezTo>
                <a:cubicBezTo>
                  <a:pt x="4359" y="187"/>
                  <a:pt x="4372" y="191"/>
                  <a:pt x="4385" y="195"/>
                </a:cubicBezTo>
                <a:cubicBezTo>
                  <a:pt x="4393" y="197"/>
                  <a:pt x="4401" y="199"/>
                  <a:pt x="4410" y="202"/>
                </a:cubicBezTo>
                <a:cubicBezTo>
                  <a:pt x="4422" y="205"/>
                  <a:pt x="4435" y="209"/>
                  <a:pt x="4448" y="214"/>
                </a:cubicBezTo>
                <a:cubicBezTo>
                  <a:pt x="4460" y="218"/>
                  <a:pt x="4485" y="227"/>
                  <a:pt x="4485" y="227"/>
                </a:cubicBezTo>
                <a:cubicBezTo>
                  <a:pt x="4528" y="255"/>
                  <a:pt x="4508" y="247"/>
                  <a:pt x="4542" y="258"/>
                </a:cubicBezTo>
                <a:cubicBezTo>
                  <a:pt x="4566" y="293"/>
                  <a:pt x="4613" y="298"/>
                  <a:pt x="4649" y="321"/>
                </a:cubicBezTo>
                <a:cubicBezTo>
                  <a:pt x="4658" y="347"/>
                  <a:pt x="4674" y="350"/>
                  <a:pt x="4700" y="359"/>
                </a:cubicBezTo>
                <a:cubicBezTo>
                  <a:pt x="4712" y="363"/>
                  <a:pt x="4737" y="372"/>
                  <a:pt x="4737" y="372"/>
                </a:cubicBezTo>
                <a:cubicBezTo>
                  <a:pt x="4751" y="393"/>
                  <a:pt x="4763" y="401"/>
                  <a:pt x="4788" y="410"/>
                </a:cubicBezTo>
                <a:cubicBezTo>
                  <a:pt x="4800" y="414"/>
                  <a:pt x="4826" y="422"/>
                  <a:pt x="4826" y="422"/>
                </a:cubicBezTo>
                <a:cubicBezTo>
                  <a:pt x="4830" y="430"/>
                  <a:pt x="4831" y="440"/>
                  <a:pt x="4838" y="447"/>
                </a:cubicBezTo>
                <a:cubicBezTo>
                  <a:pt x="4863" y="473"/>
                  <a:pt x="4951" y="503"/>
                  <a:pt x="4989" y="517"/>
                </a:cubicBezTo>
                <a:cubicBezTo>
                  <a:pt x="5024" y="552"/>
                  <a:pt x="5057" y="563"/>
                  <a:pt x="5103" y="580"/>
                </a:cubicBezTo>
                <a:cubicBezTo>
                  <a:pt x="5110" y="591"/>
                  <a:pt x="5112" y="607"/>
                  <a:pt x="5122" y="618"/>
                </a:cubicBezTo>
                <a:cubicBezTo>
                  <a:pt x="5135" y="633"/>
                  <a:pt x="5167" y="638"/>
                  <a:pt x="5185" y="643"/>
                </a:cubicBezTo>
                <a:cubicBezTo>
                  <a:pt x="5213" y="661"/>
                  <a:pt x="5214" y="687"/>
                  <a:pt x="5241" y="706"/>
                </a:cubicBezTo>
                <a:cubicBezTo>
                  <a:pt x="5264" y="739"/>
                  <a:pt x="5309" y="754"/>
                  <a:pt x="5348" y="769"/>
                </a:cubicBezTo>
                <a:cubicBezTo>
                  <a:pt x="5384" y="804"/>
                  <a:pt x="5382" y="805"/>
                  <a:pt x="5424" y="819"/>
                </a:cubicBezTo>
                <a:cubicBezTo>
                  <a:pt x="5452" y="859"/>
                  <a:pt x="5494" y="859"/>
                  <a:pt x="5537" y="876"/>
                </a:cubicBezTo>
                <a:cubicBezTo>
                  <a:pt x="5500" y="990"/>
                  <a:pt x="5553" y="1121"/>
                  <a:pt x="5512" y="1235"/>
                </a:cubicBezTo>
                <a:cubicBezTo>
                  <a:pt x="5521" y="1352"/>
                  <a:pt x="5525" y="1469"/>
                  <a:pt x="5525" y="1588"/>
                </a:cubicBezTo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55720" y="0"/>
            <a:ext cx="6656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h, la fascinante beauté des intégrales borné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2520" y="5302080"/>
            <a:ext cx="8839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édiction du maximum de la production pétrolière mondiale selon les sources. La prolongation tendancielle de la croissance finira par s’ar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êter : c’est une simple question de mathématiques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ource : Total, 2004 et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724280" y="2268360"/>
            <a:ext cx="1904760" cy="368280"/>
            <a:chOff x="4724280" y="2268360"/>
            <a:chExt cx="1904760" cy="368280"/>
          </a:xfrm>
        </p:grpSpPr>
        <p:sp>
          <p:nvSpPr>
            <p:cNvPr id="439" name=""/>
            <p:cNvSpPr/>
            <p:nvPr/>
          </p:nvSpPr>
          <p:spPr>
            <a:xfrm>
              <a:off x="4724280" y="2573280"/>
              <a:ext cx="19047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58880" y="226836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mo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4724280" y="2801880"/>
            <a:ext cx="2971800" cy="368280"/>
            <a:chOff x="4724280" y="2801880"/>
            <a:chExt cx="2971800" cy="368280"/>
          </a:xfrm>
        </p:grpSpPr>
        <p:sp>
          <p:nvSpPr>
            <p:cNvPr id="442" name=""/>
            <p:cNvSpPr/>
            <p:nvPr/>
          </p:nvSpPr>
          <p:spPr>
            <a:xfrm>
              <a:off x="4724280" y="3106800"/>
              <a:ext cx="29718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59240" y="280188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Les jeu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724280" y="3487680"/>
            <a:ext cx="4267440" cy="368280"/>
            <a:chOff x="4724280" y="3487680"/>
            <a:chExt cx="4267440" cy="368280"/>
          </a:xfrm>
        </p:grpSpPr>
        <p:sp>
          <p:nvSpPr>
            <p:cNvPr id="445" name=""/>
            <p:cNvSpPr/>
            <p:nvPr/>
          </p:nvSpPr>
          <p:spPr>
            <a:xfrm>
              <a:off x="4724280" y="3792600"/>
              <a:ext cx="426744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026320" y="3487680"/>
              <a:ext cx="353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L’école maternelle de l’an 200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4710240" y="1870200"/>
            <a:ext cx="3809880" cy="1069920"/>
          </a:xfrm>
          <a:custGeom>
            <a:avLst/>
            <a:gdLst/>
            <a:ahLst/>
            <a:rect l="l" t="t" r="r" b="b"/>
            <a:pathLst>
              <a:path w="2400" h="674">
                <a:moveTo>
                  <a:pt x="0" y="372"/>
                </a:moveTo>
                <a:cubicBezTo>
                  <a:pt x="231" y="267"/>
                  <a:pt x="462" y="162"/>
                  <a:pt x="611" y="101"/>
                </a:cubicBezTo>
                <a:cubicBezTo>
                  <a:pt x="760" y="40"/>
                  <a:pt x="789" y="12"/>
                  <a:pt x="895" y="6"/>
                </a:cubicBezTo>
                <a:cubicBezTo>
                  <a:pt x="1001" y="0"/>
                  <a:pt x="1108" y="23"/>
                  <a:pt x="1247" y="63"/>
                </a:cubicBezTo>
                <a:cubicBezTo>
                  <a:pt x="1386" y="103"/>
                  <a:pt x="1574" y="170"/>
                  <a:pt x="1732" y="246"/>
                </a:cubicBezTo>
                <a:cubicBezTo>
                  <a:pt x="1890" y="322"/>
                  <a:pt x="2087" y="446"/>
                  <a:pt x="2198" y="517"/>
                </a:cubicBezTo>
                <a:cubicBezTo>
                  <a:pt x="2309" y="588"/>
                  <a:pt x="2354" y="631"/>
                  <a:pt x="2400" y="67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19720" y="1430280"/>
            <a:ext cx="1447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tal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0440" y="4910040"/>
            <a:ext cx="844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umulée &lt; découvertes cumulées de pétrole récupérable = réserves ul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5019840" y="4032360"/>
            <a:ext cx="261720" cy="89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527040" y="3475080"/>
            <a:ext cx="73080" cy="201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465200" y="3078000"/>
            <a:ext cx="3719520" cy="2197440"/>
          </a:xfrm>
          <a:custGeom>
            <a:avLst/>
            <a:gdLst/>
            <a:ahLst/>
            <a:rect l="l" t="t" r="r" b="b"/>
            <a:pathLst>
              <a:path w="2343" h="1384">
                <a:moveTo>
                  <a:pt x="0" y="1202"/>
                </a:moveTo>
                <a:cubicBezTo>
                  <a:pt x="30" y="1164"/>
                  <a:pt x="128" y="1180"/>
                  <a:pt x="181" y="1157"/>
                </a:cubicBezTo>
                <a:cubicBezTo>
                  <a:pt x="234" y="1134"/>
                  <a:pt x="286" y="1075"/>
                  <a:pt x="317" y="1066"/>
                </a:cubicBezTo>
                <a:cubicBezTo>
                  <a:pt x="348" y="1057"/>
                  <a:pt x="351" y="1103"/>
                  <a:pt x="366" y="1103"/>
                </a:cubicBezTo>
                <a:cubicBezTo>
                  <a:pt x="381" y="1103"/>
                  <a:pt x="326" y="1140"/>
                  <a:pt x="408" y="1066"/>
                </a:cubicBezTo>
                <a:cubicBezTo>
                  <a:pt x="490" y="992"/>
                  <a:pt x="778" y="741"/>
                  <a:pt x="861" y="658"/>
                </a:cubicBezTo>
                <a:lnTo>
                  <a:pt x="907" y="567"/>
                </a:lnTo>
                <a:cubicBezTo>
                  <a:pt x="930" y="537"/>
                  <a:pt x="974" y="477"/>
                  <a:pt x="997" y="477"/>
                </a:cubicBezTo>
                <a:cubicBezTo>
                  <a:pt x="1020" y="477"/>
                  <a:pt x="1020" y="575"/>
                  <a:pt x="1043" y="567"/>
                </a:cubicBezTo>
                <a:cubicBezTo>
                  <a:pt x="1066" y="559"/>
                  <a:pt x="1106" y="458"/>
                  <a:pt x="1134" y="431"/>
                </a:cubicBezTo>
                <a:cubicBezTo>
                  <a:pt x="1162" y="404"/>
                  <a:pt x="1189" y="403"/>
                  <a:pt x="1214" y="407"/>
                </a:cubicBezTo>
                <a:cubicBezTo>
                  <a:pt x="1239" y="411"/>
                  <a:pt x="1270" y="440"/>
                  <a:pt x="1286" y="455"/>
                </a:cubicBezTo>
                <a:cubicBezTo>
                  <a:pt x="1302" y="470"/>
                  <a:pt x="1290" y="484"/>
                  <a:pt x="1310" y="495"/>
                </a:cubicBezTo>
                <a:cubicBezTo>
                  <a:pt x="1330" y="506"/>
                  <a:pt x="1383" y="523"/>
                  <a:pt x="1406" y="522"/>
                </a:cubicBezTo>
                <a:cubicBezTo>
                  <a:pt x="1429" y="521"/>
                  <a:pt x="1423" y="510"/>
                  <a:pt x="1446" y="487"/>
                </a:cubicBezTo>
                <a:cubicBezTo>
                  <a:pt x="1469" y="464"/>
                  <a:pt x="1496" y="418"/>
                  <a:pt x="1542" y="386"/>
                </a:cubicBezTo>
                <a:cubicBezTo>
                  <a:pt x="1588" y="354"/>
                  <a:pt x="1683" y="305"/>
                  <a:pt x="1723" y="295"/>
                </a:cubicBezTo>
                <a:cubicBezTo>
                  <a:pt x="1763" y="285"/>
                  <a:pt x="1751" y="336"/>
                  <a:pt x="1782" y="327"/>
                </a:cubicBezTo>
                <a:cubicBezTo>
                  <a:pt x="1813" y="318"/>
                  <a:pt x="1873" y="263"/>
                  <a:pt x="1910" y="239"/>
                </a:cubicBezTo>
                <a:cubicBezTo>
                  <a:pt x="1947" y="215"/>
                  <a:pt x="1982" y="192"/>
                  <a:pt x="2006" y="183"/>
                </a:cubicBezTo>
                <a:cubicBezTo>
                  <a:pt x="2030" y="174"/>
                  <a:pt x="2037" y="187"/>
                  <a:pt x="2054" y="183"/>
                </a:cubicBezTo>
                <a:cubicBezTo>
                  <a:pt x="2071" y="179"/>
                  <a:pt x="2080" y="176"/>
                  <a:pt x="2110" y="159"/>
                </a:cubicBezTo>
                <a:cubicBezTo>
                  <a:pt x="2140" y="142"/>
                  <a:pt x="2194" y="109"/>
                  <a:pt x="2233" y="82"/>
                </a:cubicBezTo>
                <a:lnTo>
                  <a:pt x="2343" y="0"/>
                </a:lnTo>
                <a:lnTo>
                  <a:pt x="2325" y="1363"/>
                </a:lnTo>
                <a:lnTo>
                  <a:pt x="0" y="1384"/>
                </a:lnTo>
                <a:lnTo>
                  <a:pt x="0" y="1202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16120" y="1530360"/>
            <a:ext cx="76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32120" y="4456080"/>
            <a:ext cx="203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ff"/>
                </a:solidFill>
                <a:latin typeface="Arial"/>
              </a:rPr>
              <a:t>1 070 Gb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ff"/>
                </a:solidFill>
                <a:latin typeface="Arial"/>
              </a:rPr>
              <a:t>Produits fin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2840" y="2462040"/>
            <a:ext cx="517320" cy="1298880"/>
          </a:xfrm>
          <a:custGeom>
            <a:avLst/>
            <a:gdLst>
              <a:gd name="textAreaLeft" fmla="*/ 25200 w 517320"/>
              <a:gd name="textAreaRight" fmla="*/ 492120 w 517320"/>
              <a:gd name="textAreaTop" fmla="*/ 25200 h 1298880"/>
              <a:gd name="textAreaBottom" fmla="*/ 1273680 h 1298880"/>
            </a:gdLst>
            <a:ahLst/>
            <a:rect l="textAreaLeft" t="textAreaTop" r="textAreaRight" b="textAreaBottom"/>
            <a:pathLst>
              <a:path w="21600" h="54210">
                <a:moveTo>
                  <a:pt x="3600" y="0"/>
                </a:moveTo>
                <a:arcTo wR="3600" hR="3600" stAng="16200000" swAng="-5400000"/>
                <a:lnTo>
                  <a:pt x="0" y="50610"/>
                </a:lnTo>
                <a:arcTo wR="3600" hR="3600" stAng="10800000" swAng="-5400000"/>
                <a:lnTo>
                  <a:pt x="18000" y="54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63600" y="2513160"/>
            <a:ext cx="374760" cy="338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Éventu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65040" y="2928960"/>
            <a:ext cx="373320" cy="3366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76200" y="3370320"/>
            <a:ext cx="372960" cy="338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b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84120" y="5489640"/>
            <a:ext cx="43200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281560" y="3114720"/>
            <a:ext cx="129708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49920" y="3537000"/>
            <a:ext cx="793800" cy="792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79320" y="31845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76600" y="43624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- 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-11160" y="19540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b/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721560" y="2898720"/>
            <a:ext cx="793800" cy="64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452720" y="35020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217560" y="3240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0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13520" y="2949480"/>
            <a:ext cx="2890800" cy="1193760"/>
          </a:xfrm>
          <a:custGeom>
            <a:avLst/>
            <a:gdLst/>
            <a:ahLst/>
            <a:rect l="l" t="t" r="r" b="b"/>
            <a:pathLst>
              <a:path w="1821" h="752">
                <a:moveTo>
                  <a:pt x="0" y="90"/>
                </a:moveTo>
                <a:cubicBezTo>
                  <a:pt x="21" y="79"/>
                  <a:pt x="82" y="41"/>
                  <a:pt x="128" y="26"/>
                </a:cubicBezTo>
                <a:cubicBezTo>
                  <a:pt x="174" y="11"/>
                  <a:pt x="242" y="0"/>
                  <a:pt x="277" y="0"/>
                </a:cubicBezTo>
                <a:lnTo>
                  <a:pt x="341" y="24"/>
                </a:lnTo>
                <a:lnTo>
                  <a:pt x="485" y="56"/>
                </a:lnTo>
                <a:lnTo>
                  <a:pt x="597" y="32"/>
                </a:lnTo>
                <a:lnTo>
                  <a:pt x="685" y="56"/>
                </a:lnTo>
                <a:cubicBezTo>
                  <a:pt x="714" y="52"/>
                  <a:pt x="742" y="9"/>
                  <a:pt x="773" y="8"/>
                </a:cubicBezTo>
                <a:cubicBezTo>
                  <a:pt x="804" y="7"/>
                  <a:pt x="834" y="36"/>
                  <a:pt x="869" y="48"/>
                </a:cubicBezTo>
                <a:cubicBezTo>
                  <a:pt x="904" y="60"/>
                  <a:pt x="902" y="25"/>
                  <a:pt x="981" y="80"/>
                </a:cubicBezTo>
                <a:cubicBezTo>
                  <a:pt x="1060" y="135"/>
                  <a:pt x="1258" y="307"/>
                  <a:pt x="1341" y="376"/>
                </a:cubicBezTo>
                <a:cubicBezTo>
                  <a:pt x="1424" y="445"/>
                  <a:pt x="1432" y="457"/>
                  <a:pt x="1477" y="496"/>
                </a:cubicBezTo>
                <a:cubicBezTo>
                  <a:pt x="1522" y="535"/>
                  <a:pt x="1556" y="565"/>
                  <a:pt x="1613" y="608"/>
                </a:cubicBezTo>
                <a:cubicBezTo>
                  <a:pt x="1670" y="651"/>
                  <a:pt x="1778" y="722"/>
                  <a:pt x="1821" y="75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57720" y="2989440"/>
            <a:ext cx="2895840" cy="1611000"/>
          </a:xfrm>
          <a:custGeom>
            <a:avLst/>
            <a:gdLst/>
            <a:ahLst/>
            <a:rect l="l" t="t" r="r" b="b"/>
            <a:pathLst>
              <a:path w="1824" h="1015">
                <a:moveTo>
                  <a:pt x="0" y="79"/>
                </a:moveTo>
                <a:cubicBezTo>
                  <a:pt x="35" y="66"/>
                  <a:pt x="138" y="0"/>
                  <a:pt x="209" y="1"/>
                </a:cubicBezTo>
                <a:cubicBezTo>
                  <a:pt x="280" y="2"/>
                  <a:pt x="365" y="63"/>
                  <a:pt x="429" y="83"/>
                </a:cubicBezTo>
                <a:cubicBezTo>
                  <a:pt x="493" y="103"/>
                  <a:pt x="537" y="99"/>
                  <a:pt x="593" y="120"/>
                </a:cubicBezTo>
                <a:cubicBezTo>
                  <a:pt x="649" y="141"/>
                  <a:pt x="720" y="201"/>
                  <a:pt x="768" y="207"/>
                </a:cubicBezTo>
                <a:cubicBezTo>
                  <a:pt x="816" y="213"/>
                  <a:pt x="832" y="144"/>
                  <a:pt x="880" y="159"/>
                </a:cubicBezTo>
                <a:cubicBezTo>
                  <a:pt x="928" y="174"/>
                  <a:pt x="957" y="198"/>
                  <a:pt x="1056" y="295"/>
                </a:cubicBezTo>
                <a:cubicBezTo>
                  <a:pt x="1155" y="392"/>
                  <a:pt x="1376" y="643"/>
                  <a:pt x="1472" y="743"/>
                </a:cubicBezTo>
                <a:cubicBezTo>
                  <a:pt x="1568" y="843"/>
                  <a:pt x="1573" y="850"/>
                  <a:pt x="1632" y="895"/>
                </a:cubicBezTo>
                <a:cubicBezTo>
                  <a:pt x="1691" y="940"/>
                  <a:pt x="1784" y="990"/>
                  <a:pt x="1824" y="1015"/>
                </a:cubicBezTo>
              </a:path>
            </a:pathLst>
          </a:custGeom>
          <a:noFill/>
          <a:ln w="381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13560" y="2678040"/>
            <a:ext cx="2403360" cy="1224000"/>
          </a:xfrm>
          <a:custGeom>
            <a:avLst/>
            <a:gdLst/>
            <a:ahLst/>
            <a:rect l="l" t="t" r="r" b="b"/>
            <a:pathLst>
              <a:path w="1514" h="771">
                <a:moveTo>
                  <a:pt x="0" y="139"/>
                </a:moveTo>
                <a:cubicBezTo>
                  <a:pt x="43" y="119"/>
                  <a:pt x="185" y="40"/>
                  <a:pt x="261" y="20"/>
                </a:cubicBezTo>
                <a:cubicBezTo>
                  <a:pt x="337" y="0"/>
                  <a:pt x="411" y="18"/>
                  <a:pt x="458" y="19"/>
                </a:cubicBezTo>
                <a:cubicBezTo>
                  <a:pt x="505" y="20"/>
                  <a:pt x="518" y="22"/>
                  <a:pt x="546" y="27"/>
                </a:cubicBezTo>
                <a:lnTo>
                  <a:pt x="626" y="51"/>
                </a:lnTo>
                <a:cubicBezTo>
                  <a:pt x="716" y="130"/>
                  <a:pt x="940" y="382"/>
                  <a:pt x="1088" y="502"/>
                </a:cubicBezTo>
                <a:cubicBezTo>
                  <a:pt x="1236" y="622"/>
                  <a:pt x="1425" y="715"/>
                  <a:pt x="1514" y="771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65200" y="2178000"/>
            <a:ext cx="0" cy="309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65200" y="2178000"/>
            <a:ext cx="67676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465200" y="2106720"/>
            <a:ext cx="58323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77800" y="2124000"/>
            <a:ext cx="6624720" cy="3151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58920" y="2106720"/>
            <a:ext cx="0" cy="3313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68600" y="2106720"/>
            <a:ext cx="0" cy="3313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27400" y="2119320"/>
            <a:ext cx="0" cy="3313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81520" y="2119320"/>
            <a:ext cx="0" cy="3313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54720" y="2106720"/>
            <a:ext cx="0" cy="3313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73920" y="2106720"/>
            <a:ext cx="0" cy="3313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80240" y="2106720"/>
            <a:ext cx="0" cy="3313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40480" y="2111400"/>
            <a:ext cx="0" cy="3313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06560" y="2119320"/>
            <a:ext cx="0" cy="3313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92120" y="2643120"/>
            <a:ext cx="6750000" cy="14400"/>
          </a:xfrm>
          <a:custGeom>
            <a:avLst/>
            <a:gdLst/>
            <a:ahLst/>
            <a:rect l="l" t="t" r="r" b="b"/>
            <a:pathLst>
              <a:path w="4252" h="9">
                <a:moveTo>
                  <a:pt x="0" y="0"/>
                </a:moveTo>
                <a:lnTo>
                  <a:pt x="4252" y="9"/>
                </a:lnTo>
              </a:path>
            </a:pathLst>
          </a:custGeom>
          <a:noFill/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92120" y="3171960"/>
            <a:ext cx="6750000" cy="14040"/>
          </a:xfrm>
          <a:custGeom>
            <a:avLst/>
            <a:gdLst/>
            <a:ahLst/>
            <a:rect l="l" t="t" r="r" b="b"/>
            <a:pathLst>
              <a:path w="4252" h="9">
                <a:moveTo>
                  <a:pt x="0" y="0"/>
                </a:moveTo>
                <a:lnTo>
                  <a:pt x="4252" y="9"/>
                </a:lnTo>
              </a:path>
            </a:pathLst>
          </a:custGeom>
          <a:noFill/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30280" y="3701880"/>
            <a:ext cx="6750000" cy="14400"/>
          </a:xfrm>
          <a:custGeom>
            <a:avLst/>
            <a:gdLst/>
            <a:ahLst/>
            <a:rect l="l" t="t" r="r" b="b"/>
            <a:pathLst>
              <a:path w="4252" h="9">
                <a:moveTo>
                  <a:pt x="0" y="0"/>
                </a:moveTo>
                <a:lnTo>
                  <a:pt x="4252" y="9"/>
                </a:lnTo>
              </a:path>
            </a:pathLst>
          </a:custGeom>
          <a:noFill/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00040" y="4227480"/>
            <a:ext cx="6750360" cy="14400"/>
          </a:xfrm>
          <a:custGeom>
            <a:avLst/>
            <a:gdLst/>
            <a:ahLst/>
            <a:rect l="l" t="t" r="r" b="b"/>
            <a:pathLst>
              <a:path w="4252" h="9">
                <a:moveTo>
                  <a:pt x="0" y="0"/>
                </a:moveTo>
                <a:lnTo>
                  <a:pt x="4252" y="9"/>
                </a:lnTo>
              </a:path>
            </a:pathLst>
          </a:custGeom>
          <a:noFill/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392120" y="4722840"/>
            <a:ext cx="6750000" cy="14400"/>
          </a:xfrm>
          <a:custGeom>
            <a:avLst/>
            <a:gdLst/>
            <a:ahLst/>
            <a:rect l="l" t="t" r="r" b="b"/>
            <a:pathLst>
              <a:path w="4252" h="9">
                <a:moveTo>
                  <a:pt x="0" y="0"/>
                </a:moveTo>
                <a:lnTo>
                  <a:pt x="4252" y="9"/>
                </a:lnTo>
              </a:path>
            </a:pathLst>
          </a:custGeom>
          <a:noFill/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40680" y="19620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39680" y="2994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027080" y="3524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39680" y="4052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39680" y="4540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71440" y="508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43560" y="2478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154880" y="5329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842120" y="534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488320" y="5351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62960" y="534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2680" y="534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55360" y="534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128200" y="534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01400" y="534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458760" y="5345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119000" y="53341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771680" y="53341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294600" y="2637000"/>
            <a:ext cx="1795320" cy="925200"/>
          </a:xfrm>
          <a:custGeom>
            <a:avLst/>
            <a:gdLst/>
            <a:ahLst/>
            <a:rect l="l" t="t" r="r" b="b"/>
            <a:pathLst>
              <a:path w="1131" h="583">
                <a:moveTo>
                  <a:pt x="0" y="26"/>
                </a:moveTo>
                <a:cubicBezTo>
                  <a:pt x="24" y="24"/>
                  <a:pt x="93" y="17"/>
                  <a:pt x="144" y="14"/>
                </a:cubicBezTo>
                <a:cubicBezTo>
                  <a:pt x="195" y="11"/>
                  <a:pt x="248" y="0"/>
                  <a:pt x="306" y="8"/>
                </a:cubicBezTo>
                <a:cubicBezTo>
                  <a:pt x="364" y="16"/>
                  <a:pt x="432" y="32"/>
                  <a:pt x="490" y="65"/>
                </a:cubicBezTo>
                <a:cubicBezTo>
                  <a:pt x="548" y="98"/>
                  <a:pt x="603" y="158"/>
                  <a:pt x="657" y="206"/>
                </a:cubicBezTo>
                <a:cubicBezTo>
                  <a:pt x="711" y="254"/>
                  <a:pt x="736" y="288"/>
                  <a:pt x="815" y="351"/>
                </a:cubicBezTo>
                <a:cubicBezTo>
                  <a:pt x="894" y="414"/>
                  <a:pt x="1066" y="535"/>
                  <a:pt x="1131" y="583"/>
                </a:cubicBezTo>
              </a:path>
            </a:pathLst>
          </a:custGeom>
          <a:noFill/>
          <a:ln w="381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19628400">
            <a:off x="6429240" y="2796840"/>
            <a:ext cx="1067040" cy="360360"/>
          </a:xfrm>
          <a:prstGeom prst="rightArrow">
            <a:avLst>
              <a:gd name="adj1" fmla="val 50000"/>
              <a:gd name="adj2" fmla="val 74026"/>
            </a:avLst>
          </a:prstGeom>
          <a:gradFill rotWithShape="0">
            <a:gsLst>
              <a:gs pos="0">
                <a:srgbClr val="ff6600"/>
              </a:gs>
              <a:gs pos="100000">
                <a:srgbClr val="00ff00"/>
              </a:gs>
            </a:gsLst>
            <a:lin ang="12774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1600" y="1281240"/>
            <a:ext cx="9067320" cy="353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ossible: stabilisation de la production autour de 100 millions de barils de 2020 à 203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-49680" y="936720"/>
            <a:ext cx="9259200" cy="353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bable: stabilisation de la production autour de 90 millions barils jours de 2010 à 202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433400" y="2735280"/>
            <a:ext cx="68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081920" y="1974960"/>
            <a:ext cx="2122560" cy="628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Investiss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</a:rPr>
              <a:t>tes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18280" y="4227480"/>
            <a:ext cx="159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cc00"/>
                </a:solidFill>
                <a:latin typeface="Arial"/>
              </a:rPr>
              <a:t>1 540 Gb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07120" y="4456080"/>
            <a:ext cx="159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900"/>
                </a:solidFill>
                <a:latin typeface="Arial"/>
              </a:rPr>
              <a:t>1 750 Gb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81560" y="4722840"/>
            <a:ext cx="159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6600"/>
                </a:solidFill>
                <a:latin typeface="Arial"/>
              </a:rPr>
              <a:t>1 975 Gb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05320" y="3394080"/>
            <a:ext cx="159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8000"/>
                </a:solidFill>
                <a:latin typeface="Arial"/>
              </a:rPr>
              <a:t>Réserves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8000"/>
                </a:solidFill>
                <a:latin typeface="Arial"/>
              </a:rPr>
              <a:t>1 070 Gb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11160" y="585720"/>
            <a:ext cx="91440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FP, Yves Mathieu, Division Géologie-Géochimie-Géophysique, Colorado Springs, AAPG Hedberg conference November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92080" y="17640"/>
            <a:ext cx="5450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quand le début de moins de pétrol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70680" y="2473200"/>
            <a:ext cx="2003400" cy="1224000"/>
          </a:xfrm>
          <a:custGeom>
            <a:avLst/>
            <a:gdLst/>
            <a:ahLst/>
            <a:rect l="l" t="t" r="r" b="b"/>
            <a:pathLst>
              <a:path w="1262" h="771">
                <a:moveTo>
                  <a:pt x="0" y="177"/>
                </a:moveTo>
                <a:cubicBezTo>
                  <a:pt x="76" y="153"/>
                  <a:pt x="314" y="0"/>
                  <a:pt x="457" y="30"/>
                </a:cubicBezTo>
                <a:cubicBezTo>
                  <a:pt x="600" y="60"/>
                  <a:pt x="725" y="237"/>
                  <a:pt x="859" y="360"/>
                </a:cubicBezTo>
                <a:cubicBezTo>
                  <a:pt x="993" y="483"/>
                  <a:pt x="1178" y="685"/>
                  <a:pt x="1262" y="771"/>
                </a:cubicBezTo>
              </a:path>
            </a:pathLst>
          </a:custGeom>
          <a:noFill/>
          <a:ln w="316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4840" y="1627200"/>
            <a:ext cx="8168040" cy="353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Éventuel: pic de production autour de 105 millions barils jour en 2030 envir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570280" y="49593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2 200 Gb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487760" y="1816200"/>
            <a:ext cx="2390400" cy="893520"/>
            <a:chOff x="4487760" y="1816200"/>
            <a:chExt cx="2390400" cy="893520"/>
          </a:xfrm>
        </p:grpSpPr>
        <p:pic>
          <p:nvPicPr>
            <p:cNvPr id="523" name="" descr="pétrole, pétrole"/>
            <p:cNvPicPr/>
            <p:nvPr/>
          </p:nvPicPr>
          <p:blipFill>
            <a:blip r:embed="rId1"/>
            <a:stretch/>
          </p:blipFill>
          <p:spPr>
            <a:xfrm>
              <a:off x="4487760" y="1816200"/>
              <a:ext cx="1257120" cy="89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5706720" y="1925640"/>
              <a:ext cx="11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$ ??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99360" y="2104560"/>
            <a:ext cx="9029160" cy="2275560"/>
            <a:chOff x="99360" y="2104560"/>
            <a:chExt cx="9029160" cy="2275560"/>
          </a:xfrm>
        </p:grpSpPr>
        <p:sp>
          <p:nvSpPr>
            <p:cNvPr id="526" name=""/>
            <p:cNvSpPr/>
            <p:nvPr/>
          </p:nvSpPr>
          <p:spPr>
            <a:xfrm>
              <a:off x="99360" y="3798720"/>
              <a:ext cx="90291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IE : 120 millions de barils/jour en 2030 ????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218200" y="2104560"/>
              <a:ext cx="1648800" cy="94932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239760" y="5770440"/>
            <a:ext cx="865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B : 1070 Gbarils ≈ 140 G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922320" y="0"/>
            <a:ext cx="6721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monde va passer son maximum, mais quand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49400" y="5829480"/>
            <a:ext cx="883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jection de la production pétrolière mondiale, discriminée par zone de production. Source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r. Sadad I. Al Husseini, Oil and Money Conference, October 30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569880" y="420840"/>
            <a:ext cx="788832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934920" y="0"/>
            <a:ext cx="4383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pénurie, c’est grave docteu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392040" y="584280"/>
            <a:ext cx="8358120" cy="546084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514440" y="605304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rrélation aux US entre prix du pétrole année N, et chômage année N+1. Source Laherrere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923760" y="0"/>
            <a:ext cx="5131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pénurie, c’est grave docteur ? (b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65200" y="56800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nus de l’Etat depuis 1978 par nature de contribution : le recours à l’endettement date… du premier choc pétrolier, et augmente à chaque récession. Source INSEE/comptes de la Nation, 200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957240" y="623880"/>
            <a:ext cx="73929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1143000" y="458640"/>
          <a:ext cx="7772400" cy="533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58640"/>
                    <a:ext cx="7772400" cy="53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"/>
          <p:cNvSpPr/>
          <p:nvPr/>
        </p:nvSpPr>
        <p:spPr>
          <a:xfrm>
            <a:off x="939960" y="0"/>
            <a:ext cx="76816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problème se complique un peu : il n’y a pas que le pét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505320" y="53341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5791320"/>
            <a:ext cx="914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otal des réserves prouvées : 800 Gtep, avec les supposées 4000 Gtep maximu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ource IF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1782720"/>
            <a:ext cx="1295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 Gtep = 1 milliard de tonnes équivalent pétrole. La consommation d ’énergie annuelle de l’humanité en 2005 est d ’environ 10 G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38080" y="22860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79480" y="0"/>
            <a:ext cx="82645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Sapien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à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Industriali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: tout est pareil, sauf le nombre de zé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73656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5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énergie est utilisée depuis 500.000 ans : la domestication du feu ; vent, traction animale et force de l’eau il y a des milliers d’anné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76544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5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limat a toujours varié, et variera tou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824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5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rainte de l’avenir est multimillénaire (Apocalypse, Malthus, Club de Rome…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48546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5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s « il est arrivé que l’on se trompe » n’est pas équivalent à « dès qu’il est question d’avenir on se fait peur pour rien ». « Il est arrivé que l’on se trompe » permet parfaitement d’avoir aussi « il est arrivé que l’on ait raison »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521080"/>
            <a:ext cx="85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5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 qui a changé entre le passé et aujourd’hui en matière d’énergie (et donc des conséquences de son usage) : l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dres de grandeu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ordres de grandeur, c’est une affaire de chiffres, pas de sloga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60360" y="5943600"/>
            <a:ext cx="857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ource du graphique : Bernard Rogeaux, EDF, décembr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396720" y="814320"/>
            <a:ext cx="8369280" cy="48592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 flipV="1">
            <a:off x="4416480" y="4897080"/>
            <a:ext cx="0" cy="490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310440" y="2566800"/>
            <a:ext cx="0" cy="2809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61840" y="0"/>
            <a:ext cx="7018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étrole -&gt; charbon 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0 à 40 ans de ra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mais pas 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858960" y="0"/>
            <a:ext cx="78199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fait, se reporter de pétrole sur charbon e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à ne pas fair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3120" y="6029280"/>
            <a:ext cx="85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 IPCC, novembr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840200" y="2496960"/>
            <a:ext cx="1831680" cy="1495080"/>
            <a:chOff x="4840200" y="2496960"/>
            <a:chExt cx="1831680" cy="1495080"/>
          </a:xfrm>
        </p:grpSpPr>
        <p:sp>
          <p:nvSpPr>
            <p:cNvPr id="553" name=""/>
            <p:cNvSpPr/>
            <p:nvPr/>
          </p:nvSpPr>
          <p:spPr>
            <a:xfrm>
              <a:off x="4840200" y="3373920"/>
              <a:ext cx="1792800" cy="6181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9080" y="2496960"/>
              <a:ext cx="1792800" cy="5763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742360" y="3091680"/>
              <a:ext cx="0" cy="240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7134120" y="2494080"/>
            <a:ext cx="1468440" cy="1620360"/>
            <a:chOff x="7134120" y="2494080"/>
            <a:chExt cx="1468440" cy="1620360"/>
          </a:xfrm>
        </p:grpSpPr>
        <p:sp>
          <p:nvSpPr>
            <p:cNvPr id="557" name=""/>
            <p:cNvSpPr/>
            <p:nvPr/>
          </p:nvSpPr>
          <p:spPr>
            <a:xfrm>
              <a:off x="7151400" y="3411360"/>
              <a:ext cx="1451160" cy="7030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34120" y="2494080"/>
              <a:ext cx="1450800" cy="5468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872120" y="3069360"/>
              <a:ext cx="0" cy="261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0" y="2479680"/>
            <a:ext cx="5592600" cy="2515320"/>
            <a:chOff x="0" y="2479680"/>
            <a:chExt cx="5592600" cy="2515320"/>
          </a:xfrm>
        </p:grpSpPr>
        <p:sp>
          <p:nvSpPr>
            <p:cNvPr id="561" name=""/>
            <p:cNvSpPr/>
            <p:nvPr/>
          </p:nvSpPr>
          <p:spPr>
            <a:xfrm>
              <a:off x="277560" y="2479680"/>
              <a:ext cx="1451160" cy="581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76320" y="3079800"/>
              <a:ext cx="260280" cy="107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0" y="4137480"/>
              <a:ext cx="559260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450 ppm de CO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 à stabilisation : nous avons « encore droit » à 250 Gt de carbone, soit les réserves pétrolières et gazières et RIEN DE PL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4" name=""/>
          <p:cNvGraphicFramePr/>
          <p:nvPr/>
        </p:nvGraphicFramePr>
        <p:xfrm>
          <a:off x="131760" y="1571760"/>
          <a:ext cx="8872560" cy="234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1571760"/>
                    <a:ext cx="8872560" cy="23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905040" y="1287360"/>
            <a:ext cx="7543800" cy="30546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6100920" y="2487600"/>
            <a:ext cx="180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(bonne année 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73000" y="0"/>
            <a:ext cx="7848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re des doutes sur la réalité du changement climatiqu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8400" y="479520"/>
            <a:ext cx="762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est évident qu’Allègre néglige des données d’observation irréfu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4760" y="4530600"/>
            <a:ext cx="840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ffet du changement climatique sur les tenues vestimentaires depuis le début du 20è siè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ource : Petit Bateau, Playtex, Aubade, Princesse Tam T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855720" y="0"/>
            <a:ext cx="80564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climat, ce n’est pas juste des hommes… ni juste l’atmosph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345960" y="390600"/>
            <a:ext cx="6810480" cy="51228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10960" y="6000840"/>
            <a:ext cx="870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uses diverses d’influence sur le climat et échelles de temps caractéristiques. Edouard Bard, exposé au Collège de Fr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238880" y="1355760"/>
            <a:ext cx="16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878520" y="777960"/>
            <a:ext cx="2214360" cy="4711680"/>
            <a:chOff x="6878520" y="777960"/>
            <a:chExt cx="2214360" cy="4711680"/>
          </a:xfrm>
        </p:grpSpPr>
        <p:sp>
          <p:nvSpPr>
            <p:cNvPr id="576" name=""/>
            <p:cNvSpPr/>
            <p:nvPr/>
          </p:nvSpPr>
          <p:spPr>
            <a:xfrm flipV="1">
              <a:off x="6878520" y="777960"/>
              <a:ext cx="0" cy="4711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65440" y="1155240"/>
              <a:ext cx="192744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Je regarde les variations du système sur la journée ou la semaine (météo) : l’atmosphère dom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995400" y="686880"/>
            <a:ext cx="5421240" cy="5391360"/>
            <a:chOff x="995400" y="686880"/>
            <a:chExt cx="5421240" cy="5391360"/>
          </a:xfrm>
        </p:grpSpPr>
        <p:sp>
          <p:nvSpPr>
            <p:cNvPr id="579" name=""/>
            <p:cNvSpPr/>
            <p:nvPr/>
          </p:nvSpPr>
          <p:spPr>
            <a:xfrm flipV="1">
              <a:off x="4430880" y="686880"/>
              <a:ext cx="0" cy="47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995400" y="5497560"/>
              <a:ext cx="5421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Je regarde les variations du système sur le siècle (évolution du climat) : l’océan dom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915840" y="0"/>
            <a:ext cx="79660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 hommes : plus ça va (le PIB) et moins ça va (le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09480" y="5562720"/>
            <a:ext cx="80773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 émissions de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venant de combustibles fossiles ont été multipliées par plus de 4 depuis 1950, et surtou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l est impossible de « faire » de la croissance économique sans augmenter ces émiss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AIE, 2004 + IPCC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458200" cy="4554360"/>
          </a:xfrm>
          <a:prstGeom prst="rect">
            <a:avLst/>
          </a:prstGeom>
          <a:ln w="0">
            <a:noFill/>
          </a:ln>
        </p:spPr>
      </p:pic>
      <p:grpSp>
        <p:nvGrpSpPr>
          <p:cNvPr id="584" name=""/>
          <p:cNvGrpSpPr/>
          <p:nvPr/>
        </p:nvGrpSpPr>
        <p:grpSpPr>
          <a:xfrm>
            <a:off x="1968480" y="3486240"/>
            <a:ext cx="2141280" cy="988920"/>
            <a:chOff x="1968480" y="3486240"/>
            <a:chExt cx="2141280" cy="988920"/>
          </a:xfrm>
        </p:grpSpPr>
        <p:sp>
          <p:nvSpPr>
            <p:cNvPr id="585" name=""/>
            <p:cNvSpPr/>
            <p:nvPr/>
          </p:nvSpPr>
          <p:spPr>
            <a:xfrm>
              <a:off x="3289320" y="3846600"/>
              <a:ext cx="820440" cy="62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68480" y="3486240"/>
              <a:ext cx="158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éc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3467160" y="3305160"/>
            <a:ext cx="1474200" cy="988920"/>
            <a:chOff x="3467160" y="3305160"/>
            <a:chExt cx="1474200" cy="988920"/>
          </a:xfrm>
        </p:grpSpPr>
        <p:sp>
          <p:nvSpPr>
            <p:cNvPr id="588" name=""/>
            <p:cNvSpPr/>
            <p:nvPr/>
          </p:nvSpPr>
          <p:spPr>
            <a:xfrm>
              <a:off x="4376520" y="3665520"/>
              <a:ext cx="564840" cy="62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67160" y="3305160"/>
              <a:ext cx="108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uer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259160" y="1879560"/>
            <a:ext cx="2373120" cy="703800"/>
            <a:chOff x="4259160" y="1879560"/>
            <a:chExt cx="2373120" cy="703800"/>
          </a:xfrm>
        </p:grpSpPr>
        <p:sp>
          <p:nvSpPr>
            <p:cNvPr id="591" name=""/>
            <p:cNvSpPr/>
            <p:nvPr/>
          </p:nvSpPr>
          <p:spPr>
            <a:xfrm>
              <a:off x="5722920" y="2122920"/>
              <a:ext cx="909360" cy="42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259160" y="1879560"/>
              <a:ext cx="175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oc pétro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3770280" y="1289160"/>
            <a:ext cx="3232800" cy="769680"/>
            <a:chOff x="3770280" y="1289160"/>
            <a:chExt cx="3232800" cy="769680"/>
          </a:xfrm>
        </p:grpSpPr>
        <p:sp>
          <p:nvSpPr>
            <p:cNvPr id="594" name=""/>
            <p:cNvSpPr/>
            <p:nvPr/>
          </p:nvSpPr>
          <p:spPr>
            <a:xfrm>
              <a:off x="5764320" y="1569600"/>
              <a:ext cx="1238760" cy="48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770280" y="1289160"/>
              <a:ext cx="238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oc pétro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871720" y="2781360"/>
            <a:ext cx="4149720" cy="485640"/>
            <a:chOff x="2871720" y="2781360"/>
            <a:chExt cx="4149720" cy="485640"/>
          </a:xfrm>
        </p:grpSpPr>
        <p:sp>
          <p:nvSpPr>
            <p:cNvPr id="597" name=""/>
            <p:cNvSpPr/>
            <p:nvPr/>
          </p:nvSpPr>
          <p:spPr>
            <a:xfrm>
              <a:off x="5538960" y="3085920"/>
              <a:ext cx="1482480" cy="1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71720" y="2781360"/>
              <a:ext cx="285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Grosse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Réc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781520" y="500040"/>
            <a:ext cx="4019760" cy="1031760"/>
            <a:chOff x="4781520" y="500040"/>
            <a:chExt cx="4019760" cy="10317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tretch/>
          </p:blipFill>
          <p:spPr>
            <a:xfrm>
              <a:off x="7910640" y="500040"/>
              <a:ext cx="89064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6956280" y="773280"/>
              <a:ext cx="1509840" cy="11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781520" y="523800"/>
              <a:ext cx="23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roissance 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5516640" y="966960"/>
            <a:ext cx="2492280" cy="398880"/>
            <a:chOff x="5516640" y="966960"/>
            <a:chExt cx="2492280" cy="398880"/>
          </a:xfrm>
        </p:grpSpPr>
        <p:sp>
          <p:nvSpPr>
            <p:cNvPr id="604" name=""/>
            <p:cNvSpPr/>
            <p:nvPr/>
          </p:nvSpPr>
          <p:spPr>
            <a:xfrm>
              <a:off x="7099200" y="1170000"/>
              <a:ext cx="909720" cy="15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516640" y="9669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éc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893880" y="0"/>
            <a:ext cx="74278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ans l’air : un petit tour et puis s’en va… ou p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8600" y="5506920"/>
            <a:ext cx="875016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volution des émissions de CO</a:t>
            </a:r>
            <a:r>
              <a:rPr b="1" lang="fr-F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depuis 1960 (en haut), et accroissement du stock de carbone de chaque compartiment de la planète sur la m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ême période (en bas)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ource : Canadell et al, Proceedings of the National Academy Of Science (US), 200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406440" y="441360"/>
            <a:ext cx="4922640" cy="5127480"/>
          </a:xfrm>
          <a:prstGeom prst="rect">
            <a:avLst/>
          </a:prstGeom>
          <a:ln w="0">
            <a:noFill/>
          </a:ln>
        </p:spPr>
      </p:pic>
      <p:grpSp>
        <p:nvGrpSpPr>
          <p:cNvPr id="609" name=""/>
          <p:cNvGrpSpPr/>
          <p:nvPr/>
        </p:nvGrpSpPr>
        <p:grpSpPr>
          <a:xfrm>
            <a:off x="5300640" y="2906640"/>
            <a:ext cx="3544200" cy="901800"/>
            <a:chOff x="5300640" y="2906640"/>
            <a:chExt cx="3544200" cy="901800"/>
          </a:xfrm>
        </p:grpSpPr>
        <p:sp>
          <p:nvSpPr>
            <p:cNvPr id="610" name=""/>
            <p:cNvSpPr/>
            <p:nvPr/>
          </p:nvSpPr>
          <p:spPr>
            <a:xfrm>
              <a:off x="5300640" y="2906640"/>
              <a:ext cx="302760" cy="901800"/>
            </a:xfrm>
            <a:custGeom>
              <a:avLst/>
              <a:gdLst>
                <a:gd name="textAreaLeft" fmla="*/ 0 w 302760"/>
                <a:gd name="textAreaRight" fmla="*/ 109440 w 302760"/>
                <a:gd name="textAreaTop" fmla="*/ 23400 h 901800"/>
                <a:gd name="textAreaBottom" fmla="*/ 878400 h 90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626800" y="3106800"/>
              <a:ext cx="3218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’atmosphère conserve environ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45%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des émissions </a:t>
              </a:r>
              <a:r>
                <a:rPr b="1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300640" y="3852720"/>
            <a:ext cx="3566880" cy="755640"/>
            <a:chOff x="5300640" y="3852720"/>
            <a:chExt cx="3566880" cy="755640"/>
          </a:xfrm>
        </p:grpSpPr>
        <p:sp>
          <p:nvSpPr>
            <p:cNvPr id="613" name=""/>
            <p:cNvSpPr/>
            <p:nvPr/>
          </p:nvSpPr>
          <p:spPr>
            <a:xfrm>
              <a:off x="5300640" y="3852720"/>
              <a:ext cx="331920" cy="755640"/>
            </a:xfrm>
            <a:custGeom>
              <a:avLst/>
              <a:gdLst>
                <a:gd name="textAreaLeft" fmla="*/ 0 w 331920"/>
                <a:gd name="textAreaRight" fmla="*/ 119880 w 331920"/>
                <a:gd name="textAreaTop" fmla="*/ 19440 h 755640"/>
                <a:gd name="textAreaBottom" fmla="*/ 73620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65320" y="3951360"/>
              <a:ext cx="320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es végétaux absorbent environ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0%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des émissions </a:t>
              </a:r>
              <a:r>
                <a:rPr b="1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300640" y="4657680"/>
            <a:ext cx="3504960" cy="580680"/>
            <a:chOff x="5300640" y="4657680"/>
            <a:chExt cx="3504960" cy="580680"/>
          </a:xfrm>
        </p:grpSpPr>
        <p:sp>
          <p:nvSpPr>
            <p:cNvPr id="616" name=""/>
            <p:cNvSpPr/>
            <p:nvPr/>
          </p:nvSpPr>
          <p:spPr>
            <a:xfrm>
              <a:off x="5300640" y="4660920"/>
              <a:ext cx="311400" cy="509400"/>
            </a:xfrm>
            <a:custGeom>
              <a:avLst/>
              <a:gdLst>
                <a:gd name="textAreaLeft" fmla="*/ 0 w 311400"/>
                <a:gd name="textAreaRight" fmla="*/ 112320 w 311400"/>
                <a:gd name="textAreaTop" fmla="*/ 12960 h 509400"/>
                <a:gd name="textAreaBottom" fmla="*/ 496440 h 50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668200" y="4657680"/>
              <a:ext cx="31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’océan absorbe environ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5%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des émissions, </a:t>
              </a:r>
              <a:r>
                <a:rPr b="1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998640" y="770040"/>
            <a:ext cx="105084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30440" y="1038240"/>
            <a:ext cx="13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fore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05040" y="1890720"/>
            <a:ext cx="728640" cy="219240"/>
          </a:xfrm>
          <a:custGeom>
            <a:avLst/>
            <a:gdLst/>
            <a:ahLst/>
            <a:rect l="l" t="t" r="r" b="b"/>
            <a:pathLst>
              <a:path w="459" h="138">
                <a:moveTo>
                  <a:pt x="19" y="138"/>
                </a:moveTo>
                <a:lnTo>
                  <a:pt x="308" y="138"/>
                </a:lnTo>
                <a:lnTo>
                  <a:pt x="459" y="88"/>
                </a:lnTo>
                <a:lnTo>
                  <a:pt x="409" y="0"/>
                </a:lnTo>
                <a:lnTo>
                  <a:pt x="145" y="37"/>
                </a:lnTo>
                <a:cubicBezTo>
                  <a:pt x="23" y="56"/>
                  <a:pt x="65" y="56"/>
                  <a:pt x="19" y="56"/>
                </a:cubicBezTo>
                <a:lnTo>
                  <a:pt x="0" y="100"/>
                </a:lnTo>
              </a:path>
            </a:pathLst>
          </a:custGeom>
          <a:solidFill>
            <a:srgbClr val="e4b269"/>
          </a:solidFill>
          <a:ln w="9360">
            <a:solidFill>
              <a:srgbClr val="e4b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789200" y="2152800"/>
            <a:ext cx="2671560" cy="31752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mbustibles foss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502080" y="1884240"/>
            <a:ext cx="1441440" cy="1666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utres é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451320" y="3865680"/>
            <a:ext cx="731880" cy="268200"/>
          </a:xfrm>
          <a:prstGeom prst="rect">
            <a:avLst/>
          </a:prstGeom>
          <a:solidFill>
            <a:srgbClr val="b4c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ols 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Végé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81000" y="4241880"/>
            <a:ext cx="116064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28760" y="2270160"/>
            <a:ext cx="60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 flipV="1">
            <a:off x="-720" y="758880"/>
            <a:ext cx="47268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lliards de tonnes de car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5300640" y="1012680"/>
            <a:ext cx="3676680" cy="1849680"/>
            <a:chOff x="5300640" y="1012680"/>
            <a:chExt cx="3676680" cy="1849680"/>
          </a:xfrm>
        </p:grpSpPr>
        <p:sp>
          <p:nvSpPr>
            <p:cNvPr id="628" name=""/>
            <p:cNvSpPr/>
            <p:nvPr/>
          </p:nvSpPr>
          <p:spPr>
            <a:xfrm>
              <a:off x="5300640" y="1012680"/>
              <a:ext cx="312840" cy="1849680"/>
            </a:xfrm>
            <a:custGeom>
              <a:avLst/>
              <a:gdLst>
                <a:gd name="textAreaLeft" fmla="*/ 0 w 312840"/>
                <a:gd name="textAreaRight" fmla="*/ 113040 w 312840"/>
                <a:gd name="textAreaTop" fmla="*/ 48240 h 1849680"/>
                <a:gd name="textAreaBottom" fmla="*/ 1801440 h 184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641920" y="1525680"/>
              <a:ext cx="333540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issions de CO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passées de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9 à presque 4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milliards de tonnes en un peu moins de 50 a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84160" y="0"/>
            <a:ext cx="7618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 gaz à effet de serre aiment s’envoyer en l’air… et y re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570564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ffet résiduel (axe vertical, en watts/m2) au cours du temps (axe horizontal, en années) d’une tonne de gaz émise à l’instant 0 (attention ! échelles logarithmiques). D. Hauglustaine, LS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585720" y="438120"/>
            <a:ext cx="7620120" cy="5214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 flipH="1" rot="12143400">
            <a:off x="4659840" y="2076120"/>
            <a:ext cx="635040" cy="2797200"/>
          </a:xfrm>
          <a:custGeom>
            <a:avLst/>
            <a:gdLst>
              <a:gd name="textAreaLeft" fmla="*/ 84960 w 635040"/>
              <a:gd name="textAreaRight" fmla="*/ 550080 w 635040"/>
              <a:gd name="textAreaTop" fmla="*/ 538560 h 2797200"/>
              <a:gd name="textAreaBottom" fmla="*/ 1978920 h 279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20" stAng="-5400000" swAng="-5400000"/>
                <a:lnTo>
                  <a:pt x="0" y="11120"/>
                </a:lnTo>
                <a:arcTo wR="21600" hR="8320" stAng="10800000" swAng="-2847110"/>
                <a:lnTo>
                  <a:pt x="14400" y="21124"/>
                </a:lnTo>
                <a:lnTo>
                  <a:pt x="21600" y="18040"/>
                </a:lnTo>
                <a:lnTo>
                  <a:pt x="14400" y="14004"/>
                </a:lnTo>
                <a:lnTo>
                  <a:pt x="14400" y="16164"/>
                </a:lnTo>
                <a:arcTo wR="21600" hR="8320" stAng="7952890" swAng="2621395"/>
                <a:lnTo>
                  <a:pt x="308" y="9720"/>
                </a:lnTo>
                <a:arcTo wR="21600" hR="8320" stAng="-10574285" swAng="5174285"/>
                <a:close/>
              </a:path>
              <a:path fill="darkenLess" w="21600" h="21600">
                <a:moveTo>
                  <a:pt x="21600" y="0"/>
                </a:moveTo>
                <a:arcTo wR="21600" hR="8320" stAng="-5400000" swAng="-5400000"/>
                <a:lnTo>
                  <a:pt x="0" y="8320"/>
                </a:lnTo>
                <a:arcTo wR="21600" hR="8320" stAng="10800000" swAng="-225715"/>
                <a:lnTo>
                  <a:pt x="308" y="9720"/>
                </a:lnTo>
                <a:arcTo wR="21600" hR="8320" stAng="-10574285" swAng="517428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9400" y="604800"/>
            <a:ext cx="19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c8"/>
                </a:solidFill>
                <a:latin typeface="Arial"/>
              </a:rPr>
              <a:t>HYPOTHE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c8"/>
                </a:solidFill>
                <a:latin typeface="Arial"/>
              </a:rPr>
              <a:t>ECONOMIQUES ET DEMOGRAPHIQU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73000" y="0"/>
            <a:ext cx="79898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simulation climatique, aussi fiable qu’un pronostic boursie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859040" y="379800"/>
            <a:ext cx="7284960" cy="2465280"/>
            <a:chOff x="1859040" y="379800"/>
            <a:chExt cx="7284960" cy="2465280"/>
          </a:xfrm>
        </p:grpSpPr>
        <p:pic>
          <p:nvPicPr>
            <p:cNvPr id="637" name="" descr=""/>
            <p:cNvPicPr/>
            <p:nvPr/>
          </p:nvPicPr>
          <p:blipFill>
            <a:blip r:embed="rId1"/>
            <a:stretch/>
          </p:blipFill>
          <p:spPr>
            <a:xfrm>
              <a:off x="6799320" y="833400"/>
              <a:ext cx="2344680" cy="14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 flipH="1" rot="12143400">
              <a:off x="2141640" y="677160"/>
              <a:ext cx="1932120" cy="1870200"/>
            </a:xfrm>
            <a:custGeom>
              <a:avLst/>
              <a:gdLst>
                <a:gd name="textAreaLeft" fmla="*/ 258840 w 1932120"/>
                <a:gd name="textAreaRight" fmla="*/ 1673280 w 1932120"/>
                <a:gd name="textAreaTop" fmla="*/ 335520 h 1870200"/>
                <a:gd name="textAreaBottom" fmla="*/ 1347480 h 18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757" stAng="-5400000" swAng="-5400000"/>
                  <a:lnTo>
                    <a:pt x="0" y="11684"/>
                  </a:lnTo>
                  <a:arcTo wR="21600" hR="7757" stAng="10800000" swAng="-2726742"/>
                  <a:lnTo>
                    <a:pt x="14400" y="21156"/>
                  </a:lnTo>
                  <a:lnTo>
                    <a:pt x="21600" y="17477"/>
                  </a:lnTo>
                  <a:lnTo>
                    <a:pt x="14400" y="12909"/>
                  </a:lnTo>
                  <a:lnTo>
                    <a:pt x="14400" y="15069"/>
                  </a:lnTo>
                  <a:arcTo wR="21600" hR="7757" stAng="8073258" swAng="2404666"/>
                  <a:lnTo>
                    <a:pt x="704" y="9720"/>
                  </a:lnTo>
                  <a:arcTo wR="21600" hR="7757" stAng="-10477924" swAng="5077924"/>
                  <a:close/>
                </a:path>
                <a:path fill="darkenLess" w="21600" h="21600">
                  <a:moveTo>
                    <a:pt x="21600" y="0"/>
                  </a:moveTo>
                  <a:arcTo wR="21600" hR="7757" stAng="-5400000" swAng="-5400000"/>
                  <a:lnTo>
                    <a:pt x="0" y="7757"/>
                  </a:lnTo>
                  <a:arcTo wR="21600" hR="7757" stAng="10800000" swAng="-322076"/>
                  <a:lnTo>
                    <a:pt x="704" y="9720"/>
                  </a:lnTo>
                  <a:arcTo wR="21600" hR="7757" stAng="-10477924" swAng="5077924"/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11880" y="2281320"/>
              <a:ext cx="26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b18c3"/>
                  </a:solidFill>
                  <a:latin typeface="Arial"/>
                </a:rPr>
                <a:t>Concentration en 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2093760" y="490680"/>
              <a:ext cx="1484280" cy="1282680"/>
              <a:chOff x="2093760" y="490680"/>
              <a:chExt cx="1484280" cy="1282680"/>
            </a:xfrm>
          </p:grpSpPr>
          <p:pic>
            <p:nvPicPr>
              <p:cNvPr id="6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093760" y="490680"/>
                <a:ext cx="1484280" cy="128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2" name=""/>
              <p:cNvSpPr/>
              <p:nvPr/>
            </p:nvSpPr>
            <p:spPr>
              <a:xfrm>
                <a:off x="2581200" y="706680"/>
                <a:ext cx="733320" cy="550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ODE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YCLE 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43" name="" descr=""/>
            <p:cNvPicPr/>
            <p:nvPr/>
          </p:nvPicPr>
          <p:blipFill>
            <a:blip r:embed="rId4"/>
            <a:stretch/>
          </p:blipFill>
          <p:spPr>
            <a:xfrm>
              <a:off x="4243320" y="830160"/>
              <a:ext cx="23716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5345640" y="1170000"/>
              <a:ext cx="549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857000" y="1001880"/>
              <a:ext cx="53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3392640" y="2511000"/>
            <a:ext cx="5178600" cy="3734640"/>
            <a:chOff x="3392640" y="2511000"/>
            <a:chExt cx="5178600" cy="3734640"/>
          </a:xfrm>
        </p:grpSpPr>
        <p:sp>
          <p:nvSpPr>
            <p:cNvPr id="647" name=""/>
            <p:cNvSpPr/>
            <p:nvPr/>
          </p:nvSpPr>
          <p:spPr>
            <a:xfrm>
              <a:off x="3979800" y="5938560"/>
              <a:ext cx="168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6c8"/>
                  </a:solidFill>
                  <a:latin typeface="Arial"/>
                </a:rPr>
                <a:t>Climat Fut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 rot="12143400">
              <a:off x="6886440" y="2577240"/>
              <a:ext cx="1051200" cy="3534840"/>
            </a:xfrm>
            <a:custGeom>
              <a:avLst/>
              <a:gdLst>
                <a:gd name="textAreaLeft" fmla="*/ 140760 w 1051200"/>
                <a:gd name="textAreaRight" fmla="*/ 910440 w 1051200"/>
                <a:gd name="textAreaTop" fmla="*/ 680760 h 3534840"/>
                <a:gd name="textAreaBottom" fmla="*/ 2500560 h 353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320" stAng="-5400000" swAng="-5400000"/>
                  <a:lnTo>
                    <a:pt x="0" y="11120"/>
                  </a:lnTo>
                  <a:arcTo wR="21600" hR="8320" stAng="10800000" swAng="-2847110"/>
                  <a:lnTo>
                    <a:pt x="14400" y="21124"/>
                  </a:lnTo>
                  <a:lnTo>
                    <a:pt x="21600" y="18040"/>
                  </a:lnTo>
                  <a:lnTo>
                    <a:pt x="14400" y="14004"/>
                  </a:lnTo>
                  <a:lnTo>
                    <a:pt x="14400" y="16164"/>
                  </a:lnTo>
                  <a:arcTo wR="21600" hR="8320" stAng="7952890" swAng="2621395"/>
                  <a:lnTo>
                    <a:pt x="308" y="9720"/>
                  </a:lnTo>
                  <a:arcTo wR="21600" hR="8320" stAng="-10574285" swAng="5174285"/>
                  <a:close/>
                </a:path>
                <a:path fill="darkenLess" w="21600" h="21600">
                  <a:moveTo>
                    <a:pt x="21600" y="0"/>
                  </a:moveTo>
                  <a:arcTo wR="21600" hR="8320" stAng="-5400000" swAng="-5400000"/>
                  <a:lnTo>
                    <a:pt x="0" y="8320"/>
                  </a:lnTo>
                  <a:arcTo wR="21600" hR="8320" stAng="10800000" swAng="-225715"/>
                  <a:lnTo>
                    <a:pt x="308" y="9720"/>
                  </a:lnTo>
                  <a:arcTo wR="21600" hR="8320" stAng="-10574285" swAng="5174285"/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5"/>
            <a:srcRect l="10037" t="0" r="0" b="0"/>
            <a:stretch/>
          </p:blipFill>
          <p:spPr>
            <a:xfrm>
              <a:off x="6618240" y="2957400"/>
              <a:ext cx="176688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6744240" y="3678120"/>
              <a:ext cx="1576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MODE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CLIMATIQ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4f8fb"/>
                  </a:solidFill>
                  <a:latin typeface="Arial"/>
                </a:rPr>
                <a:t>(~1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1" name="" descr=""/>
            <p:cNvPicPr/>
            <p:nvPr/>
          </p:nvPicPr>
          <p:blipFill>
            <a:blip r:embed="rId6"/>
            <a:stretch/>
          </p:blipFill>
          <p:spPr>
            <a:xfrm>
              <a:off x="3392640" y="4483080"/>
              <a:ext cx="2890800" cy="147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"/>
          <p:cNvGrpSpPr/>
          <p:nvPr/>
        </p:nvGrpSpPr>
        <p:grpSpPr>
          <a:xfrm>
            <a:off x="-181440" y="1405800"/>
            <a:ext cx="3972240" cy="2700000"/>
            <a:chOff x="-181440" y="1405800"/>
            <a:chExt cx="3972240" cy="2700000"/>
          </a:xfrm>
        </p:grpSpPr>
        <p:sp>
          <p:nvSpPr>
            <p:cNvPr id="653" name=""/>
            <p:cNvSpPr/>
            <p:nvPr/>
          </p:nvSpPr>
          <p:spPr>
            <a:xfrm>
              <a:off x="1608120" y="3798720"/>
              <a:ext cx="212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b18c3"/>
                  </a:solidFill>
                  <a:latin typeface="Arial"/>
                </a:rPr>
                <a:t>Emissions de 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9486800">
              <a:off x="349200" y="1430280"/>
              <a:ext cx="744480" cy="2076480"/>
            </a:xfrm>
            <a:custGeom>
              <a:avLst/>
              <a:gdLst>
                <a:gd name="textAreaLeft" fmla="*/ 99720 w 744480"/>
                <a:gd name="textAreaRight" fmla="*/ 644760 w 744480"/>
                <a:gd name="textAreaTop" fmla="*/ 363240 h 2076480"/>
                <a:gd name="textAreaBottom" fmla="*/ 1505520 h 207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5" name="" descr=""/>
            <p:cNvPicPr/>
            <p:nvPr/>
          </p:nvPicPr>
          <p:blipFill>
            <a:blip r:embed="rId7"/>
            <a:stretch/>
          </p:blipFill>
          <p:spPr>
            <a:xfrm>
              <a:off x="0" y="2001960"/>
              <a:ext cx="10033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" descr=""/>
            <p:cNvPicPr/>
            <p:nvPr/>
          </p:nvPicPr>
          <p:blipFill>
            <a:blip r:embed="rId8"/>
            <a:stretch/>
          </p:blipFill>
          <p:spPr>
            <a:xfrm>
              <a:off x="1434960" y="2043000"/>
              <a:ext cx="2355840" cy="181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"/>
          <p:cNvSpPr/>
          <p:nvPr/>
        </p:nvSpPr>
        <p:spPr>
          <a:xfrm flipH="1">
            <a:off x="438120" y="1346040"/>
            <a:ext cx="2759040" cy="4557960"/>
          </a:xfrm>
          <a:custGeom>
            <a:avLst/>
            <a:gdLst>
              <a:gd name="textAreaLeft" fmla="*/ 1086120 w 2759040"/>
              <a:gd name="textAreaRight" fmla="*/ 2507760 w 2759040"/>
              <a:gd name="textAreaTop" fmla="*/ 3641760 h 4557960"/>
              <a:gd name="textAreaBottom" fmla="*/ 4142160 h 4557960"/>
            </a:gdLst>
            <a:ahLst/>
            <a:rect l="textAreaLeft" t="textAreaTop" r="textAreaRight" b="textAreaBottom"/>
            <a:pathLst>
              <a:path w="21600" h="21600">
                <a:moveTo>
                  <a:pt x="0" y="19229"/>
                </a:moveTo>
                <a:lnTo>
                  <a:pt x="17258" y="19229"/>
                </a:lnTo>
                <a:lnTo>
                  <a:pt x="17258" y="8501"/>
                </a:lnTo>
                <a:lnTo>
                  <a:pt x="15287" y="8501"/>
                </a:lnTo>
                <a:lnTo>
                  <a:pt x="18444" y="0"/>
                </a:lnTo>
                <a:lnTo>
                  <a:pt x="21600" y="8501"/>
                </a:lnTo>
                <a:lnTo>
                  <a:pt x="19629" y="8501"/>
                </a:lnTo>
                <a:lnTo>
                  <a:pt x="196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99880" y="3468600"/>
            <a:ext cx="1130400" cy="1422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303120" y="3460680"/>
            <a:ext cx="1130400" cy="1422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880920" y="0"/>
            <a:ext cx="77104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lques degrés en plus, ça n’est pas très courant par ici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762120" y="485640"/>
            <a:ext cx="6324480" cy="541188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0" y="587844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Évolution de la température moyenne de l’air au niveau du sol, selon les scénarii, et mise en perspective avec le passé. Climate Change 2001, the scientific Basis, GI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248160" y="3305160"/>
            <a:ext cx="2438640" cy="1310760"/>
            <a:chOff x="6248160" y="3305160"/>
            <a:chExt cx="2438640" cy="1310760"/>
          </a:xfrm>
        </p:grpSpPr>
        <p:sp>
          <p:nvSpPr>
            <p:cNvPr id="664" name=""/>
            <p:cNvSpPr/>
            <p:nvPr/>
          </p:nvSpPr>
          <p:spPr>
            <a:xfrm>
              <a:off x="7162920" y="3305160"/>
              <a:ext cx="15238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es émissions mondiales restent consta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6248160" y="353304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6172200" y="1171440"/>
            <a:ext cx="2743200" cy="2040840"/>
            <a:chOff x="6172200" y="1171440"/>
            <a:chExt cx="2743200" cy="2040840"/>
          </a:xfrm>
        </p:grpSpPr>
        <p:sp>
          <p:nvSpPr>
            <p:cNvPr id="667" name=""/>
            <p:cNvSpPr/>
            <p:nvPr/>
          </p:nvSpPr>
          <p:spPr>
            <a:xfrm>
              <a:off x="7543800" y="1171440"/>
              <a:ext cx="137160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 milliards de terriens évoluent vers les émissions d’un Polonais de l’an 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6172200" y="1476360"/>
              <a:ext cx="13716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07920" y="0"/>
            <a:ext cx="7942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lques degrés en plus, c’est u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ngement d’ère clim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17440" y="60958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-&gt; Quelques degrés de plus en 100 ans, ce sera(it) un choc massif et ingé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304920" y="914400"/>
            <a:ext cx="8534160" cy="3998880"/>
            <a:chOff x="304920" y="914400"/>
            <a:chExt cx="8534160" cy="3998880"/>
          </a:xfrm>
        </p:grpSpPr>
        <p:grpSp>
          <p:nvGrpSpPr>
            <p:cNvPr id="672" name=""/>
            <p:cNvGrpSpPr/>
            <p:nvPr/>
          </p:nvGrpSpPr>
          <p:grpSpPr>
            <a:xfrm>
              <a:off x="304920" y="1219320"/>
              <a:ext cx="8534160" cy="3693960"/>
              <a:chOff x="304920" y="1219320"/>
              <a:chExt cx="8534160" cy="3693960"/>
            </a:xfrm>
          </p:grpSpPr>
          <p:pic>
            <p:nvPicPr>
              <p:cNvPr id="6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952880" y="1219320"/>
                <a:ext cx="3886200" cy="349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1295280"/>
                <a:ext cx="3962160" cy="3618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5" name=""/>
            <p:cNvSpPr/>
            <p:nvPr/>
          </p:nvSpPr>
          <p:spPr>
            <a:xfrm>
              <a:off x="914400" y="99072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Il y a 20.000 a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91440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Aujourd’hu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0" y="439560"/>
            <a:ext cx="89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uis le dernier maximum glaciaire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a moyenne planétaire n’a augmenté «que» de 5°C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s notre planète a considérablement chang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0" y="1819440"/>
            <a:ext cx="3733920" cy="4232880"/>
            <a:chOff x="0" y="1819440"/>
            <a:chExt cx="3733920" cy="4232880"/>
          </a:xfrm>
        </p:grpSpPr>
        <p:sp>
          <p:nvSpPr>
            <p:cNvPr id="679" name=""/>
            <p:cNvSpPr/>
            <p:nvPr/>
          </p:nvSpPr>
          <p:spPr>
            <a:xfrm flipV="1">
              <a:off x="1371600" y="2276280"/>
              <a:ext cx="2362320" cy="2590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flipV="1">
              <a:off x="762120" y="1971720"/>
              <a:ext cx="457200" cy="289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1295280" y="1819440"/>
              <a:ext cx="609840" cy="304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0" y="4892760"/>
              <a:ext cx="3352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ériode glaciaire 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d’immenses glaciers, épais de plusieurs km, recouvrent l’Amérique et l’Europe du nord. Le sol de la France est gelé en permanence, et inapte aux cult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3276360" y="2657520"/>
            <a:ext cx="5486760" cy="3308760"/>
            <a:chOff x="3276360" y="2657520"/>
            <a:chExt cx="5486760" cy="3308760"/>
          </a:xfrm>
        </p:grpSpPr>
        <p:sp>
          <p:nvSpPr>
            <p:cNvPr id="684" name=""/>
            <p:cNvSpPr/>
            <p:nvPr/>
          </p:nvSpPr>
          <p:spPr>
            <a:xfrm>
              <a:off x="6172200" y="5019840"/>
              <a:ext cx="2590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ériode glaciaire 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on passe à pied sec de France en Angleterre : la mer est plus basse de 120 mètres 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 flipV="1">
              <a:off x="3276360" y="2962080"/>
              <a:ext cx="3429000" cy="1981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6705720" y="2657520"/>
              <a:ext cx="1295280" cy="228600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3124080" y="2809800"/>
            <a:ext cx="4648320" cy="3369240"/>
            <a:chOff x="3124080" y="2809800"/>
            <a:chExt cx="4648320" cy="3369240"/>
          </a:xfrm>
        </p:grpSpPr>
        <p:sp>
          <p:nvSpPr>
            <p:cNvPr id="688" name=""/>
            <p:cNvSpPr/>
            <p:nvPr/>
          </p:nvSpPr>
          <p:spPr>
            <a:xfrm>
              <a:off x="3352680" y="5019480"/>
              <a:ext cx="25909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ériode glaciaire 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la température de l’Europe est plus basse de 8 à 10 °C mais celle des tropiques a peu vari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3124080" y="3038040"/>
              <a:ext cx="1371600" cy="19047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4495680" y="2809800"/>
              <a:ext cx="3276720" cy="21333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90720" y="0"/>
            <a:ext cx="77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 commencement étaient les hommes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92776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volution démographique depuis le néolithique (découverte de l’agriculture). Source : Musée de l’Hom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68960" y="428760"/>
            <a:ext cx="1406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5 : 6,5 milliard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59160" y="2630520"/>
            <a:ext cx="242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ébut de la révolution industrielle : ≈ 0,5 milliard d’hom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3213000"/>
            <a:ext cx="2292480" cy="187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73240" y="525600"/>
            <a:ext cx="655308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936720" y="0"/>
            <a:ext cx="76579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 secours : il n’y a pas de bouton « remise à zéro »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61228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urce : Climate Change 2001, the scientific Basis, GI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6705720" cy="5153040"/>
          </a:xfrm>
          <a:prstGeom prst="rect">
            <a:avLst/>
          </a:prstGeom>
          <a:ln w="0">
            <a:noFill/>
          </a:ln>
        </p:spPr>
      </p:pic>
      <p:grpSp>
        <p:nvGrpSpPr>
          <p:cNvPr id="694" name=""/>
          <p:cNvGrpSpPr/>
          <p:nvPr/>
        </p:nvGrpSpPr>
        <p:grpSpPr>
          <a:xfrm>
            <a:off x="6705720" y="579600"/>
            <a:ext cx="2438280" cy="1325160"/>
            <a:chOff x="6705720" y="579600"/>
            <a:chExt cx="2438280" cy="1325160"/>
          </a:xfrm>
        </p:grpSpPr>
        <p:sp>
          <p:nvSpPr>
            <p:cNvPr id="695" name=""/>
            <p:cNvSpPr/>
            <p:nvPr/>
          </p:nvSpPr>
          <p:spPr>
            <a:xfrm>
              <a:off x="7086600" y="579600"/>
              <a:ext cx="205740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nte des glaces (y compris calot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6705720" y="910800"/>
              <a:ext cx="380880" cy="99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6705720" y="1523880"/>
            <a:ext cx="2293560" cy="1067040"/>
            <a:chOff x="6705720" y="1523880"/>
            <a:chExt cx="2293560" cy="1067040"/>
          </a:xfrm>
        </p:grpSpPr>
        <p:sp>
          <p:nvSpPr>
            <p:cNvPr id="698" name=""/>
            <p:cNvSpPr/>
            <p:nvPr/>
          </p:nvSpPr>
          <p:spPr>
            <a:xfrm>
              <a:off x="7042680" y="1523880"/>
              <a:ext cx="195660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latation de l’eau de surface des océa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6705720" y="1905120"/>
              <a:ext cx="3369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6552720" y="2590920"/>
            <a:ext cx="2210400" cy="990360"/>
            <a:chOff x="6552720" y="2590920"/>
            <a:chExt cx="2210400" cy="990360"/>
          </a:xfrm>
        </p:grpSpPr>
        <p:sp>
          <p:nvSpPr>
            <p:cNvPr id="701" name=""/>
            <p:cNvSpPr/>
            <p:nvPr/>
          </p:nvSpPr>
          <p:spPr>
            <a:xfrm>
              <a:off x="6858000" y="2590920"/>
              <a:ext cx="19051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Évolution de la température moyen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6552720" y="2971800"/>
              <a:ext cx="304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6477120" y="3581280"/>
            <a:ext cx="2438280" cy="867600"/>
            <a:chOff x="6477120" y="3581280"/>
            <a:chExt cx="2438280" cy="867600"/>
          </a:xfrm>
        </p:grpSpPr>
        <p:sp>
          <p:nvSpPr>
            <p:cNvPr id="704" name=""/>
            <p:cNvSpPr/>
            <p:nvPr/>
          </p:nvSpPr>
          <p:spPr>
            <a:xfrm>
              <a:off x="6858000" y="3581280"/>
              <a:ext cx="2057400" cy="8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Évolution de la concentration en C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6477120" y="411480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400800" y="4648320"/>
            <a:ext cx="2362320" cy="1114200"/>
            <a:chOff x="6400800" y="4648320"/>
            <a:chExt cx="2362320" cy="1114200"/>
          </a:xfrm>
        </p:grpSpPr>
        <p:sp>
          <p:nvSpPr>
            <p:cNvPr id="707" name=""/>
            <p:cNvSpPr/>
            <p:nvPr/>
          </p:nvSpPr>
          <p:spPr>
            <a:xfrm>
              <a:off x="6858000" y="4648320"/>
              <a:ext cx="1905120" cy="11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Hypothès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: évolution des émissions de C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6400800" y="502920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358920" y="579600"/>
            <a:ext cx="8453160" cy="514980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971640" y="0"/>
            <a:ext cx="4505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ù est le développement durabl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7960" y="5800680"/>
            <a:ext cx="8229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missions de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ar habitant en 2003 et « droits maximaux à émettre sans perturber le climat ». Source UNFCCC pour les émissions par habita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109520" y="2292480"/>
            <a:ext cx="123840" cy="180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43120" y="901800"/>
            <a:ext cx="3124080" cy="1344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oit maximal à émettre si nous voulons diviser les émissions mondiales de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ar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vec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,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illiards d’habi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103800" y="1784520"/>
            <a:ext cx="20880" cy="245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522680" y="749160"/>
            <a:ext cx="2575080" cy="1344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m si nous voulons diviser les émissions mondiales de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ar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vec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illiards d’habi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2004840" y="1965240"/>
            <a:ext cx="2659320" cy="3211560"/>
            <a:chOff x="2004840" y="1965240"/>
            <a:chExt cx="2659320" cy="3211560"/>
          </a:xfrm>
        </p:grpSpPr>
        <p:sp>
          <p:nvSpPr>
            <p:cNvPr id="717" name=""/>
            <p:cNvSpPr/>
            <p:nvPr/>
          </p:nvSpPr>
          <p:spPr>
            <a:xfrm>
              <a:off x="4060800" y="2992320"/>
              <a:ext cx="397080" cy="2184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02200" y="2754360"/>
              <a:ext cx="115920" cy="218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04840" y="1965240"/>
              <a:ext cx="265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Facteur 4 : passer de 100 à 40 esclaves par personne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84160" y="22320"/>
            <a:ext cx="79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 restaurant « le bon développement durable », plat u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8600" y="593640"/>
            <a:ext cx="8761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l’état actuel des technologie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’une des choses suivan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uffit à atteindre le « droit maximal à émettre sur une année »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121920" y="61675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: Jancovici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39720" y="1406520"/>
            <a:ext cx="39117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re un AR Paris-NY en av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39720" y="5349960"/>
            <a:ext cx="79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courir 5.000 à 6.000 km en 6CV en zone urbaine (2 fois moins en 4x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39720" y="1996920"/>
            <a:ext cx="787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ommer 3.700 kWh d'électricité en Grande Bretagne ou 3.200 kWh en Allemagne, mais 24.000 kWh en France (consommation annuelle moyenne par Français : environ 8000 kWh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39720" y="3110040"/>
            <a:ext cx="787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eter 50 à 500 kg de produits manufacturé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39720" y="3673440"/>
            <a:ext cx="78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ire 2 tonnes de ciment (une maison moderne de 100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n nécessite environ 1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39720" y="4511520"/>
            <a:ext cx="78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ûler 7.200 kWh de gaz naturel, en tenant compte des émissions amont (quelques mois de chauffage d'un logemen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905040" y="0"/>
            <a:ext cx="7029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ttali et Borloo dans le m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ême bateau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, fastoch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85960" y="1665360"/>
            <a:ext cx="7429320" cy="68580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3625920" y="552600"/>
            <a:ext cx="3851280" cy="657000"/>
          </a:xfrm>
          <a:prstGeom prst="rect">
            <a:avLst/>
          </a:prstGeom>
          <a:ln w="0">
            <a:noFill/>
          </a:ln>
        </p:spPr>
      </p:pic>
      <p:grpSp>
        <p:nvGrpSpPr>
          <p:cNvPr id="732" name=""/>
          <p:cNvGrpSpPr/>
          <p:nvPr/>
        </p:nvGrpSpPr>
        <p:grpSpPr>
          <a:xfrm>
            <a:off x="0" y="1074600"/>
            <a:ext cx="4039920" cy="557280"/>
            <a:chOff x="0" y="1074600"/>
            <a:chExt cx="4039920" cy="557280"/>
          </a:xfrm>
        </p:grpSpPr>
        <p:sp>
          <p:nvSpPr>
            <p:cNvPr id="733" name=""/>
            <p:cNvSpPr/>
            <p:nvPr/>
          </p:nvSpPr>
          <p:spPr>
            <a:xfrm>
              <a:off x="0" y="1074600"/>
              <a:ext cx="403992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 diviser par 2…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et le sera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1605600" y="1333440"/>
              <a:ext cx="34560" cy="29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272280" y="2373480"/>
            <a:ext cx="2871720" cy="2503440"/>
            <a:chOff x="6272280" y="2373480"/>
            <a:chExt cx="2871720" cy="2503440"/>
          </a:xfrm>
        </p:grpSpPr>
        <p:pic>
          <p:nvPicPr>
            <p:cNvPr id="736" name="" descr=""/>
            <p:cNvPicPr/>
            <p:nvPr/>
          </p:nvPicPr>
          <p:blipFill>
            <a:blip r:embed="rId3"/>
            <a:stretch/>
          </p:blipFill>
          <p:spPr>
            <a:xfrm>
              <a:off x="6272280" y="2909880"/>
              <a:ext cx="2871720" cy="16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 flipH="1" flipV="1">
              <a:off x="7775640" y="2373480"/>
              <a:ext cx="14400" cy="57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819840" y="4572000"/>
              <a:ext cx="2324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+ 50% d’ici 2050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866880" y="493560"/>
            <a:ext cx="2847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’équation de Kay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4770360" y="2390400"/>
            <a:ext cx="1987560" cy="3688200"/>
            <a:chOff x="4770360" y="2390400"/>
            <a:chExt cx="1987560" cy="3688200"/>
          </a:xfrm>
        </p:grpSpPr>
        <p:sp>
          <p:nvSpPr>
            <p:cNvPr id="741" name=""/>
            <p:cNvSpPr/>
            <p:nvPr/>
          </p:nvSpPr>
          <p:spPr>
            <a:xfrm>
              <a:off x="4770360" y="5319720"/>
              <a:ext cx="19875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% de croissance par an = x 2,7 en 50 ans ; 4% par an c’est x 7 en 50 ans !!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5729400" y="2390400"/>
              <a:ext cx="484200" cy="288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0" y="2388960"/>
            <a:ext cx="5303880" cy="3967560"/>
            <a:chOff x="0" y="2388960"/>
            <a:chExt cx="5303880" cy="3967560"/>
          </a:xfrm>
        </p:grpSpPr>
        <p:sp>
          <p:nvSpPr>
            <p:cNvPr id="744" name=""/>
            <p:cNvSpPr/>
            <p:nvPr/>
          </p:nvSpPr>
          <p:spPr>
            <a:xfrm>
              <a:off x="401760" y="6168960"/>
              <a:ext cx="45417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in de 50% en 50 ans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4776840" y="2388960"/>
              <a:ext cx="527040" cy="2338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6" name="" descr=""/>
            <p:cNvPicPr/>
            <p:nvPr/>
          </p:nvPicPr>
          <p:blipFill>
            <a:blip r:embed="rId4"/>
            <a:stretch/>
          </p:blipFill>
          <p:spPr>
            <a:xfrm>
              <a:off x="130320" y="4983120"/>
              <a:ext cx="4662360" cy="12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 flipH="1" flipV="1">
              <a:off x="4539960" y="5075280"/>
              <a:ext cx="3240" cy="404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0" y="4764240"/>
              <a:ext cx="466092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 La technique » N°1 : l’efficacité énergéti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509920" y="5070600"/>
              <a:ext cx="22161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30% de mieux en 30 a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0" y="2271600"/>
            <a:ext cx="5041800" cy="2195640"/>
            <a:chOff x="0" y="2271600"/>
            <a:chExt cx="5041800" cy="2195640"/>
          </a:xfrm>
        </p:grpSpPr>
        <p:sp>
          <p:nvSpPr>
            <p:cNvPr id="751" name=""/>
            <p:cNvSpPr/>
            <p:nvPr/>
          </p:nvSpPr>
          <p:spPr>
            <a:xfrm>
              <a:off x="0" y="4097160"/>
              <a:ext cx="47433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Il faut gagner 75% en 45 ans, en doublant l’approvisionnement énergétique !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3351240" y="2271600"/>
              <a:ext cx="34920" cy="34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0" y="2655720"/>
              <a:ext cx="475632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 La technique » N°2 : l’efficacité carbone de l’énerg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" descr=""/>
            <p:cNvPicPr/>
            <p:nvPr/>
          </p:nvPicPr>
          <p:blipFill>
            <a:blip r:embed="rId5"/>
            <a:stretch/>
          </p:blipFill>
          <p:spPr>
            <a:xfrm>
              <a:off x="0" y="2963880"/>
              <a:ext cx="433080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4135320" y="3021120"/>
              <a:ext cx="15840" cy="142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98800" y="3211560"/>
              <a:ext cx="20430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0% de mieux en 30 a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0" y="2660760"/>
            <a:ext cx="5867280" cy="3673440"/>
          </a:xfrm>
          <a:prstGeom prst="rect">
            <a:avLst/>
          </a:prstGeom>
          <a:ln w="0">
            <a:noFill/>
          </a:ln>
        </p:spPr>
      </p:pic>
      <p:grpSp>
        <p:nvGrpSpPr>
          <p:cNvPr id="758" name=""/>
          <p:cNvGrpSpPr/>
          <p:nvPr/>
        </p:nvGrpSpPr>
        <p:grpSpPr>
          <a:xfrm>
            <a:off x="5794200" y="347760"/>
            <a:ext cx="2837520" cy="5553000"/>
            <a:chOff x="5794200" y="347760"/>
            <a:chExt cx="2837520" cy="5553000"/>
          </a:xfrm>
        </p:grpSpPr>
        <p:sp>
          <p:nvSpPr>
            <p:cNvPr id="759" name=""/>
            <p:cNvSpPr/>
            <p:nvPr/>
          </p:nvSpPr>
          <p:spPr>
            <a:xfrm>
              <a:off x="5821200" y="3421080"/>
              <a:ext cx="1729080" cy="2479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794200" y="347760"/>
              <a:ext cx="1776600" cy="4595760"/>
            </a:xfrm>
            <a:custGeom>
              <a:avLst/>
              <a:gdLst/>
              <a:ahLst/>
              <a:rect l="l" t="t" r="r" b="b"/>
              <a:pathLst>
                <a:path w="1119" h="2895">
                  <a:moveTo>
                    <a:pt x="10" y="1981"/>
                  </a:moveTo>
                  <a:cubicBezTo>
                    <a:pt x="21" y="1963"/>
                    <a:pt x="33" y="1945"/>
                    <a:pt x="48" y="1937"/>
                  </a:cubicBezTo>
                  <a:cubicBezTo>
                    <a:pt x="63" y="1929"/>
                    <a:pt x="78" y="1932"/>
                    <a:pt x="98" y="1931"/>
                  </a:cubicBezTo>
                  <a:cubicBezTo>
                    <a:pt x="118" y="1930"/>
                    <a:pt x="138" y="1924"/>
                    <a:pt x="167" y="1931"/>
                  </a:cubicBezTo>
                  <a:cubicBezTo>
                    <a:pt x="196" y="1938"/>
                    <a:pt x="234" y="1953"/>
                    <a:pt x="275" y="1975"/>
                  </a:cubicBezTo>
                  <a:cubicBezTo>
                    <a:pt x="316" y="1997"/>
                    <a:pt x="358" y="2024"/>
                    <a:pt x="413" y="2063"/>
                  </a:cubicBezTo>
                  <a:cubicBezTo>
                    <a:pt x="468" y="2102"/>
                    <a:pt x="541" y="2155"/>
                    <a:pt x="608" y="2208"/>
                  </a:cubicBezTo>
                  <a:cubicBezTo>
                    <a:pt x="675" y="2261"/>
                    <a:pt x="766" y="2337"/>
                    <a:pt x="816" y="2384"/>
                  </a:cubicBezTo>
                  <a:cubicBezTo>
                    <a:pt x="866" y="2431"/>
                    <a:pt x="870" y="2447"/>
                    <a:pt x="911" y="2492"/>
                  </a:cubicBezTo>
                  <a:cubicBezTo>
                    <a:pt x="952" y="2537"/>
                    <a:pt x="1029" y="2618"/>
                    <a:pt x="1062" y="2655"/>
                  </a:cubicBezTo>
                  <a:cubicBezTo>
                    <a:pt x="1095" y="2692"/>
                    <a:pt x="1105" y="2895"/>
                    <a:pt x="1112" y="2712"/>
                  </a:cubicBezTo>
                  <a:cubicBezTo>
                    <a:pt x="1119" y="2529"/>
                    <a:pt x="1107" y="1976"/>
                    <a:pt x="1106" y="1559"/>
                  </a:cubicBezTo>
                  <a:cubicBezTo>
                    <a:pt x="1105" y="1142"/>
                    <a:pt x="1115" y="422"/>
                    <a:pt x="1106" y="211"/>
                  </a:cubicBezTo>
                  <a:cubicBezTo>
                    <a:pt x="1097" y="0"/>
                    <a:pt x="1071" y="241"/>
                    <a:pt x="1049" y="293"/>
                  </a:cubicBezTo>
                  <a:cubicBezTo>
                    <a:pt x="1027" y="345"/>
                    <a:pt x="1031" y="402"/>
                    <a:pt x="974" y="526"/>
                  </a:cubicBezTo>
                  <a:cubicBezTo>
                    <a:pt x="917" y="650"/>
                    <a:pt x="803" y="891"/>
                    <a:pt x="709" y="1036"/>
                  </a:cubicBezTo>
                  <a:cubicBezTo>
                    <a:pt x="615" y="1181"/>
                    <a:pt x="514" y="1281"/>
                    <a:pt x="407" y="1395"/>
                  </a:cubicBezTo>
                  <a:cubicBezTo>
                    <a:pt x="300" y="1509"/>
                    <a:pt x="134" y="1654"/>
                    <a:pt x="67" y="1717"/>
                  </a:cubicBezTo>
                  <a:cubicBezTo>
                    <a:pt x="0" y="1780"/>
                    <a:pt x="14" y="1764"/>
                    <a:pt x="4" y="1773"/>
                  </a:cubicBezTo>
                </a:path>
              </a:pathLst>
            </a:custGeom>
            <a:solidFill>
              <a:srgbClr val="ff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238080" y="2828880"/>
              <a:ext cx="239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4 à 5% par 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79520" y="4842000"/>
              <a:ext cx="197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1,5% par 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866880" y="0"/>
            <a:ext cx="7605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 des visions conventionnelles, cela devrait donner c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312840" y="419040"/>
            <a:ext cx="8326440" cy="576756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78040" y="0"/>
            <a:ext cx="5790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ut-on utiliser des énergies renouvelab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61628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ion des énergies renouvelables au bilan énergétique mondial en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581360" y="682560"/>
            <a:ext cx="41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% par an = x 7 en 50 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62240" y="773280"/>
            <a:ext cx="336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-&gt; 7000 Mtep ?? ≈ 20% des terres émergée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78240" y="2054160"/>
            <a:ext cx="307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&gt; 4000 Mtep ? Multiplication par 7 des lac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968640" y="3906720"/>
            <a:ext cx="26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0 Mtep -&gt; 7000 Mtep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821200" y="4149720"/>
            <a:ext cx="111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208080" y="550800"/>
            <a:ext cx="582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lques éléments de réflex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87200" y="1128600"/>
            <a:ext cx="857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’accident de Tchernobyl, selon l’OMS, fera de quelques milliers à quelques dizaines de milliers de décès prématuré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n 40 a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le tabac, l’alcool, la voiture ou la « malbouffe » : environ un million chacun par an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87200" y="1849320"/>
            <a:ext cx="86169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 déchets nucléaires, en France, c’est 200 tonnes de matières par an qui sont à peu près aussi dangereuses que des phytosanitaires très agressi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7200" y="2492280"/>
            <a:ext cx="86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 réserves d’uranium accessibles si on y met le prix sont importantes (et en U238 ne constituent plus une limi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011240" y="0"/>
            <a:ext cx="28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nucléaire, alo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5986440"/>
            <a:ext cx="9144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 contribution du nucléaire à « la » solution : encore et toujours une question d’ordre de grandeur… et une évolution qui n’arrivera pas « toute seule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87200" y="4405320"/>
            <a:ext cx="30466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 aura-t-il les compétence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87200" y="4967280"/>
            <a:ext cx="7650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 aura-t-il la volonté en démocratie, avec 20 ans de préavi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87200" y="5415120"/>
            <a:ext cx="4437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Y aura-t-il les emplacements ? Etc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87200" y="3046320"/>
            <a:ext cx="86378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Mais…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4% de croissance sur 45 ans, c’est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2.500 réacteurs nucléaires en 2050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400 aujourd’hui), 5.000 si 50% de pertes après production de l’électricité (stockage, conversion en H</a:t>
            </a:r>
            <a:r>
              <a:rPr b="1" lang="fr-F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, etc),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10.000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si peu de contribution des renouvel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7200" y="3968640"/>
            <a:ext cx="8664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 aura-t-il les capitaux ? (2.500 réacteurs ≈ 5.000 G$, ≈ 15% du PIB mondial 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66600" y="3409920"/>
            <a:ext cx="471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ix du baril depuis 1861 en $ courants et en $ de 2004. Source BP Statistical Review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66880" y="0"/>
            <a:ext cx="77198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vrai prix des choses : le temps de travail pour se les p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0040" y="4921200"/>
            <a:ext cx="815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100 ans, le prix relatif de l’énergie - donc du carbone - a été divisé par 10 environ en Occident, et le prix d’un service énergétique par 20 à 30 -&gt; l’énergie est devenu quasi-invisible dans la formation des p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0" y="525600"/>
            <a:ext cx="4795920" cy="2889000"/>
          </a:xfrm>
          <a:prstGeom prst="rect">
            <a:avLst/>
          </a:prstGeom>
          <a:ln w="0">
            <a:noFill/>
          </a:ln>
        </p:spPr>
      </p:pic>
      <p:grpSp>
        <p:nvGrpSpPr>
          <p:cNvPr id="787" name=""/>
          <p:cNvGrpSpPr/>
          <p:nvPr/>
        </p:nvGrpSpPr>
        <p:grpSpPr>
          <a:xfrm>
            <a:off x="4800600" y="460440"/>
            <a:ext cx="4343400" cy="4253400"/>
            <a:chOff x="4800600" y="460440"/>
            <a:chExt cx="4343400" cy="4253400"/>
          </a:xfrm>
        </p:grpSpPr>
        <p:sp>
          <p:nvSpPr>
            <p:cNvPr id="788" name=""/>
            <p:cNvSpPr/>
            <p:nvPr/>
          </p:nvSpPr>
          <p:spPr>
            <a:xfrm>
              <a:off x="4842000" y="3519360"/>
              <a:ext cx="430200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Reconstruction du PIB par habitant depuis 1850 (le PIB est une notion qui date de la fin de la Seconde Guerre Mondia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ource :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J. Bradford DeLong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, 20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9" name="" descr=""/>
            <p:cNvPicPr/>
            <p:nvPr/>
          </p:nvPicPr>
          <p:blipFill>
            <a:blip r:embed="rId2"/>
            <a:stretch/>
          </p:blipFill>
          <p:spPr>
            <a:xfrm>
              <a:off x="4800600" y="460440"/>
              <a:ext cx="4343400" cy="305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546120" y="787320"/>
            <a:ext cx="8182080" cy="449424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0" y="5410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x du carburant exprimé en minutes de temps de travail par litre (prix rapporté au pouvoir d’achat) : rouler co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ûte 2 à 3 fois moins cher aujourd’hui qu’en 1970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urce FNAUT,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973080" y="0"/>
            <a:ext cx="6015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e essence de moins en moins chère, si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920880" y="0"/>
            <a:ext cx="5645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PIB, pas mieux qu’une masse sala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51040" y="1781280"/>
            <a:ext cx="1720800" cy="3789360"/>
          </a:xfrm>
          <a:prstGeom prst="rect">
            <a:avLst/>
          </a:prstGeom>
          <a:solidFill>
            <a:srgbClr val="e4b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57080" y="4622760"/>
            <a:ext cx="188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cks naturels non renouvel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20431800">
            <a:off x="1970640" y="2138760"/>
            <a:ext cx="4581360" cy="5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667" y="2691"/>
                </a:moveTo>
                <a:arcTo wR="10800" hR="10800" stAng="-7880023" swAng="6188593"/>
                <a:lnTo>
                  <a:pt x="10800" y="10800"/>
                </a:lnTo>
                <a:close/>
              </a:path>
              <a:path fill="none" w="21600" h="21600">
                <a:moveTo>
                  <a:pt x="3667" y="2691"/>
                </a:moveTo>
                <a:arcTo wR="10800" hR="10800" stAng="-7880023" swAng="618859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rot="19478400">
            <a:off x="3120840" y="2363400"/>
            <a:ext cx="454716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14" y="1118"/>
                </a:moveTo>
                <a:arcTo wR="10800" hR="10800" stAng="-6978187" swAng="3212118"/>
                <a:lnTo>
                  <a:pt x="10800" y="10800"/>
                </a:lnTo>
                <a:close/>
              </a:path>
              <a:path fill="none" w="21600" h="21600">
                <a:moveTo>
                  <a:pt x="6014" y="1118"/>
                </a:moveTo>
                <a:arcTo wR="10800" hR="10800" stAng="-6978187" swAng="321211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7408800" y="1225440"/>
            <a:ext cx="773280" cy="187200"/>
            <a:chOff x="7408800" y="1225440"/>
            <a:chExt cx="773280" cy="187200"/>
          </a:xfrm>
        </p:grpSpPr>
        <p:grpSp>
          <p:nvGrpSpPr>
            <p:cNvPr id="799" name=""/>
            <p:cNvGrpSpPr/>
            <p:nvPr/>
          </p:nvGrpSpPr>
          <p:grpSpPr>
            <a:xfrm>
              <a:off x="7503120" y="1301040"/>
              <a:ext cx="640440" cy="111600"/>
              <a:chOff x="7503120" y="1301040"/>
              <a:chExt cx="640440" cy="111600"/>
            </a:xfrm>
          </p:grpSpPr>
          <p:grpSp>
            <p:nvGrpSpPr>
              <p:cNvPr id="800" name=""/>
              <p:cNvGrpSpPr/>
              <p:nvPr/>
            </p:nvGrpSpPr>
            <p:grpSpPr>
              <a:xfrm>
                <a:off x="7671600" y="1301040"/>
                <a:ext cx="471960" cy="71640"/>
                <a:chOff x="7671600" y="1301040"/>
                <a:chExt cx="471960" cy="7164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8057880" y="1301040"/>
                  <a:ext cx="85680" cy="63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7671600" y="1309320"/>
                  <a:ext cx="145440" cy="63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3" name=""/>
              <p:cNvGrpSpPr/>
              <p:nvPr/>
            </p:nvGrpSpPr>
            <p:grpSpPr>
              <a:xfrm>
                <a:off x="7503120" y="1302480"/>
                <a:ext cx="636840" cy="110160"/>
                <a:chOff x="7503120" y="1302480"/>
                <a:chExt cx="636840" cy="110160"/>
              </a:xfrm>
            </p:grpSpPr>
            <p:grpSp>
              <p:nvGrpSpPr>
                <p:cNvPr id="804" name=""/>
                <p:cNvGrpSpPr/>
                <p:nvPr/>
              </p:nvGrpSpPr>
              <p:grpSpPr>
                <a:xfrm>
                  <a:off x="7677360" y="1302480"/>
                  <a:ext cx="462600" cy="110160"/>
                  <a:chOff x="7677360" y="1302480"/>
                  <a:chExt cx="462600" cy="110160"/>
                </a:xfrm>
              </p:grpSpPr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7677360" y="1302480"/>
                    <a:ext cx="133560" cy="110160"/>
                    <a:chOff x="7677360" y="1302480"/>
                    <a:chExt cx="133560" cy="110160"/>
                  </a:xfrm>
                </p:grpSpPr>
                <p:grpSp>
                  <p:nvGrpSpPr>
                    <p:cNvPr id="806" name=""/>
                    <p:cNvGrpSpPr/>
                    <p:nvPr/>
                  </p:nvGrpSpPr>
                  <p:grpSpPr>
                    <a:xfrm>
                      <a:off x="7677360" y="1302480"/>
                      <a:ext cx="133560" cy="110160"/>
                      <a:chOff x="7677360" y="1302480"/>
                      <a:chExt cx="133560" cy="110160"/>
                    </a:xfrm>
                  </p:grpSpPr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7692480" y="1320120"/>
                        <a:ext cx="102960" cy="92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720" bIns="18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8" name=""/>
                      <p:cNvSpPr/>
                      <p:nvPr/>
                    </p:nvSpPr>
                    <p:spPr>
                      <a:xfrm>
                        <a:off x="7678800" y="1302480"/>
                        <a:ext cx="113400" cy="11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2559" y="21456"/>
                            </a:moveTo>
                            <a:arcTo wR="10800" hR="10800" stAng="4837647" swAng="598963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2559" y="21456"/>
                            </a:moveTo>
                            <a:arcTo wR="10800" hR="10800" stAng="4837647" swAng="5989635"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9" name=""/>
                      <p:cNvSpPr/>
                      <p:nvPr/>
                    </p:nvSpPr>
                    <p:spPr>
                      <a:xfrm>
                        <a:off x="7677360" y="1320120"/>
                        <a:ext cx="133560" cy="7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740"/>
                            </a:moveTo>
                            <a:arcTo wR="10800" hR="10800" stAng="-10780795" swAng="536597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740"/>
                            </a:moveTo>
                            <a:arcTo wR="10800" hR="10800" stAng="-10780795" swAng="5365977"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1320" bIns="313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0" name=""/>
                    <p:cNvGrpSpPr/>
                    <p:nvPr/>
                  </p:nvGrpSpPr>
                  <p:grpSpPr>
                    <a:xfrm>
                      <a:off x="7716240" y="1338120"/>
                      <a:ext cx="58320" cy="55440"/>
                      <a:chOff x="7716240" y="1338120"/>
                      <a:chExt cx="58320" cy="55440"/>
                    </a:xfrm>
                  </p:grpSpPr>
                  <p:sp>
                    <p:nvSpPr>
                      <p:cNvPr id="811" name=""/>
                      <p:cNvSpPr/>
                      <p:nvPr/>
                    </p:nvSpPr>
                    <p:spPr>
                      <a:xfrm>
                        <a:off x="7716240" y="1338120"/>
                        <a:ext cx="58320" cy="554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255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7200" bIns="-7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12" name=""/>
                      <p:cNvGrpSpPr/>
                      <p:nvPr/>
                    </p:nvGrpSpPr>
                    <p:grpSpPr>
                      <a:xfrm>
                        <a:off x="7716960" y="1338840"/>
                        <a:ext cx="56520" cy="52920"/>
                        <a:chOff x="7716960" y="1338840"/>
                        <a:chExt cx="56520" cy="52920"/>
                      </a:xfrm>
                    </p:grpSpPr>
                    <p:sp>
                      <p:nvSpPr>
                        <p:cNvPr id="813" name=""/>
                        <p:cNvSpPr/>
                        <p:nvPr/>
                      </p:nvSpPr>
                      <p:spPr>
                        <a:xfrm>
                          <a:off x="7716960" y="1338840"/>
                          <a:ext cx="56520" cy="52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5" h="240">
                              <a:moveTo>
                                <a:pt x="122" y="2"/>
                              </a:moveTo>
                              <a:lnTo>
                                <a:pt x="128" y="96"/>
                              </a:lnTo>
                              <a:lnTo>
                                <a:pt x="190" y="85"/>
                              </a:lnTo>
                              <a:lnTo>
                                <a:pt x="193" y="99"/>
                              </a:lnTo>
                              <a:lnTo>
                                <a:pt x="194" y="112"/>
                              </a:lnTo>
                              <a:lnTo>
                                <a:pt x="142" y="143"/>
                              </a:lnTo>
                              <a:lnTo>
                                <a:pt x="162" y="220"/>
                              </a:lnTo>
                              <a:lnTo>
                                <a:pt x="150" y="230"/>
                              </a:lnTo>
                              <a:lnTo>
                                <a:pt x="142" y="239"/>
                              </a:lnTo>
                              <a:lnTo>
                                <a:pt x="107" y="159"/>
                              </a:lnTo>
                              <a:lnTo>
                                <a:pt x="48" y="236"/>
                              </a:lnTo>
                              <a:lnTo>
                                <a:pt x="36" y="227"/>
                              </a:lnTo>
                              <a:lnTo>
                                <a:pt x="26" y="214"/>
                              </a:lnTo>
                              <a:lnTo>
                                <a:pt x="73" y="140"/>
                              </a:lnTo>
                              <a:lnTo>
                                <a:pt x="0" y="93"/>
                              </a:lnTo>
                              <a:lnTo>
                                <a:pt x="7" y="70"/>
                              </a:lnTo>
                              <a:lnTo>
                                <a:pt x="14" y="65"/>
                              </a:lnTo>
                              <a:lnTo>
                                <a:pt x="83" y="94"/>
                              </a:lnTo>
                              <a:lnTo>
                                <a:pt x="94" y="0"/>
                              </a:lnTo>
                              <a:lnTo>
                                <a:pt x="122" y="2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cap="rnd" w="255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120" bIns="6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814" name=""/>
                        <p:cNvGrpSpPr/>
                        <p:nvPr/>
                      </p:nvGrpSpPr>
                      <p:grpSpPr>
                        <a:xfrm>
                          <a:off x="7753680" y="1362240"/>
                          <a:ext cx="4320" cy="3240"/>
                          <a:chOff x="7753680" y="1362240"/>
                          <a:chExt cx="4320" cy="3240"/>
                        </a:xfrm>
                      </p:grpSpPr>
                      <p:sp>
                        <p:nvSpPr>
                          <p:cNvPr id="815" name=""/>
                          <p:cNvSpPr/>
                          <p:nvPr/>
                        </p:nvSpPr>
                        <p:spPr>
                          <a:xfrm>
                            <a:off x="7753680" y="136224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16" name=""/>
                          <p:cNvSpPr/>
                          <p:nvPr/>
                        </p:nvSpPr>
                        <p:spPr>
                          <a:xfrm>
                            <a:off x="7755120" y="136332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17" name=""/>
                        <p:cNvGrpSpPr/>
                        <p:nvPr/>
                      </p:nvGrpSpPr>
                      <p:grpSpPr>
                        <a:xfrm>
                          <a:off x="7737120" y="1361520"/>
                          <a:ext cx="4320" cy="3240"/>
                          <a:chOff x="7737120" y="1361520"/>
                          <a:chExt cx="4320" cy="3240"/>
                        </a:xfrm>
                      </p:grpSpPr>
                      <p:sp>
                        <p:nvSpPr>
                          <p:cNvPr id="818" name=""/>
                          <p:cNvSpPr/>
                          <p:nvPr/>
                        </p:nvSpPr>
                        <p:spPr>
                          <a:xfrm>
                            <a:off x="7737120" y="136152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19" name=""/>
                          <p:cNvSpPr/>
                          <p:nvPr/>
                        </p:nvSpPr>
                        <p:spPr>
                          <a:xfrm>
                            <a:off x="7738200" y="1362600"/>
                            <a:ext cx="180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20" name=""/>
                        <p:cNvGrpSpPr/>
                        <p:nvPr/>
                      </p:nvGrpSpPr>
                      <p:grpSpPr>
                        <a:xfrm>
                          <a:off x="7746480" y="1356840"/>
                          <a:ext cx="4320" cy="3240"/>
                          <a:chOff x="7746480" y="1356840"/>
                          <a:chExt cx="4320" cy="3240"/>
                        </a:xfrm>
                      </p:grpSpPr>
                      <p:sp>
                        <p:nvSpPr>
                          <p:cNvPr id="821" name=""/>
                          <p:cNvSpPr/>
                          <p:nvPr/>
                        </p:nvSpPr>
                        <p:spPr>
                          <a:xfrm>
                            <a:off x="7746480" y="135684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2" name=""/>
                          <p:cNvSpPr/>
                          <p:nvPr/>
                        </p:nvSpPr>
                        <p:spPr>
                          <a:xfrm>
                            <a:off x="7747560" y="135792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23" name=""/>
                        <p:cNvGrpSpPr/>
                        <p:nvPr/>
                      </p:nvGrpSpPr>
                      <p:grpSpPr>
                        <a:xfrm>
                          <a:off x="7739640" y="1370520"/>
                          <a:ext cx="4320" cy="3240"/>
                          <a:chOff x="7739640" y="1370520"/>
                          <a:chExt cx="4320" cy="3240"/>
                        </a:xfrm>
                      </p:grpSpPr>
                      <p:sp>
                        <p:nvSpPr>
                          <p:cNvPr id="824" name=""/>
                          <p:cNvSpPr/>
                          <p:nvPr/>
                        </p:nvSpPr>
                        <p:spPr>
                          <a:xfrm>
                            <a:off x="7739640" y="137052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5" name=""/>
                          <p:cNvSpPr/>
                          <p:nvPr/>
                        </p:nvSpPr>
                        <p:spPr>
                          <a:xfrm>
                            <a:off x="7740720" y="137160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26" name=""/>
                        <p:cNvSpPr/>
                        <p:nvPr/>
                      </p:nvSpPr>
                      <p:spPr>
                        <a:xfrm>
                          <a:off x="7742520" y="1362240"/>
                          <a:ext cx="10080" cy="7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41760" bIns="-41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827" name=""/>
                        <p:cNvGrpSpPr/>
                        <p:nvPr/>
                      </p:nvGrpSpPr>
                      <p:grpSpPr>
                        <a:xfrm>
                          <a:off x="7751880" y="1370520"/>
                          <a:ext cx="4680" cy="3240"/>
                          <a:chOff x="7751880" y="1370520"/>
                          <a:chExt cx="4680" cy="3240"/>
                        </a:xfrm>
                      </p:grpSpPr>
                      <p:sp>
                        <p:nvSpPr>
                          <p:cNvPr id="828" name=""/>
                          <p:cNvSpPr/>
                          <p:nvPr/>
                        </p:nvSpPr>
                        <p:spPr>
                          <a:xfrm>
                            <a:off x="7751880" y="1370520"/>
                            <a:ext cx="468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9" name=""/>
                          <p:cNvSpPr/>
                          <p:nvPr/>
                        </p:nvSpPr>
                        <p:spPr>
                          <a:xfrm>
                            <a:off x="7753680" y="137160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30" name=""/>
                        <p:cNvGrpSpPr/>
                        <p:nvPr/>
                      </p:nvGrpSpPr>
                      <p:grpSpPr>
                        <a:xfrm>
                          <a:off x="7740720" y="1361880"/>
                          <a:ext cx="20880" cy="11160"/>
                          <a:chOff x="7740720" y="1361880"/>
                          <a:chExt cx="20880" cy="11160"/>
                        </a:xfrm>
                      </p:grpSpPr>
                      <p:sp>
                        <p:nvSpPr>
                          <p:cNvPr id="831" name=""/>
                          <p:cNvSpPr/>
                          <p:nvPr/>
                        </p:nvSpPr>
                        <p:spPr>
                          <a:xfrm flipH="1">
                            <a:off x="7744680" y="1361880"/>
                            <a:ext cx="12600" cy="25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2" name=""/>
                          <p:cNvSpPr/>
                          <p:nvPr/>
                        </p:nvSpPr>
                        <p:spPr>
                          <a:xfrm>
                            <a:off x="7742160" y="1362240"/>
                            <a:ext cx="360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3" name=""/>
                          <p:cNvSpPr/>
                          <p:nvPr/>
                        </p:nvSpPr>
                        <p:spPr>
                          <a:xfrm flipH="1" flipV="1">
                            <a:off x="7745040" y="1363680"/>
                            <a:ext cx="16560" cy="936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4" name=""/>
                          <p:cNvSpPr/>
                          <p:nvPr/>
                        </p:nvSpPr>
                        <p:spPr>
                          <a:xfrm flipV="1">
                            <a:off x="7740720" y="1363680"/>
                            <a:ext cx="1440" cy="79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5" name=""/>
                          <p:cNvSpPr/>
                          <p:nvPr/>
                        </p:nvSpPr>
                        <p:spPr>
                          <a:xfrm flipH="1">
                            <a:off x="7742880" y="1371960"/>
                            <a:ext cx="9360" cy="36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8033040" y="1314000"/>
                    <a:ext cx="106920" cy="78840"/>
                    <a:chOff x="8033040" y="1314000"/>
                    <a:chExt cx="106920" cy="78840"/>
                  </a:xfrm>
                </p:grpSpPr>
                <p:grpSp>
                  <p:nvGrpSpPr>
                    <p:cNvPr id="837" name=""/>
                    <p:cNvGrpSpPr/>
                    <p:nvPr/>
                  </p:nvGrpSpPr>
                  <p:grpSpPr>
                    <a:xfrm>
                      <a:off x="8033040" y="1314000"/>
                      <a:ext cx="106920" cy="78840"/>
                      <a:chOff x="8033040" y="1314000"/>
                      <a:chExt cx="106920" cy="78840"/>
                    </a:xfrm>
                  </p:grpSpPr>
                  <p:sp>
                    <p:nvSpPr>
                      <p:cNvPr id="838" name=""/>
                      <p:cNvSpPr/>
                      <p:nvPr/>
                    </p:nvSpPr>
                    <p:spPr>
                      <a:xfrm>
                        <a:off x="8044560" y="1314000"/>
                        <a:ext cx="89280" cy="788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000" bIns="9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9" name=""/>
                      <p:cNvSpPr/>
                      <p:nvPr/>
                    </p:nvSpPr>
                    <p:spPr>
                      <a:xfrm>
                        <a:off x="8033040" y="1329480"/>
                        <a:ext cx="106920" cy="6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742" y="21600"/>
                            </a:moveTo>
                            <a:arcTo wR="10800" hR="10800" stAng="5418611" swAng="542880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742" y="21600"/>
                            </a:moveTo>
                            <a:arcTo wR="10800" hR="10800" stAng="5418611" swAng="5428803"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6560" bIns="16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0" name=""/>
                    <p:cNvGrpSpPr/>
                    <p:nvPr/>
                  </p:nvGrpSpPr>
                  <p:grpSpPr>
                    <a:xfrm>
                      <a:off x="8054280" y="1330200"/>
                      <a:ext cx="63000" cy="46800"/>
                      <a:chOff x="8054280" y="1330200"/>
                      <a:chExt cx="63000" cy="46800"/>
                    </a:xfrm>
                  </p:grpSpPr>
                  <p:sp>
                    <p:nvSpPr>
                      <p:cNvPr id="841" name=""/>
                      <p:cNvSpPr/>
                      <p:nvPr/>
                    </p:nvSpPr>
                    <p:spPr>
                      <a:xfrm>
                        <a:off x="8056080" y="1330200"/>
                        <a:ext cx="60840" cy="468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255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2" name=""/>
                      <p:cNvSpPr/>
                      <p:nvPr/>
                    </p:nvSpPr>
                    <p:spPr>
                      <a:xfrm>
                        <a:off x="8054280" y="1330200"/>
                        <a:ext cx="63000" cy="46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212">
                            <a:moveTo>
                              <a:pt x="133" y="0"/>
                            </a:moveTo>
                            <a:lnTo>
                              <a:pt x="134" y="90"/>
                            </a:lnTo>
                            <a:lnTo>
                              <a:pt x="210" y="76"/>
                            </a:lnTo>
                            <a:lnTo>
                              <a:pt x="216" y="86"/>
                            </a:lnTo>
                            <a:lnTo>
                              <a:pt x="217" y="102"/>
                            </a:lnTo>
                            <a:lnTo>
                              <a:pt x="143" y="128"/>
                            </a:lnTo>
                            <a:lnTo>
                              <a:pt x="179" y="195"/>
                            </a:lnTo>
                            <a:lnTo>
                              <a:pt x="165" y="206"/>
                            </a:lnTo>
                            <a:lnTo>
                              <a:pt x="151" y="211"/>
                            </a:lnTo>
                            <a:lnTo>
                              <a:pt x="110" y="156"/>
                            </a:lnTo>
                            <a:lnTo>
                              <a:pt x="58" y="207"/>
                            </a:lnTo>
                            <a:lnTo>
                              <a:pt x="44" y="200"/>
                            </a:lnTo>
                            <a:lnTo>
                              <a:pt x="33" y="187"/>
                            </a:lnTo>
                            <a:lnTo>
                              <a:pt x="82" y="125"/>
                            </a:lnTo>
                            <a:lnTo>
                              <a:pt x="13" y="90"/>
                            </a:lnTo>
                            <a:lnTo>
                              <a:pt x="0" y="86"/>
                            </a:lnTo>
                            <a:lnTo>
                              <a:pt x="6" y="68"/>
                            </a:lnTo>
                            <a:lnTo>
                              <a:pt x="10" y="62"/>
                            </a:lnTo>
                            <a:lnTo>
                              <a:pt x="100" y="90"/>
                            </a:lnTo>
                            <a:lnTo>
                              <a:pt x="103" y="0"/>
                            </a:lnTo>
                            <a:lnTo>
                              <a:pt x="119" y="0"/>
                            </a:lnTo>
                            <a:lnTo>
                              <a:pt x="133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255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" bIns="-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43" name=""/>
                      <p:cNvGrpSpPr/>
                      <p:nvPr/>
                    </p:nvGrpSpPr>
                    <p:grpSpPr>
                      <a:xfrm>
                        <a:off x="8077320" y="1346040"/>
                        <a:ext cx="20880" cy="16920"/>
                        <a:chOff x="8077320" y="1346040"/>
                        <a:chExt cx="20880" cy="16920"/>
                      </a:xfrm>
                    </p:grpSpPr>
                    <p:grpSp>
                      <p:nvGrpSpPr>
                        <p:cNvPr id="844" name=""/>
                        <p:cNvGrpSpPr/>
                        <p:nvPr/>
                      </p:nvGrpSpPr>
                      <p:grpSpPr>
                        <a:xfrm>
                          <a:off x="8093880" y="1351080"/>
                          <a:ext cx="4320" cy="3240"/>
                          <a:chOff x="8093880" y="1351080"/>
                          <a:chExt cx="4320" cy="3240"/>
                        </a:xfrm>
                      </p:grpSpPr>
                      <p:sp>
                        <p:nvSpPr>
                          <p:cNvPr id="845" name=""/>
                          <p:cNvSpPr/>
                          <p:nvPr/>
                        </p:nvSpPr>
                        <p:spPr>
                          <a:xfrm>
                            <a:off x="8093880" y="135108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6" name=""/>
                          <p:cNvSpPr/>
                          <p:nvPr/>
                        </p:nvSpPr>
                        <p:spPr>
                          <a:xfrm>
                            <a:off x="8095320" y="135216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47" name=""/>
                        <p:cNvGrpSpPr/>
                        <p:nvPr/>
                      </p:nvGrpSpPr>
                      <p:grpSpPr>
                        <a:xfrm>
                          <a:off x="8077320" y="1350720"/>
                          <a:ext cx="4320" cy="3240"/>
                          <a:chOff x="8077320" y="1350720"/>
                          <a:chExt cx="4320" cy="3240"/>
                        </a:xfrm>
                      </p:grpSpPr>
                      <p:sp>
                        <p:nvSpPr>
                          <p:cNvPr id="848" name=""/>
                          <p:cNvSpPr/>
                          <p:nvPr/>
                        </p:nvSpPr>
                        <p:spPr>
                          <a:xfrm>
                            <a:off x="8077320" y="135072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9" name=""/>
                          <p:cNvSpPr/>
                          <p:nvPr/>
                        </p:nvSpPr>
                        <p:spPr>
                          <a:xfrm>
                            <a:off x="8078760" y="135180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50" name=""/>
                        <p:cNvGrpSpPr/>
                        <p:nvPr/>
                      </p:nvGrpSpPr>
                      <p:grpSpPr>
                        <a:xfrm>
                          <a:off x="8086320" y="1346040"/>
                          <a:ext cx="4680" cy="3240"/>
                          <a:chOff x="8086320" y="1346040"/>
                          <a:chExt cx="4680" cy="3240"/>
                        </a:xfrm>
                      </p:grpSpPr>
                      <p:sp>
                        <p:nvSpPr>
                          <p:cNvPr id="851" name=""/>
                          <p:cNvSpPr/>
                          <p:nvPr/>
                        </p:nvSpPr>
                        <p:spPr>
                          <a:xfrm>
                            <a:off x="8086320" y="1346040"/>
                            <a:ext cx="468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52" name=""/>
                          <p:cNvSpPr/>
                          <p:nvPr/>
                        </p:nvSpPr>
                        <p:spPr>
                          <a:xfrm>
                            <a:off x="8088120" y="134712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53" name=""/>
                        <p:cNvGrpSpPr/>
                        <p:nvPr/>
                      </p:nvGrpSpPr>
                      <p:grpSpPr>
                        <a:xfrm>
                          <a:off x="8079480" y="1359360"/>
                          <a:ext cx="4680" cy="3240"/>
                          <a:chOff x="8079480" y="1359360"/>
                          <a:chExt cx="4680" cy="3240"/>
                        </a:xfrm>
                      </p:grpSpPr>
                      <p:sp>
                        <p:nvSpPr>
                          <p:cNvPr id="854" name=""/>
                          <p:cNvSpPr/>
                          <p:nvPr/>
                        </p:nvSpPr>
                        <p:spPr>
                          <a:xfrm>
                            <a:off x="8079480" y="1359360"/>
                            <a:ext cx="468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55" name=""/>
                          <p:cNvSpPr/>
                          <p:nvPr/>
                        </p:nvSpPr>
                        <p:spPr>
                          <a:xfrm>
                            <a:off x="8081280" y="136044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56" name=""/>
                        <p:cNvGrpSpPr/>
                        <p:nvPr/>
                      </p:nvGrpSpPr>
                      <p:grpSpPr>
                        <a:xfrm>
                          <a:off x="8090280" y="1359720"/>
                          <a:ext cx="4680" cy="3240"/>
                          <a:chOff x="8090280" y="1359720"/>
                          <a:chExt cx="4680" cy="3240"/>
                        </a:xfrm>
                      </p:grpSpPr>
                      <p:sp>
                        <p:nvSpPr>
                          <p:cNvPr id="857" name=""/>
                          <p:cNvSpPr/>
                          <p:nvPr/>
                        </p:nvSpPr>
                        <p:spPr>
                          <a:xfrm>
                            <a:off x="8090280" y="1359720"/>
                            <a:ext cx="468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58" name=""/>
                          <p:cNvSpPr/>
                          <p:nvPr/>
                        </p:nvSpPr>
                        <p:spPr>
                          <a:xfrm>
                            <a:off x="8091720" y="136080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59" name=""/>
                      <p:cNvGrpSpPr/>
                      <p:nvPr/>
                    </p:nvGrpSpPr>
                    <p:grpSpPr>
                      <a:xfrm>
                        <a:off x="8080560" y="1351080"/>
                        <a:ext cx="17640" cy="11520"/>
                        <a:chOff x="8080560" y="1351080"/>
                        <a:chExt cx="17640" cy="11520"/>
                      </a:xfrm>
                    </p:grpSpPr>
                    <p:grpSp>
                      <p:nvGrpSpPr>
                        <p:cNvPr id="860" name=""/>
                        <p:cNvGrpSpPr/>
                        <p:nvPr/>
                      </p:nvGrpSpPr>
                      <p:grpSpPr>
                        <a:xfrm>
                          <a:off x="8080560" y="1351080"/>
                          <a:ext cx="17640" cy="10800"/>
                          <a:chOff x="8080560" y="1351080"/>
                          <a:chExt cx="17640" cy="10800"/>
                        </a:xfrm>
                      </p:grpSpPr>
                      <p:sp>
                        <p:nvSpPr>
                          <p:cNvPr id="861" name=""/>
                          <p:cNvSpPr/>
                          <p:nvPr/>
                        </p:nvSpPr>
                        <p:spPr>
                          <a:xfrm>
                            <a:off x="8083080" y="1351440"/>
                            <a:ext cx="9720" cy="756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1400" bIns="-414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62" name=""/>
                          <p:cNvSpPr/>
                          <p:nvPr/>
                        </p:nvSpPr>
                        <p:spPr>
                          <a:xfrm flipH="1">
                            <a:off x="8084880" y="1351080"/>
                            <a:ext cx="12600" cy="25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63" name=""/>
                          <p:cNvSpPr/>
                          <p:nvPr/>
                        </p:nvSpPr>
                        <p:spPr>
                          <a:xfrm>
                            <a:off x="8082360" y="1351440"/>
                            <a:ext cx="324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64" name=""/>
                          <p:cNvSpPr/>
                          <p:nvPr/>
                        </p:nvSpPr>
                        <p:spPr>
                          <a:xfrm flipH="1" flipV="1">
                            <a:off x="8084880" y="1353240"/>
                            <a:ext cx="13320" cy="864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160" bIns="-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65" name=""/>
                          <p:cNvSpPr/>
                          <p:nvPr/>
                        </p:nvSpPr>
                        <p:spPr>
                          <a:xfrm flipV="1">
                            <a:off x="8080560" y="1352880"/>
                            <a:ext cx="1800" cy="79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66" name=""/>
                        <p:cNvSpPr/>
                        <p:nvPr/>
                      </p:nvSpPr>
                      <p:spPr>
                        <a:xfrm flipH="1">
                          <a:off x="8081640" y="1361520"/>
                          <a:ext cx="10080" cy="108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867" name=""/>
                <p:cNvGrpSpPr/>
                <p:nvPr/>
              </p:nvGrpSpPr>
              <p:grpSpPr>
                <a:xfrm>
                  <a:off x="7503120" y="1305360"/>
                  <a:ext cx="543600" cy="91800"/>
                  <a:chOff x="7503120" y="1305360"/>
                  <a:chExt cx="543600" cy="91800"/>
                </a:xfrm>
              </p:grpSpPr>
              <p:grpSp>
                <p:nvGrpSpPr>
                  <p:cNvPr id="868" name=""/>
                  <p:cNvGrpSpPr/>
                  <p:nvPr/>
                </p:nvGrpSpPr>
                <p:grpSpPr>
                  <a:xfrm>
                    <a:off x="7503120" y="1305360"/>
                    <a:ext cx="543600" cy="91800"/>
                    <a:chOff x="7503120" y="1305360"/>
                    <a:chExt cx="543600" cy="91800"/>
                  </a:xfrm>
                </p:grpSpPr>
                <p:grpSp>
                  <p:nvGrpSpPr>
                    <p:cNvPr id="869" name=""/>
                    <p:cNvGrpSpPr/>
                    <p:nvPr/>
                  </p:nvGrpSpPr>
                  <p:grpSpPr>
                    <a:xfrm>
                      <a:off x="7503120" y="1305360"/>
                      <a:ext cx="462960" cy="91800"/>
                      <a:chOff x="7503120" y="1305360"/>
                      <a:chExt cx="462960" cy="91800"/>
                    </a:xfrm>
                  </p:grpSpPr>
                  <p:sp>
                    <p:nvSpPr>
                      <p:cNvPr id="870" name=""/>
                      <p:cNvSpPr/>
                      <p:nvPr/>
                    </p:nvSpPr>
                    <p:spPr>
                      <a:xfrm>
                        <a:off x="7503120" y="1305360"/>
                        <a:ext cx="102960" cy="918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360" bIns="18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1" name=""/>
                      <p:cNvSpPr/>
                      <p:nvPr/>
                    </p:nvSpPr>
                    <p:spPr>
                      <a:xfrm>
                        <a:off x="7869960" y="1330200"/>
                        <a:ext cx="96120" cy="554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7200" bIns="-7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2" name=""/>
                    <p:cNvSpPr/>
                    <p:nvPr/>
                  </p:nvSpPr>
                  <p:spPr>
                    <a:xfrm>
                      <a:off x="7940880" y="1356840"/>
                      <a:ext cx="10584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6" h="67">
                          <a:moveTo>
                            <a:pt x="353" y="60"/>
                          </a:moveTo>
                          <a:lnTo>
                            <a:pt x="0" y="66"/>
                          </a:lnTo>
                          <a:lnTo>
                            <a:pt x="0" y="0"/>
                          </a:lnTo>
                          <a:lnTo>
                            <a:pt x="365" y="16"/>
                          </a:lnTo>
                          <a:lnTo>
                            <a:pt x="353" y="6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3" name=""/>
                  <p:cNvSpPr/>
                  <p:nvPr/>
                </p:nvSpPr>
                <p:spPr>
                  <a:xfrm>
                    <a:off x="7514640" y="1359360"/>
                    <a:ext cx="1782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99">
                        <a:moveTo>
                          <a:pt x="590" y="98"/>
                        </a:moveTo>
                        <a:lnTo>
                          <a:pt x="37" y="63"/>
                        </a:lnTo>
                        <a:lnTo>
                          <a:pt x="0" y="0"/>
                        </a:lnTo>
                        <a:lnTo>
                          <a:pt x="615" y="34"/>
                        </a:lnTo>
                        <a:lnTo>
                          <a:pt x="590" y="98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74" name=""/>
            <p:cNvGrpSpPr/>
            <p:nvPr/>
          </p:nvGrpSpPr>
          <p:grpSpPr>
            <a:xfrm>
              <a:off x="7408800" y="1225440"/>
              <a:ext cx="773280" cy="156960"/>
              <a:chOff x="7408800" y="1225440"/>
              <a:chExt cx="773280" cy="156960"/>
            </a:xfrm>
          </p:grpSpPr>
          <p:grpSp>
            <p:nvGrpSpPr>
              <p:cNvPr id="875" name=""/>
              <p:cNvGrpSpPr/>
              <p:nvPr/>
            </p:nvGrpSpPr>
            <p:grpSpPr>
              <a:xfrm>
                <a:off x="7538400" y="1228680"/>
                <a:ext cx="469080" cy="55800"/>
                <a:chOff x="7538400" y="1228680"/>
                <a:chExt cx="469080" cy="55800"/>
              </a:xfrm>
            </p:grpSpPr>
            <p:sp>
              <p:nvSpPr>
                <p:cNvPr id="876" name=""/>
                <p:cNvSpPr/>
                <p:nvPr/>
              </p:nvSpPr>
              <p:spPr>
                <a:xfrm>
                  <a:off x="7782480" y="1232280"/>
                  <a:ext cx="225000" cy="52200"/>
                </a:xfrm>
                <a:custGeom>
                  <a:avLst/>
                  <a:gdLst/>
                  <a:ahLst/>
                  <a:rect l="l" t="t" r="r" b="b"/>
                  <a:pathLst>
                    <a:path w="778" h="238">
                      <a:moveTo>
                        <a:pt x="745" y="210"/>
                      </a:moveTo>
                      <a:lnTo>
                        <a:pt x="698" y="177"/>
                      </a:lnTo>
                      <a:lnTo>
                        <a:pt x="647" y="146"/>
                      </a:lnTo>
                      <a:lnTo>
                        <a:pt x="596" y="115"/>
                      </a:lnTo>
                      <a:lnTo>
                        <a:pt x="555" y="90"/>
                      </a:lnTo>
                      <a:lnTo>
                        <a:pt x="507" y="60"/>
                      </a:lnTo>
                      <a:lnTo>
                        <a:pt x="481" y="45"/>
                      </a:lnTo>
                      <a:lnTo>
                        <a:pt x="463" y="36"/>
                      </a:lnTo>
                      <a:lnTo>
                        <a:pt x="444" y="29"/>
                      </a:lnTo>
                      <a:lnTo>
                        <a:pt x="432" y="26"/>
                      </a:lnTo>
                      <a:lnTo>
                        <a:pt x="420" y="22"/>
                      </a:lnTo>
                      <a:lnTo>
                        <a:pt x="388" y="16"/>
                      </a:lnTo>
                      <a:lnTo>
                        <a:pt x="282" y="8"/>
                      </a:lnTo>
                      <a:lnTo>
                        <a:pt x="216" y="4"/>
                      </a:lnTo>
                      <a:lnTo>
                        <a:pt x="142" y="0"/>
                      </a:lnTo>
                      <a:lnTo>
                        <a:pt x="98" y="0"/>
                      </a:lnTo>
                      <a:lnTo>
                        <a:pt x="78" y="0"/>
                      </a:lnTo>
                      <a:lnTo>
                        <a:pt x="65" y="2"/>
                      </a:lnTo>
                      <a:lnTo>
                        <a:pt x="54" y="6"/>
                      </a:lnTo>
                      <a:lnTo>
                        <a:pt x="46" y="13"/>
                      </a:lnTo>
                      <a:lnTo>
                        <a:pt x="40" y="19"/>
                      </a:lnTo>
                      <a:lnTo>
                        <a:pt x="35" y="35"/>
                      </a:lnTo>
                      <a:lnTo>
                        <a:pt x="30" y="49"/>
                      </a:lnTo>
                      <a:lnTo>
                        <a:pt x="25" y="70"/>
                      </a:lnTo>
                      <a:lnTo>
                        <a:pt x="8" y="173"/>
                      </a:lnTo>
                      <a:lnTo>
                        <a:pt x="4" y="186"/>
                      </a:lnTo>
                      <a:lnTo>
                        <a:pt x="2" y="193"/>
                      </a:lnTo>
                      <a:lnTo>
                        <a:pt x="0" y="203"/>
                      </a:lnTo>
                      <a:lnTo>
                        <a:pt x="1" y="209"/>
                      </a:lnTo>
                      <a:lnTo>
                        <a:pt x="4" y="215"/>
                      </a:lnTo>
                      <a:lnTo>
                        <a:pt x="11" y="222"/>
                      </a:lnTo>
                      <a:lnTo>
                        <a:pt x="26" y="223"/>
                      </a:lnTo>
                      <a:lnTo>
                        <a:pt x="176" y="226"/>
                      </a:lnTo>
                      <a:lnTo>
                        <a:pt x="391" y="232"/>
                      </a:lnTo>
                      <a:lnTo>
                        <a:pt x="729" y="236"/>
                      </a:lnTo>
                      <a:lnTo>
                        <a:pt x="668" y="214"/>
                      </a:lnTo>
                      <a:lnTo>
                        <a:pt x="243" y="203"/>
                      </a:lnTo>
                      <a:lnTo>
                        <a:pt x="238" y="181"/>
                      </a:lnTo>
                      <a:lnTo>
                        <a:pt x="233" y="162"/>
                      </a:lnTo>
                      <a:lnTo>
                        <a:pt x="225" y="142"/>
                      </a:lnTo>
                      <a:lnTo>
                        <a:pt x="218" y="126"/>
                      </a:lnTo>
                      <a:lnTo>
                        <a:pt x="153" y="135"/>
                      </a:lnTo>
                      <a:lnTo>
                        <a:pt x="111" y="135"/>
                      </a:lnTo>
                      <a:lnTo>
                        <a:pt x="43" y="67"/>
                      </a:lnTo>
                      <a:lnTo>
                        <a:pt x="62" y="65"/>
                      </a:lnTo>
                      <a:lnTo>
                        <a:pt x="124" y="67"/>
                      </a:lnTo>
                      <a:lnTo>
                        <a:pt x="132" y="83"/>
                      </a:lnTo>
                      <a:lnTo>
                        <a:pt x="142" y="104"/>
                      </a:lnTo>
                      <a:lnTo>
                        <a:pt x="147" y="120"/>
                      </a:lnTo>
                      <a:lnTo>
                        <a:pt x="154" y="135"/>
                      </a:lnTo>
                      <a:lnTo>
                        <a:pt x="218" y="126"/>
                      </a:lnTo>
                      <a:lnTo>
                        <a:pt x="209" y="105"/>
                      </a:lnTo>
                      <a:lnTo>
                        <a:pt x="196" y="82"/>
                      </a:lnTo>
                      <a:lnTo>
                        <a:pt x="187" y="64"/>
                      </a:lnTo>
                      <a:lnTo>
                        <a:pt x="388" y="70"/>
                      </a:lnTo>
                      <a:lnTo>
                        <a:pt x="441" y="73"/>
                      </a:lnTo>
                      <a:lnTo>
                        <a:pt x="459" y="75"/>
                      </a:lnTo>
                      <a:lnTo>
                        <a:pt x="486" y="89"/>
                      </a:lnTo>
                      <a:lnTo>
                        <a:pt x="524" y="112"/>
                      </a:lnTo>
                      <a:lnTo>
                        <a:pt x="563" y="139"/>
                      </a:lnTo>
                      <a:lnTo>
                        <a:pt x="600" y="163"/>
                      </a:lnTo>
                      <a:lnTo>
                        <a:pt x="639" y="191"/>
                      </a:lnTo>
                      <a:lnTo>
                        <a:pt x="668" y="213"/>
                      </a:lnTo>
                      <a:lnTo>
                        <a:pt x="732" y="236"/>
                      </a:lnTo>
                      <a:lnTo>
                        <a:pt x="777" y="237"/>
                      </a:lnTo>
                      <a:lnTo>
                        <a:pt x="745" y="2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7538400" y="1228680"/>
                  <a:ext cx="194760" cy="42480"/>
                </a:xfrm>
                <a:custGeom>
                  <a:avLst/>
                  <a:gdLst/>
                  <a:ahLst/>
                  <a:rect l="l" t="t" r="r" b="b"/>
                  <a:pathLst>
                    <a:path w="673" h="193">
                      <a:moveTo>
                        <a:pt x="638" y="2"/>
                      </a:moveTo>
                      <a:lnTo>
                        <a:pt x="649" y="3"/>
                      </a:lnTo>
                      <a:lnTo>
                        <a:pt x="659" y="7"/>
                      </a:lnTo>
                      <a:lnTo>
                        <a:pt x="667" y="12"/>
                      </a:lnTo>
                      <a:lnTo>
                        <a:pt x="671" y="19"/>
                      </a:lnTo>
                      <a:lnTo>
                        <a:pt x="672" y="30"/>
                      </a:lnTo>
                      <a:lnTo>
                        <a:pt x="670" y="39"/>
                      </a:lnTo>
                      <a:lnTo>
                        <a:pt x="664" y="59"/>
                      </a:lnTo>
                      <a:lnTo>
                        <a:pt x="658" y="76"/>
                      </a:lnTo>
                      <a:lnTo>
                        <a:pt x="644" y="72"/>
                      </a:lnTo>
                      <a:lnTo>
                        <a:pt x="625" y="71"/>
                      </a:lnTo>
                      <a:lnTo>
                        <a:pt x="601" y="71"/>
                      </a:lnTo>
                      <a:lnTo>
                        <a:pt x="561" y="71"/>
                      </a:lnTo>
                      <a:lnTo>
                        <a:pt x="552" y="78"/>
                      </a:lnTo>
                      <a:lnTo>
                        <a:pt x="546" y="89"/>
                      </a:lnTo>
                      <a:lnTo>
                        <a:pt x="540" y="101"/>
                      </a:lnTo>
                      <a:lnTo>
                        <a:pt x="535" y="111"/>
                      </a:lnTo>
                      <a:lnTo>
                        <a:pt x="529" y="125"/>
                      </a:lnTo>
                      <a:lnTo>
                        <a:pt x="523" y="140"/>
                      </a:lnTo>
                      <a:lnTo>
                        <a:pt x="519" y="153"/>
                      </a:lnTo>
                      <a:lnTo>
                        <a:pt x="518" y="162"/>
                      </a:lnTo>
                      <a:lnTo>
                        <a:pt x="514" y="188"/>
                      </a:lnTo>
                      <a:lnTo>
                        <a:pt x="456" y="191"/>
                      </a:lnTo>
                      <a:lnTo>
                        <a:pt x="427" y="191"/>
                      </a:lnTo>
                      <a:lnTo>
                        <a:pt x="435" y="156"/>
                      </a:lnTo>
                      <a:lnTo>
                        <a:pt x="440" y="138"/>
                      </a:lnTo>
                      <a:lnTo>
                        <a:pt x="447" y="119"/>
                      </a:lnTo>
                      <a:lnTo>
                        <a:pt x="453" y="103"/>
                      </a:lnTo>
                      <a:lnTo>
                        <a:pt x="464" y="76"/>
                      </a:lnTo>
                      <a:lnTo>
                        <a:pt x="447" y="80"/>
                      </a:lnTo>
                      <a:lnTo>
                        <a:pt x="427" y="85"/>
                      </a:lnTo>
                      <a:lnTo>
                        <a:pt x="408" y="93"/>
                      </a:lnTo>
                      <a:lnTo>
                        <a:pt x="389" y="105"/>
                      </a:lnTo>
                      <a:lnTo>
                        <a:pt x="369" y="119"/>
                      </a:lnTo>
                      <a:lnTo>
                        <a:pt x="352" y="132"/>
                      </a:lnTo>
                      <a:lnTo>
                        <a:pt x="337" y="151"/>
                      </a:lnTo>
                      <a:lnTo>
                        <a:pt x="307" y="192"/>
                      </a:lnTo>
                      <a:lnTo>
                        <a:pt x="152" y="192"/>
                      </a:lnTo>
                      <a:lnTo>
                        <a:pt x="0" y="191"/>
                      </a:lnTo>
                      <a:lnTo>
                        <a:pt x="138" y="106"/>
                      </a:lnTo>
                      <a:lnTo>
                        <a:pt x="213" y="62"/>
                      </a:lnTo>
                      <a:lnTo>
                        <a:pt x="259" y="36"/>
                      </a:lnTo>
                      <a:lnTo>
                        <a:pt x="295" y="21"/>
                      </a:lnTo>
                      <a:lnTo>
                        <a:pt x="313" y="16"/>
                      </a:lnTo>
                      <a:lnTo>
                        <a:pt x="340" y="12"/>
                      </a:lnTo>
                      <a:lnTo>
                        <a:pt x="429" y="9"/>
                      </a:lnTo>
                      <a:lnTo>
                        <a:pt x="566" y="0"/>
                      </a:lnTo>
                      <a:lnTo>
                        <a:pt x="627" y="0"/>
                      </a:lnTo>
                      <a:lnTo>
                        <a:pt x="638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8" name=""/>
              <p:cNvSpPr/>
              <p:nvPr/>
            </p:nvSpPr>
            <p:spPr>
              <a:xfrm>
                <a:off x="7408800" y="1225440"/>
                <a:ext cx="773280" cy="156960"/>
              </a:xfrm>
              <a:custGeom>
                <a:avLst/>
                <a:gdLst/>
                <a:ahLst/>
                <a:rect l="l" t="t" r="r" b="b"/>
                <a:pathLst>
                  <a:path w="2672" h="716">
                    <a:moveTo>
                      <a:pt x="2635" y="463"/>
                    </a:moveTo>
                    <a:lnTo>
                      <a:pt x="2602" y="385"/>
                    </a:lnTo>
                    <a:lnTo>
                      <a:pt x="2593" y="372"/>
                    </a:lnTo>
                    <a:lnTo>
                      <a:pt x="2578" y="359"/>
                    </a:lnTo>
                    <a:lnTo>
                      <a:pt x="2560" y="349"/>
                    </a:lnTo>
                    <a:lnTo>
                      <a:pt x="2494" y="328"/>
                    </a:lnTo>
                    <a:lnTo>
                      <a:pt x="2391" y="305"/>
                    </a:lnTo>
                    <a:lnTo>
                      <a:pt x="2279" y="282"/>
                    </a:lnTo>
                    <a:lnTo>
                      <a:pt x="2176" y="261"/>
                    </a:lnTo>
                    <a:lnTo>
                      <a:pt x="2077" y="243"/>
                    </a:lnTo>
                    <a:lnTo>
                      <a:pt x="2057" y="271"/>
                    </a:lnTo>
                    <a:lnTo>
                      <a:pt x="2025" y="277"/>
                    </a:lnTo>
                    <a:lnTo>
                      <a:pt x="1984" y="277"/>
                    </a:lnTo>
                    <a:lnTo>
                      <a:pt x="1851" y="274"/>
                    </a:lnTo>
                    <a:lnTo>
                      <a:pt x="1647" y="271"/>
                    </a:lnTo>
                    <a:lnTo>
                      <a:pt x="1379" y="264"/>
                    </a:lnTo>
                    <a:lnTo>
                      <a:pt x="1308" y="264"/>
                    </a:lnTo>
                    <a:lnTo>
                      <a:pt x="1295" y="263"/>
                    </a:lnTo>
                    <a:lnTo>
                      <a:pt x="1288" y="255"/>
                    </a:lnTo>
                    <a:lnTo>
                      <a:pt x="1285" y="247"/>
                    </a:lnTo>
                    <a:lnTo>
                      <a:pt x="1285" y="239"/>
                    </a:lnTo>
                    <a:lnTo>
                      <a:pt x="1286" y="232"/>
                    </a:lnTo>
                    <a:lnTo>
                      <a:pt x="1288" y="226"/>
                    </a:lnTo>
                    <a:lnTo>
                      <a:pt x="1290" y="216"/>
                    </a:lnTo>
                    <a:lnTo>
                      <a:pt x="1310" y="102"/>
                    </a:lnTo>
                    <a:lnTo>
                      <a:pt x="1320" y="68"/>
                    </a:lnTo>
                    <a:lnTo>
                      <a:pt x="1326" y="51"/>
                    </a:lnTo>
                    <a:lnTo>
                      <a:pt x="1337" y="40"/>
                    </a:lnTo>
                    <a:lnTo>
                      <a:pt x="1348" y="35"/>
                    </a:lnTo>
                    <a:lnTo>
                      <a:pt x="1364" y="33"/>
                    </a:lnTo>
                    <a:lnTo>
                      <a:pt x="1400" y="33"/>
                    </a:lnTo>
                    <a:lnTo>
                      <a:pt x="1493" y="36"/>
                    </a:lnTo>
                    <a:lnTo>
                      <a:pt x="1572" y="41"/>
                    </a:lnTo>
                    <a:lnTo>
                      <a:pt x="1666" y="49"/>
                    </a:lnTo>
                    <a:lnTo>
                      <a:pt x="1692" y="53"/>
                    </a:lnTo>
                    <a:lnTo>
                      <a:pt x="1714" y="57"/>
                    </a:lnTo>
                    <a:lnTo>
                      <a:pt x="1734" y="63"/>
                    </a:lnTo>
                    <a:lnTo>
                      <a:pt x="1754" y="71"/>
                    </a:lnTo>
                    <a:lnTo>
                      <a:pt x="1776" y="82"/>
                    </a:lnTo>
                    <a:lnTo>
                      <a:pt x="1865" y="138"/>
                    </a:lnTo>
                    <a:lnTo>
                      <a:pt x="2059" y="261"/>
                    </a:lnTo>
                    <a:lnTo>
                      <a:pt x="2070" y="246"/>
                    </a:lnTo>
                    <a:lnTo>
                      <a:pt x="1954" y="171"/>
                    </a:lnTo>
                    <a:lnTo>
                      <a:pt x="1882" y="126"/>
                    </a:lnTo>
                    <a:lnTo>
                      <a:pt x="1775" y="60"/>
                    </a:lnTo>
                    <a:lnTo>
                      <a:pt x="1752" y="49"/>
                    </a:lnTo>
                    <a:lnTo>
                      <a:pt x="1733" y="42"/>
                    </a:lnTo>
                    <a:lnTo>
                      <a:pt x="1715" y="37"/>
                    </a:lnTo>
                    <a:lnTo>
                      <a:pt x="1700" y="33"/>
                    </a:lnTo>
                    <a:lnTo>
                      <a:pt x="1671" y="29"/>
                    </a:lnTo>
                    <a:lnTo>
                      <a:pt x="1626" y="22"/>
                    </a:lnTo>
                    <a:lnTo>
                      <a:pt x="1482" y="7"/>
                    </a:lnTo>
                    <a:lnTo>
                      <a:pt x="1348" y="0"/>
                    </a:lnTo>
                    <a:lnTo>
                      <a:pt x="1221" y="0"/>
                    </a:lnTo>
                    <a:lnTo>
                      <a:pt x="1102" y="0"/>
                    </a:lnTo>
                    <a:lnTo>
                      <a:pt x="1030" y="1"/>
                    </a:lnTo>
                    <a:lnTo>
                      <a:pt x="920" y="8"/>
                    </a:lnTo>
                    <a:lnTo>
                      <a:pt x="850" y="13"/>
                    </a:lnTo>
                    <a:lnTo>
                      <a:pt x="820" y="16"/>
                    </a:lnTo>
                    <a:lnTo>
                      <a:pt x="794" y="21"/>
                    </a:lnTo>
                    <a:lnTo>
                      <a:pt x="772" y="26"/>
                    </a:lnTo>
                    <a:lnTo>
                      <a:pt x="754" y="33"/>
                    </a:lnTo>
                    <a:lnTo>
                      <a:pt x="777" y="29"/>
                    </a:lnTo>
                    <a:lnTo>
                      <a:pt x="800" y="29"/>
                    </a:lnTo>
                    <a:lnTo>
                      <a:pt x="829" y="26"/>
                    </a:lnTo>
                    <a:lnTo>
                      <a:pt x="878" y="23"/>
                    </a:lnTo>
                    <a:lnTo>
                      <a:pt x="943" y="19"/>
                    </a:lnTo>
                    <a:lnTo>
                      <a:pt x="1045" y="15"/>
                    </a:lnTo>
                    <a:lnTo>
                      <a:pt x="1074" y="16"/>
                    </a:lnTo>
                    <a:lnTo>
                      <a:pt x="1094" y="19"/>
                    </a:lnTo>
                    <a:lnTo>
                      <a:pt x="1105" y="22"/>
                    </a:lnTo>
                    <a:lnTo>
                      <a:pt x="1113" y="26"/>
                    </a:lnTo>
                    <a:lnTo>
                      <a:pt x="1118" y="33"/>
                    </a:lnTo>
                    <a:lnTo>
                      <a:pt x="1120" y="39"/>
                    </a:lnTo>
                    <a:lnTo>
                      <a:pt x="1120" y="49"/>
                    </a:lnTo>
                    <a:lnTo>
                      <a:pt x="1118" y="59"/>
                    </a:lnTo>
                    <a:lnTo>
                      <a:pt x="1078" y="167"/>
                    </a:lnTo>
                    <a:lnTo>
                      <a:pt x="1066" y="185"/>
                    </a:lnTo>
                    <a:lnTo>
                      <a:pt x="1061" y="192"/>
                    </a:lnTo>
                    <a:lnTo>
                      <a:pt x="1054" y="199"/>
                    </a:lnTo>
                    <a:lnTo>
                      <a:pt x="1046" y="204"/>
                    </a:lnTo>
                    <a:lnTo>
                      <a:pt x="1036" y="208"/>
                    </a:lnTo>
                    <a:lnTo>
                      <a:pt x="1026" y="212"/>
                    </a:lnTo>
                    <a:lnTo>
                      <a:pt x="1010" y="212"/>
                    </a:lnTo>
                    <a:lnTo>
                      <a:pt x="984" y="214"/>
                    </a:lnTo>
                    <a:lnTo>
                      <a:pt x="930" y="214"/>
                    </a:lnTo>
                    <a:lnTo>
                      <a:pt x="849" y="216"/>
                    </a:lnTo>
                    <a:lnTo>
                      <a:pt x="785" y="216"/>
                    </a:lnTo>
                    <a:lnTo>
                      <a:pt x="703" y="216"/>
                    </a:lnTo>
                    <a:lnTo>
                      <a:pt x="612" y="216"/>
                    </a:lnTo>
                    <a:lnTo>
                      <a:pt x="515" y="216"/>
                    </a:lnTo>
                    <a:lnTo>
                      <a:pt x="464" y="216"/>
                    </a:lnTo>
                    <a:lnTo>
                      <a:pt x="440" y="215"/>
                    </a:lnTo>
                    <a:lnTo>
                      <a:pt x="392" y="218"/>
                    </a:lnTo>
                    <a:lnTo>
                      <a:pt x="332" y="223"/>
                    </a:lnTo>
                    <a:lnTo>
                      <a:pt x="281" y="227"/>
                    </a:lnTo>
                    <a:lnTo>
                      <a:pt x="235" y="232"/>
                    </a:lnTo>
                    <a:lnTo>
                      <a:pt x="150" y="245"/>
                    </a:lnTo>
                    <a:lnTo>
                      <a:pt x="126" y="251"/>
                    </a:lnTo>
                    <a:lnTo>
                      <a:pt x="117" y="254"/>
                    </a:lnTo>
                    <a:lnTo>
                      <a:pt x="105" y="263"/>
                    </a:lnTo>
                    <a:lnTo>
                      <a:pt x="95" y="275"/>
                    </a:lnTo>
                    <a:lnTo>
                      <a:pt x="87" y="286"/>
                    </a:lnTo>
                    <a:lnTo>
                      <a:pt x="81" y="301"/>
                    </a:lnTo>
                    <a:lnTo>
                      <a:pt x="76" y="319"/>
                    </a:lnTo>
                    <a:lnTo>
                      <a:pt x="72" y="339"/>
                    </a:lnTo>
                    <a:lnTo>
                      <a:pt x="80" y="339"/>
                    </a:lnTo>
                    <a:lnTo>
                      <a:pt x="81" y="391"/>
                    </a:lnTo>
                    <a:lnTo>
                      <a:pt x="83" y="421"/>
                    </a:lnTo>
                    <a:lnTo>
                      <a:pt x="85" y="430"/>
                    </a:lnTo>
                    <a:lnTo>
                      <a:pt x="70" y="442"/>
                    </a:lnTo>
                    <a:lnTo>
                      <a:pt x="70" y="457"/>
                    </a:lnTo>
                    <a:lnTo>
                      <a:pt x="76" y="465"/>
                    </a:lnTo>
                    <a:lnTo>
                      <a:pt x="83" y="470"/>
                    </a:lnTo>
                    <a:lnTo>
                      <a:pt x="84" y="475"/>
                    </a:lnTo>
                    <a:lnTo>
                      <a:pt x="54" y="481"/>
                    </a:lnTo>
                    <a:lnTo>
                      <a:pt x="36" y="488"/>
                    </a:lnTo>
                    <a:lnTo>
                      <a:pt x="19" y="495"/>
                    </a:lnTo>
                    <a:lnTo>
                      <a:pt x="4" y="504"/>
                    </a:lnTo>
                    <a:lnTo>
                      <a:pt x="0" y="535"/>
                    </a:lnTo>
                    <a:lnTo>
                      <a:pt x="25" y="609"/>
                    </a:lnTo>
                    <a:lnTo>
                      <a:pt x="32" y="622"/>
                    </a:lnTo>
                    <a:lnTo>
                      <a:pt x="41" y="633"/>
                    </a:lnTo>
                    <a:lnTo>
                      <a:pt x="51" y="640"/>
                    </a:lnTo>
                    <a:lnTo>
                      <a:pt x="67" y="644"/>
                    </a:lnTo>
                    <a:lnTo>
                      <a:pt x="147" y="649"/>
                    </a:lnTo>
                    <a:lnTo>
                      <a:pt x="202" y="651"/>
                    </a:lnTo>
                    <a:lnTo>
                      <a:pt x="278" y="659"/>
                    </a:lnTo>
                    <a:lnTo>
                      <a:pt x="343" y="668"/>
                    </a:lnTo>
                    <a:lnTo>
                      <a:pt x="387" y="677"/>
                    </a:lnTo>
                    <a:lnTo>
                      <a:pt x="450" y="682"/>
                    </a:lnTo>
                    <a:lnTo>
                      <a:pt x="516" y="687"/>
                    </a:lnTo>
                    <a:lnTo>
                      <a:pt x="595" y="691"/>
                    </a:lnTo>
                    <a:lnTo>
                      <a:pt x="729" y="692"/>
                    </a:lnTo>
                    <a:lnTo>
                      <a:pt x="919" y="702"/>
                    </a:lnTo>
                    <a:lnTo>
                      <a:pt x="947" y="581"/>
                    </a:lnTo>
                    <a:lnTo>
                      <a:pt x="968" y="540"/>
                    </a:lnTo>
                    <a:lnTo>
                      <a:pt x="993" y="497"/>
                    </a:lnTo>
                    <a:lnTo>
                      <a:pt x="1018" y="471"/>
                    </a:lnTo>
                    <a:lnTo>
                      <a:pt x="1050" y="450"/>
                    </a:lnTo>
                    <a:lnTo>
                      <a:pt x="1096" y="434"/>
                    </a:lnTo>
                    <a:lnTo>
                      <a:pt x="1149" y="426"/>
                    </a:lnTo>
                    <a:lnTo>
                      <a:pt x="1199" y="428"/>
                    </a:lnTo>
                    <a:lnTo>
                      <a:pt x="1240" y="438"/>
                    </a:lnTo>
                    <a:lnTo>
                      <a:pt x="1274" y="453"/>
                    </a:lnTo>
                    <a:lnTo>
                      <a:pt x="1292" y="467"/>
                    </a:lnTo>
                    <a:lnTo>
                      <a:pt x="1305" y="484"/>
                    </a:lnTo>
                    <a:lnTo>
                      <a:pt x="1324" y="519"/>
                    </a:lnTo>
                    <a:lnTo>
                      <a:pt x="1339" y="559"/>
                    </a:lnTo>
                    <a:lnTo>
                      <a:pt x="1348" y="602"/>
                    </a:lnTo>
                    <a:lnTo>
                      <a:pt x="1348" y="649"/>
                    </a:lnTo>
                    <a:lnTo>
                      <a:pt x="1339" y="715"/>
                    </a:lnTo>
                    <a:lnTo>
                      <a:pt x="2180" y="664"/>
                    </a:lnTo>
                    <a:lnTo>
                      <a:pt x="2194" y="633"/>
                    </a:lnTo>
                    <a:lnTo>
                      <a:pt x="2205" y="602"/>
                    </a:lnTo>
                    <a:lnTo>
                      <a:pt x="2211" y="577"/>
                    </a:lnTo>
                    <a:lnTo>
                      <a:pt x="2218" y="550"/>
                    </a:lnTo>
                    <a:lnTo>
                      <a:pt x="2222" y="522"/>
                    </a:lnTo>
                    <a:lnTo>
                      <a:pt x="2231" y="496"/>
                    </a:lnTo>
                    <a:lnTo>
                      <a:pt x="2241" y="473"/>
                    </a:lnTo>
                    <a:lnTo>
                      <a:pt x="2250" y="458"/>
                    </a:lnTo>
                    <a:lnTo>
                      <a:pt x="2265" y="442"/>
                    </a:lnTo>
                    <a:lnTo>
                      <a:pt x="2278" y="427"/>
                    </a:lnTo>
                    <a:lnTo>
                      <a:pt x="2291" y="416"/>
                    </a:lnTo>
                    <a:lnTo>
                      <a:pt x="2312" y="408"/>
                    </a:lnTo>
                    <a:lnTo>
                      <a:pt x="2342" y="404"/>
                    </a:lnTo>
                    <a:lnTo>
                      <a:pt x="2372" y="404"/>
                    </a:lnTo>
                    <a:lnTo>
                      <a:pt x="2402" y="408"/>
                    </a:lnTo>
                    <a:lnTo>
                      <a:pt x="2421" y="416"/>
                    </a:lnTo>
                    <a:lnTo>
                      <a:pt x="2438" y="431"/>
                    </a:lnTo>
                    <a:lnTo>
                      <a:pt x="2452" y="446"/>
                    </a:lnTo>
                    <a:lnTo>
                      <a:pt x="2466" y="467"/>
                    </a:lnTo>
                    <a:lnTo>
                      <a:pt x="2476" y="492"/>
                    </a:lnTo>
                    <a:lnTo>
                      <a:pt x="2480" y="511"/>
                    </a:lnTo>
                    <a:lnTo>
                      <a:pt x="2481" y="545"/>
                    </a:lnTo>
                    <a:lnTo>
                      <a:pt x="2484" y="568"/>
                    </a:lnTo>
                    <a:lnTo>
                      <a:pt x="2481" y="598"/>
                    </a:lnTo>
                    <a:lnTo>
                      <a:pt x="2483" y="635"/>
                    </a:lnTo>
                    <a:lnTo>
                      <a:pt x="2596" y="632"/>
                    </a:lnTo>
                    <a:lnTo>
                      <a:pt x="2605" y="626"/>
                    </a:lnTo>
                    <a:lnTo>
                      <a:pt x="2612" y="618"/>
                    </a:lnTo>
                    <a:lnTo>
                      <a:pt x="2617" y="595"/>
                    </a:lnTo>
                    <a:lnTo>
                      <a:pt x="2629" y="586"/>
                    </a:lnTo>
                    <a:lnTo>
                      <a:pt x="2643" y="577"/>
                    </a:lnTo>
                    <a:lnTo>
                      <a:pt x="2659" y="558"/>
                    </a:lnTo>
                    <a:lnTo>
                      <a:pt x="2660" y="521"/>
                    </a:lnTo>
                    <a:lnTo>
                      <a:pt x="2671" y="515"/>
                    </a:lnTo>
                    <a:lnTo>
                      <a:pt x="2667" y="485"/>
                    </a:lnTo>
                    <a:lnTo>
                      <a:pt x="2635" y="463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127000" y="1331640"/>
                <a:ext cx="55080" cy="6840"/>
              </a:xfrm>
              <a:custGeom>
                <a:avLst/>
                <a:gdLst/>
                <a:ahLst/>
                <a:rect l="l" t="t" r="r" b="b"/>
                <a:pathLst>
                  <a:path w="191" h="32">
                    <a:moveTo>
                      <a:pt x="186" y="0"/>
                    </a:moveTo>
                    <a:lnTo>
                      <a:pt x="189" y="12"/>
                    </a:lnTo>
                    <a:lnTo>
                      <a:pt x="190" y="25"/>
                    </a:lnTo>
                    <a:lnTo>
                      <a:pt x="178" y="30"/>
                    </a:lnTo>
                    <a:lnTo>
                      <a:pt x="8" y="31"/>
                    </a:lnTo>
                    <a:lnTo>
                      <a:pt x="4" y="17"/>
                    </a:lnTo>
                    <a:lnTo>
                      <a:pt x="0" y="1"/>
                    </a:lnTo>
                    <a:lnTo>
                      <a:pt x="70" y="2"/>
                    </a:lnTo>
                    <a:lnTo>
                      <a:pt x="159" y="2"/>
                    </a:lnTo>
                    <a:lnTo>
                      <a:pt x="18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0" name=""/>
              <p:cNvGrpSpPr/>
              <p:nvPr/>
            </p:nvGrpSpPr>
            <p:grpSpPr>
              <a:xfrm>
                <a:off x="7433280" y="1226520"/>
                <a:ext cx="746280" cy="150120"/>
                <a:chOff x="7433280" y="1226520"/>
                <a:chExt cx="746280" cy="150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599240" y="1295280"/>
                  <a:ext cx="561600" cy="13320"/>
                </a:xfrm>
                <a:custGeom>
                  <a:avLst/>
                  <a:gdLst/>
                  <a:ahLst/>
                  <a:rect l="l" t="t" r="r" b="b"/>
                  <a:pathLst>
                    <a:path w="1940" h="61">
                      <a:moveTo>
                        <a:pt x="1939" y="60"/>
                      </a:moveTo>
                      <a:lnTo>
                        <a:pt x="1882" y="50"/>
                      </a:lnTo>
                      <a:lnTo>
                        <a:pt x="1824" y="40"/>
                      </a:lnTo>
                      <a:lnTo>
                        <a:pt x="1766" y="34"/>
                      </a:lnTo>
                      <a:lnTo>
                        <a:pt x="1606" y="22"/>
                      </a:lnTo>
                      <a:lnTo>
                        <a:pt x="1368" y="13"/>
                      </a:lnTo>
                      <a:lnTo>
                        <a:pt x="673" y="0"/>
                      </a:lnTo>
                      <a:lnTo>
                        <a:pt x="423" y="0"/>
                      </a:lnTo>
                      <a:lnTo>
                        <a:pt x="56" y="6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>
                  <a:off x="8124840" y="1341720"/>
                  <a:ext cx="5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3" name=""/>
                <p:cNvGrpSpPr/>
                <p:nvPr/>
              </p:nvGrpSpPr>
              <p:grpSpPr>
                <a:xfrm>
                  <a:off x="7433280" y="1226520"/>
                  <a:ext cx="619200" cy="150120"/>
                  <a:chOff x="7433280" y="1226520"/>
                  <a:chExt cx="619200" cy="15012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>
                    <a:off x="7524360" y="1226520"/>
                    <a:ext cx="21240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34" h="221">
                        <a:moveTo>
                          <a:pt x="408" y="15"/>
                        </a:moveTo>
                        <a:lnTo>
                          <a:pt x="477" y="10"/>
                        </a:lnTo>
                        <a:lnTo>
                          <a:pt x="556" y="5"/>
                        </a:lnTo>
                        <a:lnTo>
                          <a:pt x="639" y="1"/>
                        </a:lnTo>
                        <a:lnTo>
                          <a:pt x="674" y="0"/>
                        </a:lnTo>
                        <a:lnTo>
                          <a:pt x="694" y="2"/>
                        </a:lnTo>
                        <a:lnTo>
                          <a:pt x="710" y="6"/>
                        </a:lnTo>
                        <a:lnTo>
                          <a:pt x="722" y="12"/>
                        </a:lnTo>
                        <a:lnTo>
                          <a:pt x="729" y="22"/>
                        </a:lnTo>
                        <a:lnTo>
                          <a:pt x="733" y="35"/>
                        </a:lnTo>
                        <a:lnTo>
                          <a:pt x="733" y="47"/>
                        </a:lnTo>
                        <a:lnTo>
                          <a:pt x="691" y="161"/>
                        </a:lnTo>
                        <a:lnTo>
                          <a:pt x="686" y="172"/>
                        </a:lnTo>
                        <a:lnTo>
                          <a:pt x="678" y="185"/>
                        </a:lnTo>
                        <a:lnTo>
                          <a:pt x="671" y="195"/>
                        </a:lnTo>
                        <a:lnTo>
                          <a:pt x="661" y="206"/>
                        </a:lnTo>
                        <a:lnTo>
                          <a:pt x="647" y="213"/>
                        </a:lnTo>
                        <a:lnTo>
                          <a:pt x="632" y="218"/>
                        </a:lnTo>
                        <a:lnTo>
                          <a:pt x="610" y="220"/>
                        </a:lnTo>
                        <a:lnTo>
                          <a:pt x="395" y="218"/>
                        </a:lnTo>
                        <a:lnTo>
                          <a:pt x="282" y="217"/>
                        </a:lnTo>
                        <a:lnTo>
                          <a:pt x="175" y="216"/>
                        </a:lnTo>
                        <a:lnTo>
                          <a:pt x="0" y="21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7835760" y="1278720"/>
                    <a:ext cx="19980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440">
                        <a:moveTo>
                          <a:pt x="595" y="0"/>
                        </a:moveTo>
                        <a:lnTo>
                          <a:pt x="621" y="25"/>
                        </a:lnTo>
                        <a:lnTo>
                          <a:pt x="636" y="40"/>
                        </a:lnTo>
                        <a:lnTo>
                          <a:pt x="647" y="53"/>
                        </a:lnTo>
                        <a:lnTo>
                          <a:pt x="657" y="67"/>
                        </a:lnTo>
                        <a:lnTo>
                          <a:pt x="666" y="81"/>
                        </a:lnTo>
                        <a:lnTo>
                          <a:pt x="671" y="94"/>
                        </a:lnTo>
                        <a:lnTo>
                          <a:pt x="680" y="139"/>
                        </a:lnTo>
                        <a:lnTo>
                          <a:pt x="685" y="184"/>
                        </a:lnTo>
                        <a:lnTo>
                          <a:pt x="689" y="221"/>
                        </a:lnTo>
                        <a:lnTo>
                          <a:pt x="689" y="243"/>
                        </a:lnTo>
                        <a:lnTo>
                          <a:pt x="688" y="281"/>
                        </a:lnTo>
                        <a:lnTo>
                          <a:pt x="684" y="311"/>
                        </a:lnTo>
                        <a:lnTo>
                          <a:pt x="678" y="340"/>
                        </a:lnTo>
                        <a:lnTo>
                          <a:pt x="673" y="363"/>
                        </a:lnTo>
                        <a:lnTo>
                          <a:pt x="666" y="383"/>
                        </a:lnTo>
                        <a:lnTo>
                          <a:pt x="656" y="404"/>
                        </a:lnTo>
                        <a:lnTo>
                          <a:pt x="547" y="411"/>
                        </a:lnTo>
                        <a:lnTo>
                          <a:pt x="0" y="439"/>
                        </a:lnTo>
                        <a:lnTo>
                          <a:pt x="15" y="350"/>
                        </a:lnTo>
                        <a:lnTo>
                          <a:pt x="23" y="259"/>
                        </a:lnTo>
                        <a:lnTo>
                          <a:pt x="28" y="84"/>
                        </a:lnTo>
                        <a:lnTo>
                          <a:pt x="26" y="68"/>
                        </a:lnTo>
                        <a:lnTo>
                          <a:pt x="21" y="50"/>
                        </a:lnTo>
                        <a:lnTo>
                          <a:pt x="15" y="33"/>
                        </a:lnTo>
                        <a:lnTo>
                          <a:pt x="4" y="2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7775640" y="1230480"/>
                    <a:ext cx="23976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828" h="270">
                        <a:moveTo>
                          <a:pt x="469" y="31"/>
                        </a:moveTo>
                        <a:lnTo>
                          <a:pt x="509" y="51"/>
                        </a:lnTo>
                        <a:lnTo>
                          <a:pt x="548" y="73"/>
                        </a:lnTo>
                        <a:lnTo>
                          <a:pt x="586" y="98"/>
                        </a:lnTo>
                        <a:lnTo>
                          <a:pt x="623" y="121"/>
                        </a:lnTo>
                        <a:lnTo>
                          <a:pt x="661" y="145"/>
                        </a:lnTo>
                        <a:lnTo>
                          <a:pt x="699" y="169"/>
                        </a:lnTo>
                        <a:lnTo>
                          <a:pt x="741" y="195"/>
                        </a:lnTo>
                        <a:lnTo>
                          <a:pt x="777" y="221"/>
                        </a:lnTo>
                        <a:lnTo>
                          <a:pt x="802" y="242"/>
                        </a:lnTo>
                        <a:lnTo>
                          <a:pt x="827" y="267"/>
                        </a:lnTo>
                        <a:lnTo>
                          <a:pt x="696" y="269"/>
                        </a:lnTo>
                        <a:lnTo>
                          <a:pt x="227" y="264"/>
                        </a:lnTo>
                        <a:lnTo>
                          <a:pt x="44" y="260"/>
                        </a:lnTo>
                        <a:lnTo>
                          <a:pt x="28" y="259"/>
                        </a:lnTo>
                        <a:lnTo>
                          <a:pt x="15" y="255"/>
                        </a:lnTo>
                        <a:lnTo>
                          <a:pt x="5" y="246"/>
                        </a:lnTo>
                        <a:lnTo>
                          <a:pt x="0" y="233"/>
                        </a:lnTo>
                        <a:lnTo>
                          <a:pt x="0" y="222"/>
                        </a:lnTo>
                        <a:lnTo>
                          <a:pt x="1" y="211"/>
                        </a:lnTo>
                        <a:lnTo>
                          <a:pt x="4" y="200"/>
                        </a:lnTo>
                        <a:lnTo>
                          <a:pt x="36" y="52"/>
                        </a:lnTo>
                        <a:lnTo>
                          <a:pt x="40" y="39"/>
                        </a:lnTo>
                        <a:lnTo>
                          <a:pt x="44" y="29"/>
                        </a:lnTo>
                        <a:lnTo>
                          <a:pt x="50" y="18"/>
                        </a:lnTo>
                        <a:lnTo>
                          <a:pt x="57" y="12"/>
                        </a:lnTo>
                        <a:lnTo>
                          <a:pt x="65" y="5"/>
                        </a:lnTo>
                        <a:lnTo>
                          <a:pt x="73" y="3"/>
                        </a:lnTo>
                        <a:lnTo>
                          <a:pt x="87" y="0"/>
                        </a:lnTo>
                        <a:lnTo>
                          <a:pt x="108" y="0"/>
                        </a:lnTo>
                        <a:lnTo>
                          <a:pt x="14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 flipH="1">
                    <a:off x="7793640" y="1344960"/>
                    <a:ext cx="258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88" name=""/>
                  <p:cNvGrpSpPr/>
                  <p:nvPr/>
                </p:nvGrpSpPr>
                <p:grpSpPr>
                  <a:xfrm>
                    <a:off x="7433280" y="1274760"/>
                    <a:ext cx="266040" cy="101880"/>
                    <a:chOff x="7433280" y="1274760"/>
                    <a:chExt cx="266040" cy="101880"/>
                  </a:xfrm>
                </p:grpSpPr>
                <p:sp>
                  <p:nvSpPr>
                    <p:cNvPr id="889" name=""/>
                    <p:cNvSpPr/>
                    <p:nvPr/>
                  </p:nvSpPr>
                  <p:spPr>
                    <a:xfrm>
                      <a:off x="7563960" y="1274760"/>
                      <a:ext cx="13536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8" h="120">
                          <a:moveTo>
                            <a:pt x="467" y="0"/>
                          </a:moveTo>
                          <a:lnTo>
                            <a:pt x="290" y="6"/>
                          </a:lnTo>
                          <a:lnTo>
                            <a:pt x="217" y="10"/>
                          </a:lnTo>
                          <a:lnTo>
                            <a:pt x="165" y="13"/>
                          </a:lnTo>
                          <a:lnTo>
                            <a:pt x="120" y="17"/>
                          </a:lnTo>
                          <a:lnTo>
                            <a:pt x="74" y="21"/>
                          </a:lnTo>
                          <a:lnTo>
                            <a:pt x="54" y="25"/>
                          </a:lnTo>
                          <a:lnTo>
                            <a:pt x="39" y="34"/>
                          </a:lnTo>
                          <a:lnTo>
                            <a:pt x="29" y="45"/>
                          </a:lnTo>
                          <a:lnTo>
                            <a:pt x="20" y="55"/>
                          </a:lnTo>
                          <a:lnTo>
                            <a:pt x="13" y="69"/>
                          </a:lnTo>
                          <a:lnTo>
                            <a:pt x="7" y="80"/>
                          </a:lnTo>
                          <a:lnTo>
                            <a:pt x="3" y="96"/>
                          </a:lnTo>
                          <a:lnTo>
                            <a:pt x="0" y="119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7606080" y="1347120"/>
                      <a:ext cx="133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135">
                          <a:moveTo>
                            <a:pt x="45" y="0"/>
                          </a:moveTo>
                          <a:lnTo>
                            <a:pt x="44" y="32"/>
                          </a:lnTo>
                          <a:lnTo>
                            <a:pt x="42" y="52"/>
                          </a:lnTo>
                          <a:lnTo>
                            <a:pt x="39" y="73"/>
                          </a:lnTo>
                          <a:lnTo>
                            <a:pt x="36" y="93"/>
                          </a:lnTo>
                          <a:lnTo>
                            <a:pt x="27" y="108"/>
                          </a:lnTo>
                          <a:lnTo>
                            <a:pt x="17" y="122"/>
                          </a:lnTo>
                          <a:lnTo>
                            <a:pt x="0" y="13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7503840" y="1346760"/>
                      <a:ext cx="169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124">
                          <a:moveTo>
                            <a:pt x="0" y="0"/>
                          </a:moveTo>
                          <a:lnTo>
                            <a:pt x="0" y="15"/>
                          </a:lnTo>
                          <a:lnTo>
                            <a:pt x="1" y="35"/>
                          </a:lnTo>
                          <a:lnTo>
                            <a:pt x="6" y="54"/>
                          </a:lnTo>
                          <a:lnTo>
                            <a:pt x="11" y="74"/>
                          </a:lnTo>
                          <a:lnTo>
                            <a:pt x="24" y="92"/>
                          </a:lnTo>
                          <a:lnTo>
                            <a:pt x="34" y="105"/>
                          </a:lnTo>
                          <a:lnTo>
                            <a:pt x="44" y="115"/>
                          </a:lnTo>
                          <a:lnTo>
                            <a:pt x="58" y="12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7445160" y="1279800"/>
                      <a:ext cx="13536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7" h="17">
                          <a:moveTo>
                            <a:pt x="466" y="0"/>
                          </a:moveTo>
                          <a:lnTo>
                            <a:pt x="265" y="10"/>
                          </a:lnTo>
                          <a:lnTo>
                            <a:pt x="57" y="10"/>
                          </a:lnTo>
                          <a:lnTo>
                            <a:pt x="37" y="10"/>
                          </a:lnTo>
                          <a:lnTo>
                            <a:pt x="17" y="10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7503120" y="1348200"/>
                      <a:ext cx="18360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4" h="17">
                          <a:moveTo>
                            <a:pt x="633" y="5"/>
                          </a:moveTo>
                          <a:lnTo>
                            <a:pt x="505" y="8"/>
                          </a:lnTo>
                          <a:lnTo>
                            <a:pt x="459" y="10"/>
                          </a:lnTo>
                          <a:lnTo>
                            <a:pt x="410" y="10"/>
                          </a:lnTo>
                          <a:lnTo>
                            <a:pt x="356" y="11"/>
                          </a:lnTo>
                          <a:lnTo>
                            <a:pt x="307" y="13"/>
                          </a:lnTo>
                          <a:lnTo>
                            <a:pt x="264" y="16"/>
                          </a:lnTo>
                          <a:lnTo>
                            <a:pt x="227" y="1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7433280" y="1329840"/>
                      <a:ext cx="18792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9" h="17">
                          <a:moveTo>
                            <a:pt x="648" y="16"/>
                          </a:moveTo>
                          <a:lnTo>
                            <a:pt x="418" y="1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895" name=""/>
              <p:cNvSpPr/>
              <p:nvPr/>
            </p:nvSpPr>
            <p:spPr>
              <a:xfrm>
                <a:off x="7792200" y="1332720"/>
                <a:ext cx="262440" cy="10080"/>
              </a:xfrm>
              <a:custGeom>
                <a:avLst/>
                <a:gdLst/>
                <a:ahLst/>
                <a:rect l="l" t="t" r="r" b="b"/>
                <a:pathLst>
                  <a:path w="907" h="47">
                    <a:moveTo>
                      <a:pt x="906" y="0"/>
                    </a:moveTo>
                    <a:lnTo>
                      <a:pt x="461" y="5"/>
                    </a:lnTo>
                    <a:lnTo>
                      <a:pt x="0" y="14"/>
                    </a:lnTo>
                    <a:lnTo>
                      <a:pt x="10" y="31"/>
                    </a:lnTo>
                    <a:lnTo>
                      <a:pt x="17" y="46"/>
                    </a:lnTo>
                    <a:lnTo>
                      <a:pt x="423" y="41"/>
                    </a:lnTo>
                    <a:lnTo>
                      <a:pt x="893" y="32"/>
                    </a:lnTo>
                    <a:lnTo>
                      <a:pt x="90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411680" y="1330920"/>
                <a:ext cx="283680" cy="17280"/>
              </a:xfrm>
              <a:custGeom>
                <a:avLst/>
                <a:gdLst/>
                <a:ahLst/>
                <a:rect l="l" t="t" r="r" b="b"/>
                <a:pathLst>
                  <a:path w="980" h="80">
                    <a:moveTo>
                      <a:pt x="979" y="23"/>
                    </a:moveTo>
                    <a:lnTo>
                      <a:pt x="743" y="31"/>
                    </a:lnTo>
                    <a:lnTo>
                      <a:pt x="615" y="35"/>
                    </a:lnTo>
                    <a:lnTo>
                      <a:pt x="367" y="35"/>
                    </a:lnTo>
                    <a:lnTo>
                      <a:pt x="61" y="19"/>
                    </a:lnTo>
                    <a:lnTo>
                      <a:pt x="54" y="18"/>
                    </a:lnTo>
                    <a:lnTo>
                      <a:pt x="48" y="16"/>
                    </a:lnTo>
                    <a:lnTo>
                      <a:pt x="42" y="13"/>
                    </a:lnTo>
                    <a:lnTo>
                      <a:pt x="46" y="7"/>
                    </a:lnTo>
                    <a:lnTo>
                      <a:pt x="61" y="0"/>
                    </a:lnTo>
                    <a:lnTo>
                      <a:pt x="52" y="0"/>
                    </a:lnTo>
                    <a:lnTo>
                      <a:pt x="16" y="13"/>
                    </a:lnTo>
                    <a:lnTo>
                      <a:pt x="2" y="21"/>
                    </a:lnTo>
                    <a:lnTo>
                      <a:pt x="0" y="31"/>
                    </a:lnTo>
                    <a:lnTo>
                      <a:pt x="9" y="42"/>
                    </a:lnTo>
                    <a:lnTo>
                      <a:pt x="18" y="47"/>
                    </a:lnTo>
                    <a:lnTo>
                      <a:pt x="30" y="51"/>
                    </a:lnTo>
                    <a:lnTo>
                      <a:pt x="46" y="54"/>
                    </a:lnTo>
                    <a:lnTo>
                      <a:pt x="541" y="79"/>
                    </a:lnTo>
                    <a:lnTo>
                      <a:pt x="948" y="68"/>
                    </a:lnTo>
                    <a:lnTo>
                      <a:pt x="979" y="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7" name=""/>
              <p:cNvGrpSpPr/>
              <p:nvPr/>
            </p:nvGrpSpPr>
            <p:grpSpPr>
              <a:xfrm>
                <a:off x="7428960" y="1299600"/>
                <a:ext cx="188640" cy="30960"/>
                <a:chOff x="7428960" y="1299600"/>
                <a:chExt cx="188640" cy="3096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7429320" y="1299600"/>
                  <a:ext cx="188280" cy="30960"/>
                </a:xfrm>
                <a:custGeom>
                  <a:avLst/>
                  <a:gdLst/>
                  <a:ahLst/>
                  <a:rect l="l" t="t" r="r" b="b"/>
                  <a:pathLst>
                    <a:path w="651" h="142">
                      <a:moveTo>
                        <a:pt x="650" y="136"/>
                      </a:moveTo>
                      <a:lnTo>
                        <a:pt x="619" y="56"/>
                      </a:lnTo>
                      <a:lnTo>
                        <a:pt x="607" y="0"/>
                      </a:lnTo>
                      <a:lnTo>
                        <a:pt x="9" y="0"/>
                      </a:lnTo>
                      <a:lnTo>
                        <a:pt x="12" y="72"/>
                      </a:lnTo>
                      <a:lnTo>
                        <a:pt x="12" y="83"/>
                      </a:lnTo>
                      <a:lnTo>
                        <a:pt x="12" y="93"/>
                      </a:lnTo>
                      <a:lnTo>
                        <a:pt x="0" y="103"/>
                      </a:lnTo>
                      <a:lnTo>
                        <a:pt x="0" y="122"/>
                      </a:lnTo>
                      <a:lnTo>
                        <a:pt x="276" y="134"/>
                      </a:lnTo>
                      <a:lnTo>
                        <a:pt x="468" y="141"/>
                      </a:lnTo>
                      <a:lnTo>
                        <a:pt x="650" y="136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9" name=""/>
                <p:cNvGrpSpPr/>
                <p:nvPr/>
              </p:nvGrpSpPr>
              <p:grpSpPr>
                <a:xfrm>
                  <a:off x="7428960" y="1301760"/>
                  <a:ext cx="182160" cy="17280"/>
                  <a:chOff x="7428960" y="1301760"/>
                  <a:chExt cx="182160" cy="1728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 flipH="1">
                    <a:off x="7428960" y="1301760"/>
                    <a:ext cx="178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flipH="1">
                    <a:off x="7430760" y="1303200"/>
                    <a:ext cx="177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flipH="1">
                    <a:off x="7430040" y="1306080"/>
                    <a:ext cx="178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flipH="1" flipV="1">
                    <a:off x="7430400" y="1306440"/>
                    <a:ext cx="178920" cy="3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flipH="1">
                    <a:off x="7429680" y="1310760"/>
                    <a:ext cx="180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7432560" y="1312920"/>
                    <a:ext cx="1771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11" h="17">
                        <a:moveTo>
                          <a:pt x="610" y="0"/>
                        </a:moveTo>
                        <a:lnTo>
                          <a:pt x="497" y="16"/>
                        </a:lnTo>
                        <a:lnTo>
                          <a:pt x="459" y="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7432200" y="1315440"/>
                    <a:ext cx="1789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18" h="17">
                        <a:moveTo>
                          <a:pt x="617" y="4"/>
                        </a:moveTo>
                        <a:lnTo>
                          <a:pt x="513" y="16"/>
                        </a:lnTo>
                        <a:lnTo>
                          <a:pt x="456" y="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07" name=""/>
              <p:cNvGrpSpPr/>
              <p:nvPr/>
            </p:nvGrpSpPr>
            <p:grpSpPr>
              <a:xfrm>
                <a:off x="7431480" y="1286280"/>
                <a:ext cx="104040" cy="80280"/>
                <a:chOff x="7431480" y="1286280"/>
                <a:chExt cx="104040" cy="8028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7450560" y="1344600"/>
                  <a:ext cx="11880" cy="21960"/>
                </a:xfrm>
                <a:custGeom>
                  <a:avLst/>
                  <a:gdLst/>
                  <a:ahLst/>
                  <a:rect l="l" t="t" r="r" b="b"/>
                  <a:pathLst>
                    <a:path w="41" h="101">
                      <a:moveTo>
                        <a:pt x="1" y="0"/>
                      </a:moveTo>
                      <a:lnTo>
                        <a:pt x="0" y="17"/>
                      </a:lnTo>
                      <a:lnTo>
                        <a:pt x="3" y="42"/>
                      </a:lnTo>
                      <a:lnTo>
                        <a:pt x="9" y="61"/>
                      </a:lnTo>
                      <a:lnTo>
                        <a:pt x="15" y="76"/>
                      </a:lnTo>
                      <a:lnTo>
                        <a:pt x="26" y="90"/>
                      </a:lnTo>
                      <a:lnTo>
                        <a:pt x="40" y="100"/>
                      </a:lnTo>
                      <a:lnTo>
                        <a:pt x="40" y="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9" name=""/>
                <p:cNvGrpSpPr/>
                <p:nvPr/>
              </p:nvGrpSpPr>
              <p:grpSpPr>
                <a:xfrm>
                  <a:off x="7431480" y="1286280"/>
                  <a:ext cx="104040" cy="77760"/>
                  <a:chOff x="7431480" y="1286280"/>
                  <a:chExt cx="104040" cy="7776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>
                    <a:off x="7511760" y="1350720"/>
                    <a:ext cx="23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61">
                        <a:moveTo>
                          <a:pt x="64" y="4"/>
                        </a:moveTo>
                        <a:lnTo>
                          <a:pt x="65" y="20"/>
                        </a:lnTo>
                        <a:lnTo>
                          <a:pt x="67" y="33"/>
                        </a:lnTo>
                        <a:lnTo>
                          <a:pt x="74" y="46"/>
                        </a:lnTo>
                        <a:lnTo>
                          <a:pt x="82" y="60"/>
                        </a:lnTo>
                        <a:lnTo>
                          <a:pt x="15" y="55"/>
                        </a:lnTo>
                        <a:lnTo>
                          <a:pt x="7" y="48"/>
                        </a:lnTo>
                        <a:lnTo>
                          <a:pt x="4" y="35"/>
                        </a:lnTo>
                        <a:lnTo>
                          <a:pt x="0" y="21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64" y="4"/>
                        </a:lnTo>
                      </a:path>
                    </a:pathLst>
                  </a:custGeom>
                  <a:solidFill>
                    <a:srgbClr val="ffa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7431480" y="1346400"/>
                    <a:ext cx="162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9">
                        <a:moveTo>
                          <a:pt x="46" y="3"/>
                        </a:moveTo>
                        <a:lnTo>
                          <a:pt x="46" y="12"/>
                        </a:lnTo>
                        <a:lnTo>
                          <a:pt x="46" y="22"/>
                        </a:lnTo>
                        <a:lnTo>
                          <a:pt x="50" y="36"/>
                        </a:lnTo>
                        <a:lnTo>
                          <a:pt x="56" y="48"/>
                        </a:lnTo>
                        <a:lnTo>
                          <a:pt x="11" y="45"/>
                        </a:lnTo>
                        <a:lnTo>
                          <a:pt x="4" y="36"/>
                        </a:lnTo>
                        <a:lnTo>
                          <a:pt x="1" y="27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46" y="3"/>
                        </a:lnTo>
                      </a:path>
                    </a:pathLst>
                  </a:custGeom>
                  <a:solidFill>
                    <a:srgbClr val="ffa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7486560" y="1286280"/>
                    <a:ext cx="11160" cy="79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13" name=""/>
              <p:cNvGrpSpPr/>
              <p:nvPr/>
            </p:nvGrpSpPr>
            <p:grpSpPr>
              <a:xfrm>
                <a:off x="7806600" y="1232640"/>
                <a:ext cx="47160" cy="51840"/>
                <a:chOff x="7806600" y="1232640"/>
                <a:chExt cx="47160" cy="5184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7806600" y="1232640"/>
                  <a:ext cx="47160" cy="51840"/>
                </a:xfrm>
                <a:custGeom>
                  <a:avLst/>
                  <a:gdLst/>
                  <a:ahLst/>
                  <a:rect l="l" t="t" r="r" b="b"/>
                  <a:pathLst>
                    <a:path w="164" h="236">
                      <a:moveTo>
                        <a:pt x="61" y="0"/>
                      </a:moveTo>
                      <a:lnTo>
                        <a:pt x="77" y="28"/>
                      </a:lnTo>
                      <a:lnTo>
                        <a:pt x="93" y="58"/>
                      </a:lnTo>
                      <a:lnTo>
                        <a:pt x="107" y="86"/>
                      </a:lnTo>
                      <a:lnTo>
                        <a:pt x="123" y="116"/>
                      </a:lnTo>
                      <a:lnTo>
                        <a:pt x="136" y="144"/>
                      </a:lnTo>
                      <a:lnTo>
                        <a:pt x="143" y="159"/>
                      </a:lnTo>
                      <a:lnTo>
                        <a:pt x="149" y="178"/>
                      </a:lnTo>
                      <a:lnTo>
                        <a:pt x="158" y="209"/>
                      </a:lnTo>
                      <a:lnTo>
                        <a:pt x="163" y="235"/>
                      </a:lnTo>
                      <a:lnTo>
                        <a:pt x="124" y="234"/>
                      </a:lnTo>
                      <a:lnTo>
                        <a:pt x="93" y="233"/>
                      </a:lnTo>
                      <a:lnTo>
                        <a:pt x="87" y="202"/>
                      </a:lnTo>
                      <a:lnTo>
                        <a:pt x="76" y="166"/>
                      </a:lnTo>
                      <a:lnTo>
                        <a:pt x="66" y="140"/>
                      </a:lnTo>
                      <a:lnTo>
                        <a:pt x="52" y="107"/>
                      </a:lnTo>
                      <a:lnTo>
                        <a:pt x="34" y="67"/>
                      </a:lnTo>
                      <a:lnTo>
                        <a:pt x="0" y="0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7825680" y="1235520"/>
                  <a:ext cx="20160" cy="46800"/>
                </a:xfrm>
                <a:custGeom>
                  <a:avLst/>
                  <a:gdLst/>
                  <a:ahLst/>
                  <a:rect l="l" t="t" r="r" b="b"/>
                  <a:pathLst>
                    <a:path w="70" h="213">
                      <a:moveTo>
                        <a:pt x="0" y="0"/>
                      </a:moveTo>
                      <a:lnTo>
                        <a:pt x="18" y="37"/>
                      </a:lnTo>
                      <a:lnTo>
                        <a:pt x="29" y="62"/>
                      </a:lnTo>
                      <a:lnTo>
                        <a:pt x="41" y="92"/>
                      </a:lnTo>
                      <a:lnTo>
                        <a:pt x="50" y="110"/>
                      </a:lnTo>
                      <a:lnTo>
                        <a:pt x="57" y="129"/>
                      </a:lnTo>
                      <a:lnTo>
                        <a:pt x="63" y="146"/>
                      </a:lnTo>
                      <a:lnTo>
                        <a:pt x="67" y="163"/>
                      </a:lnTo>
                      <a:lnTo>
                        <a:pt x="68" y="178"/>
                      </a:lnTo>
                      <a:lnTo>
                        <a:pt x="69" y="197"/>
                      </a:lnTo>
                      <a:lnTo>
                        <a:pt x="68" y="212"/>
                      </a:lnTo>
                      <a:lnTo>
                        <a:pt x="58" y="211"/>
                      </a:lnTo>
                      <a:lnTo>
                        <a:pt x="63" y="192"/>
                      </a:lnTo>
                      <a:lnTo>
                        <a:pt x="63" y="178"/>
                      </a:lnTo>
                      <a:lnTo>
                        <a:pt x="61" y="158"/>
                      </a:lnTo>
                      <a:lnTo>
                        <a:pt x="56" y="138"/>
                      </a:lnTo>
                      <a:lnTo>
                        <a:pt x="50" y="117"/>
                      </a:lnTo>
                      <a:lnTo>
                        <a:pt x="25" y="59"/>
                      </a:lnTo>
                      <a:lnTo>
                        <a:pt x="4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853040" y="1271520"/>
                <a:ext cx="160920" cy="33840"/>
                <a:chOff x="7853040" y="1271520"/>
                <a:chExt cx="160920" cy="33840"/>
              </a:xfrm>
            </p:grpSpPr>
            <p:grpSp>
              <p:nvGrpSpPr>
                <p:cNvPr id="917" name=""/>
                <p:cNvGrpSpPr/>
                <p:nvPr/>
              </p:nvGrpSpPr>
              <p:grpSpPr>
                <a:xfrm>
                  <a:off x="7853040" y="1301400"/>
                  <a:ext cx="15840" cy="3960"/>
                  <a:chOff x="7853040" y="1301400"/>
                  <a:chExt cx="15840" cy="3960"/>
                </a:xfrm>
              </p:grpSpPr>
              <p:sp>
                <p:nvSpPr>
                  <p:cNvPr id="918" name=""/>
                  <p:cNvSpPr/>
                  <p:nvPr/>
                </p:nvSpPr>
                <p:spPr>
                  <a:xfrm>
                    <a:off x="7853040" y="1301400"/>
                    <a:ext cx="158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7">
                        <a:moveTo>
                          <a:pt x="52" y="1"/>
                        </a:moveTo>
                        <a:lnTo>
                          <a:pt x="54" y="9"/>
                        </a:lnTo>
                        <a:lnTo>
                          <a:pt x="54" y="16"/>
                        </a:lnTo>
                        <a:lnTo>
                          <a:pt x="0" y="16"/>
                        </a:lnTo>
                        <a:lnTo>
                          <a:pt x="1" y="6"/>
                        </a:lnTo>
                        <a:lnTo>
                          <a:pt x="0" y="0"/>
                        </a:lnTo>
                        <a:lnTo>
                          <a:pt x="52" y="1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7853040" y="1301760"/>
                    <a:ext cx="158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7">
                        <a:moveTo>
                          <a:pt x="54" y="0"/>
                        </a:moveTo>
                        <a:lnTo>
                          <a:pt x="54" y="5"/>
                        </a:lnTo>
                        <a:lnTo>
                          <a:pt x="54" y="16"/>
                        </a:lnTo>
                        <a:lnTo>
                          <a:pt x="0" y="16"/>
                        </a:lnTo>
                        <a:lnTo>
                          <a:pt x="1" y="5"/>
                        </a:lnTo>
                        <a:lnTo>
                          <a:pt x="0" y="0"/>
                        </a:lnTo>
                        <a:lnTo>
                          <a:pt x="54" y="0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0" name=""/>
                <p:cNvGrpSpPr/>
                <p:nvPr/>
              </p:nvGrpSpPr>
              <p:grpSpPr>
                <a:xfrm>
                  <a:off x="7983360" y="1271520"/>
                  <a:ext cx="30600" cy="20880"/>
                  <a:chOff x="7983360" y="1271520"/>
                  <a:chExt cx="30600" cy="20880"/>
                </a:xfrm>
              </p:grpSpPr>
              <p:sp>
                <p:nvSpPr>
                  <p:cNvPr id="921" name=""/>
                  <p:cNvSpPr/>
                  <p:nvPr/>
                </p:nvSpPr>
                <p:spPr>
                  <a:xfrm>
                    <a:off x="7983360" y="1271520"/>
                    <a:ext cx="306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96">
                        <a:moveTo>
                          <a:pt x="96" y="41"/>
                        </a:moveTo>
                        <a:lnTo>
                          <a:pt x="68" y="13"/>
                        </a:lnTo>
                        <a:lnTo>
                          <a:pt x="60" y="8"/>
                        </a:lnTo>
                        <a:lnTo>
                          <a:pt x="48" y="4"/>
                        </a:lnTo>
                        <a:lnTo>
                          <a:pt x="15" y="0"/>
                        </a:lnTo>
                        <a:lnTo>
                          <a:pt x="5" y="1"/>
                        </a:lnTo>
                        <a:lnTo>
                          <a:pt x="0" y="76"/>
                        </a:lnTo>
                        <a:lnTo>
                          <a:pt x="10" y="87"/>
                        </a:lnTo>
                        <a:lnTo>
                          <a:pt x="25" y="93"/>
                        </a:lnTo>
                        <a:lnTo>
                          <a:pt x="52" y="95"/>
                        </a:lnTo>
                        <a:lnTo>
                          <a:pt x="72" y="88"/>
                        </a:lnTo>
                        <a:lnTo>
                          <a:pt x="102" y="60"/>
                        </a:lnTo>
                        <a:lnTo>
                          <a:pt x="105" y="52"/>
                        </a:lnTo>
                        <a:lnTo>
                          <a:pt x="96" y="4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7983360" y="1282680"/>
                    <a:ext cx="30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44">
                        <a:moveTo>
                          <a:pt x="105" y="0"/>
                        </a:moveTo>
                        <a:lnTo>
                          <a:pt x="83" y="7"/>
                        </a:lnTo>
                        <a:lnTo>
                          <a:pt x="62" y="14"/>
                        </a:lnTo>
                        <a:lnTo>
                          <a:pt x="46" y="14"/>
                        </a:lnTo>
                        <a:lnTo>
                          <a:pt x="24" y="17"/>
                        </a:lnTo>
                        <a:lnTo>
                          <a:pt x="8" y="12"/>
                        </a:lnTo>
                        <a:lnTo>
                          <a:pt x="3" y="1"/>
                        </a:lnTo>
                        <a:lnTo>
                          <a:pt x="0" y="25"/>
                        </a:lnTo>
                        <a:lnTo>
                          <a:pt x="8" y="35"/>
                        </a:lnTo>
                        <a:lnTo>
                          <a:pt x="25" y="41"/>
                        </a:lnTo>
                        <a:lnTo>
                          <a:pt x="51" y="43"/>
                        </a:lnTo>
                        <a:lnTo>
                          <a:pt x="73" y="36"/>
                        </a:lnTo>
                        <a:lnTo>
                          <a:pt x="99" y="13"/>
                        </a:lnTo>
                        <a:lnTo>
                          <a:pt x="103" y="8"/>
                        </a:lnTo>
                        <a:lnTo>
                          <a:pt x="105" y="0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aphicFrame>
        <p:nvGraphicFramePr>
          <p:cNvPr id="923" name=""/>
          <p:cNvGraphicFramePr/>
          <p:nvPr/>
        </p:nvGraphicFramePr>
        <p:xfrm>
          <a:off x="6264360" y="1717560"/>
          <a:ext cx="4651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64360" y="1717560"/>
                    <a:ext cx="465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5" name="" descr=""/>
          <p:cNvPicPr/>
          <p:nvPr/>
        </p:nvPicPr>
        <p:blipFill>
          <a:blip r:embed="rId3"/>
          <a:stretch/>
        </p:blipFill>
        <p:spPr>
          <a:xfrm>
            <a:off x="7577280" y="1568520"/>
            <a:ext cx="622080" cy="37620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4"/>
          <a:stretch/>
        </p:blipFill>
        <p:spPr>
          <a:xfrm>
            <a:off x="6208560" y="1200240"/>
            <a:ext cx="452520" cy="47628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5"/>
          <a:stretch/>
        </p:blipFill>
        <p:spPr>
          <a:xfrm>
            <a:off x="3513240" y="2755800"/>
            <a:ext cx="677880" cy="11350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 rot="19534800">
            <a:off x="4496760" y="2762640"/>
            <a:ext cx="2969280" cy="53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22" y="17918"/>
                </a:moveTo>
                <a:arcTo wR="10800" hR="10800" stAng="2473761" swAng="15152411"/>
                <a:lnTo>
                  <a:pt x="10800" y="10800"/>
                </a:lnTo>
                <a:close/>
              </a:path>
              <a:path fill="none" w="21600" h="21600">
                <a:moveTo>
                  <a:pt x="18922" y="17918"/>
                </a:moveTo>
                <a:arcTo wR="10800" hR="10800" stAng="2473761" swAng="1515241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328440" y="3067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492520" y="21398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51040" y="1782720"/>
            <a:ext cx="172080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851040" y="2585880"/>
            <a:ext cx="1719000" cy="89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8370720" y="1219320"/>
            <a:ext cx="773280" cy="186840"/>
            <a:chOff x="8370720" y="1219320"/>
            <a:chExt cx="773280" cy="186840"/>
          </a:xfrm>
        </p:grpSpPr>
        <p:grpSp>
          <p:nvGrpSpPr>
            <p:cNvPr id="934" name=""/>
            <p:cNvGrpSpPr/>
            <p:nvPr/>
          </p:nvGrpSpPr>
          <p:grpSpPr>
            <a:xfrm>
              <a:off x="8465040" y="1294920"/>
              <a:ext cx="640440" cy="111240"/>
              <a:chOff x="8465040" y="1294920"/>
              <a:chExt cx="640440" cy="111240"/>
            </a:xfrm>
          </p:grpSpPr>
          <p:grpSp>
            <p:nvGrpSpPr>
              <p:cNvPr id="935" name=""/>
              <p:cNvGrpSpPr/>
              <p:nvPr/>
            </p:nvGrpSpPr>
            <p:grpSpPr>
              <a:xfrm>
                <a:off x="8633520" y="1294920"/>
                <a:ext cx="471960" cy="71280"/>
                <a:chOff x="8633520" y="1294920"/>
                <a:chExt cx="471960" cy="7128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9019800" y="1294920"/>
                  <a:ext cx="85680" cy="63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8633520" y="1303200"/>
                  <a:ext cx="145440" cy="63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8" name=""/>
              <p:cNvGrpSpPr/>
              <p:nvPr/>
            </p:nvGrpSpPr>
            <p:grpSpPr>
              <a:xfrm>
                <a:off x="8465040" y="1296720"/>
                <a:ext cx="636840" cy="109440"/>
                <a:chOff x="8465040" y="1296720"/>
                <a:chExt cx="636840" cy="109440"/>
              </a:xfrm>
            </p:grpSpPr>
            <p:grpSp>
              <p:nvGrpSpPr>
                <p:cNvPr id="939" name=""/>
                <p:cNvGrpSpPr/>
                <p:nvPr/>
              </p:nvGrpSpPr>
              <p:grpSpPr>
                <a:xfrm>
                  <a:off x="8639280" y="1296720"/>
                  <a:ext cx="462600" cy="109440"/>
                  <a:chOff x="8639280" y="1296720"/>
                  <a:chExt cx="462600" cy="109440"/>
                </a:xfrm>
              </p:grpSpPr>
              <p:grpSp>
                <p:nvGrpSpPr>
                  <p:cNvPr id="940" name=""/>
                  <p:cNvGrpSpPr/>
                  <p:nvPr/>
                </p:nvGrpSpPr>
                <p:grpSpPr>
                  <a:xfrm>
                    <a:off x="8639280" y="1296720"/>
                    <a:ext cx="133560" cy="109440"/>
                    <a:chOff x="8639280" y="1296720"/>
                    <a:chExt cx="133560" cy="109440"/>
                  </a:xfrm>
                </p:grpSpPr>
                <p:grpSp>
                  <p:nvGrpSpPr>
                    <p:cNvPr id="941" name=""/>
                    <p:cNvGrpSpPr/>
                    <p:nvPr/>
                  </p:nvGrpSpPr>
                  <p:grpSpPr>
                    <a:xfrm>
                      <a:off x="8639280" y="1296720"/>
                      <a:ext cx="133560" cy="109440"/>
                      <a:chOff x="8639280" y="1296720"/>
                      <a:chExt cx="133560" cy="109440"/>
                    </a:xfrm>
                  </p:grpSpPr>
                  <p:sp>
                    <p:nvSpPr>
                      <p:cNvPr id="942" name=""/>
                      <p:cNvSpPr/>
                      <p:nvPr/>
                    </p:nvSpPr>
                    <p:spPr>
                      <a:xfrm>
                        <a:off x="8654400" y="1314000"/>
                        <a:ext cx="102960" cy="918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360" bIns="18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3" name=""/>
                      <p:cNvSpPr/>
                      <p:nvPr/>
                    </p:nvSpPr>
                    <p:spPr>
                      <a:xfrm>
                        <a:off x="8640720" y="1296720"/>
                        <a:ext cx="113400" cy="10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2559" y="21456"/>
                            </a:moveTo>
                            <a:arcTo wR="10800" hR="10800" stAng="4837647" swAng="598963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2559" y="21456"/>
                            </a:moveTo>
                            <a:arcTo wR="10800" hR="10800" stAng="4837647" swAng="5989635"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4" name=""/>
                      <p:cNvSpPr/>
                      <p:nvPr/>
                    </p:nvSpPr>
                    <p:spPr>
                      <a:xfrm>
                        <a:off x="8639280" y="1314000"/>
                        <a:ext cx="133560" cy="7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740"/>
                            </a:moveTo>
                            <a:arcTo wR="10800" hR="10800" stAng="-10780795" swAng="536597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740"/>
                            </a:moveTo>
                            <a:arcTo wR="10800" hR="10800" stAng="-10780795" swAng="5365977"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1320" bIns="313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45" name=""/>
                    <p:cNvGrpSpPr/>
                    <p:nvPr/>
                  </p:nvGrpSpPr>
                  <p:grpSpPr>
                    <a:xfrm>
                      <a:off x="8678160" y="1332000"/>
                      <a:ext cx="58320" cy="55080"/>
                      <a:chOff x="8678160" y="1332000"/>
                      <a:chExt cx="58320" cy="55080"/>
                    </a:xfrm>
                  </p:grpSpPr>
                  <p:sp>
                    <p:nvSpPr>
                      <p:cNvPr id="946" name=""/>
                      <p:cNvSpPr/>
                      <p:nvPr/>
                    </p:nvSpPr>
                    <p:spPr>
                      <a:xfrm>
                        <a:off x="8678160" y="1332000"/>
                        <a:ext cx="58320" cy="550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255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7560" bIns="-7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47" name=""/>
                      <p:cNvGrpSpPr/>
                      <p:nvPr/>
                    </p:nvGrpSpPr>
                    <p:grpSpPr>
                      <a:xfrm>
                        <a:off x="8678880" y="1332720"/>
                        <a:ext cx="56520" cy="52560"/>
                        <a:chOff x="8678880" y="1332720"/>
                        <a:chExt cx="56520" cy="52560"/>
                      </a:xfrm>
                    </p:grpSpPr>
                    <p:sp>
                      <p:nvSpPr>
                        <p:cNvPr id="948" name=""/>
                        <p:cNvSpPr/>
                        <p:nvPr/>
                      </p:nvSpPr>
                      <p:spPr>
                        <a:xfrm>
                          <a:off x="8678880" y="1332720"/>
                          <a:ext cx="56520" cy="52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5" h="240">
                              <a:moveTo>
                                <a:pt x="122" y="2"/>
                              </a:moveTo>
                              <a:lnTo>
                                <a:pt x="128" y="96"/>
                              </a:lnTo>
                              <a:lnTo>
                                <a:pt x="190" y="85"/>
                              </a:lnTo>
                              <a:lnTo>
                                <a:pt x="193" y="99"/>
                              </a:lnTo>
                              <a:lnTo>
                                <a:pt x="194" y="112"/>
                              </a:lnTo>
                              <a:lnTo>
                                <a:pt x="142" y="143"/>
                              </a:lnTo>
                              <a:lnTo>
                                <a:pt x="162" y="220"/>
                              </a:lnTo>
                              <a:lnTo>
                                <a:pt x="150" y="230"/>
                              </a:lnTo>
                              <a:lnTo>
                                <a:pt x="142" y="239"/>
                              </a:lnTo>
                              <a:lnTo>
                                <a:pt x="107" y="159"/>
                              </a:lnTo>
                              <a:lnTo>
                                <a:pt x="48" y="236"/>
                              </a:lnTo>
                              <a:lnTo>
                                <a:pt x="36" y="227"/>
                              </a:lnTo>
                              <a:lnTo>
                                <a:pt x="26" y="214"/>
                              </a:lnTo>
                              <a:lnTo>
                                <a:pt x="73" y="140"/>
                              </a:lnTo>
                              <a:lnTo>
                                <a:pt x="0" y="93"/>
                              </a:lnTo>
                              <a:lnTo>
                                <a:pt x="7" y="70"/>
                              </a:lnTo>
                              <a:lnTo>
                                <a:pt x="14" y="65"/>
                              </a:lnTo>
                              <a:lnTo>
                                <a:pt x="83" y="94"/>
                              </a:lnTo>
                              <a:lnTo>
                                <a:pt x="94" y="0"/>
                              </a:lnTo>
                              <a:lnTo>
                                <a:pt x="122" y="2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cap="rnd" w="255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949" name=""/>
                        <p:cNvGrpSpPr/>
                        <p:nvPr/>
                      </p:nvGrpSpPr>
                      <p:grpSpPr>
                        <a:xfrm>
                          <a:off x="8715600" y="1355760"/>
                          <a:ext cx="4320" cy="3240"/>
                          <a:chOff x="8715600" y="1355760"/>
                          <a:chExt cx="4320" cy="3240"/>
                        </a:xfrm>
                      </p:grpSpPr>
                      <p:sp>
                        <p:nvSpPr>
                          <p:cNvPr id="950" name=""/>
                          <p:cNvSpPr/>
                          <p:nvPr/>
                        </p:nvSpPr>
                        <p:spPr>
                          <a:xfrm>
                            <a:off x="8715600" y="135576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51" name=""/>
                          <p:cNvSpPr/>
                          <p:nvPr/>
                        </p:nvSpPr>
                        <p:spPr>
                          <a:xfrm>
                            <a:off x="8717040" y="135684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52" name=""/>
                        <p:cNvGrpSpPr/>
                        <p:nvPr/>
                      </p:nvGrpSpPr>
                      <p:grpSpPr>
                        <a:xfrm>
                          <a:off x="8699040" y="1355400"/>
                          <a:ext cx="4320" cy="3240"/>
                          <a:chOff x="8699040" y="1355400"/>
                          <a:chExt cx="4320" cy="3240"/>
                        </a:xfrm>
                      </p:grpSpPr>
                      <p:sp>
                        <p:nvSpPr>
                          <p:cNvPr id="953" name=""/>
                          <p:cNvSpPr/>
                          <p:nvPr/>
                        </p:nvSpPr>
                        <p:spPr>
                          <a:xfrm>
                            <a:off x="8699040" y="135540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54" name=""/>
                          <p:cNvSpPr/>
                          <p:nvPr/>
                        </p:nvSpPr>
                        <p:spPr>
                          <a:xfrm>
                            <a:off x="8700120" y="1356480"/>
                            <a:ext cx="180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55" name=""/>
                        <p:cNvGrpSpPr/>
                        <p:nvPr/>
                      </p:nvGrpSpPr>
                      <p:grpSpPr>
                        <a:xfrm>
                          <a:off x="8708400" y="1350720"/>
                          <a:ext cx="4320" cy="3240"/>
                          <a:chOff x="8708400" y="1350720"/>
                          <a:chExt cx="4320" cy="3240"/>
                        </a:xfrm>
                      </p:grpSpPr>
                      <p:sp>
                        <p:nvSpPr>
                          <p:cNvPr id="956" name=""/>
                          <p:cNvSpPr/>
                          <p:nvPr/>
                        </p:nvSpPr>
                        <p:spPr>
                          <a:xfrm>
                            <a:off x="8708400" y="135072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57" name=""/>
                          <p:cNvSpPr/>
                          <p:nvPr/>
                        </p:nvSpPr>
                        <p:spPr>
                          <a:xfrm>
                            <a:off x="8709480" y="135180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58" name=""/>
                        <p:cNvGrpSpPr/>
                        <p:nvPr/>
                      </p:nvGrpSpPr>
                      <p:grpSpPr>
                        <a:xfrm>
                          <a:off x="8701560" y="1364040"/>
                          <a:ext cx="4320" cy="3240"/>
                          <a:chOff x="8701560" y="1364040"/>
                          <a:chExt cx="4320" cy="3240"/>
                        </a:xfrm>
                      </p:grpSpPr>
                      <p:sp>
                        <p:nvSpPr>
                          <p:cNvPr id="959" name=""/>
                          <p:cNvSpPr/>
                          <p:nvPr/>
                        </p:nvSpPr>
                        <p:spPr>
                          <a:xfrm>
                            <a:off x="8701560" y="136404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60" name=""/>
                          <p:cNvSpPr/>
                          <p:nvPr/>
                        </p:nvSpPr>
                        <p:spPr>
                          <a:xfrm>
                            <a:off x="8702640" y="136512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961" name=""/>
                        <p:cNvSpPr/>
                        <p:nvPr/>
                      </p:nvSpPr>
                      <p:spPr>
                        <a:xfrm>
                          <a:off x="8704440" y="1355760"/>
                          <a:ext cx="10080" cy="7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41760" bIns="-41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962" name=""/>
                        <p:cNvGrpSpPr/>
                        <p:nvPr/>
                      </p:nvGrpSpPr>
                      <p:grpSpPr>
                        <a:xfrm>
                          <a:off x="8713800" y="1364040"/>
                          <a:ext cx="4680" cy="3240"/>
                          <a:chOff x="8713800" y="1364040"/>
                          <a:chExt cx="4680" cy="3240"/>
                        </a:xfrm>
                      </p:grpSpPr>
                      <p:sp>
                        <p:nvSpPr>
                          <p:cNvPr id="963" name=""/>
                          <p:cNvSpPr/>
                          <p:nvPr/>
                        </p:nvSpPr>
                        <p:spPr>
                          <a:xfrm>
                            <a:off x="8713800" y="1364040"/>
                            <a:ext cx="468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64" name=""/>
                          <p:cNvSpPr/>
                          <p:nvPr/>
                        </p:nvSpPr>
                        <p:spPr>
                          <a:xfrm>
                            <a:off x="8715600" y="136512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65" name=""/>
                        <p:cNvGrpSpPr/>
                        <p:nvPr/>
                      </p:nvGrpSpPr>
                      <p:grpSpPr>
                        <a:xfrm>
                          <a:off x="8702640" y="1355400"/>
                          <a:ext cx="20880" cy="11160"/>
                          <a:chOff x="8702640" y="1355400"/>
                          <a:chExt cx="20880" cy="11160"/>
                        </a:xfrm>
                      </p:grpSpPr>
                      <p:sp>
                        <p:nvSpPr>
                          <p:cNvPr id="966" name=""/>
                          <p:cNvSpPr/>
                          <p:nvPr/>
                        </p:nvSpPr>
                        <p:spPr>
                          <a:xfrm flipH="1">
                            <a:off x="8706600" y="1355400"/>
                            <a:ext cx="12600" cy="25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67" name=""/>
                          <p:cNvSpPr/>
                          <p:nvPr/>
                        </p:nvSpPr>
                        <p:spPr>
                          <a:xfrm>
                            <a:off x="8704080" y="1355760"/>
                            <a:ext cx="360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68" name=""/>
                          <p:cNvSpPr/>
                          <p:nvPr/>
                        </p:nvSpPr>
                        <p:spPr>
                          <a:xfrm flipH="1" flipV="1">
                            <a:off x="8706960" y="1357200"/>
                            <a:ext cx="16560" cy="936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69" name=""/>
                          <p:cNvSpPr/>
                          <p:nvPr/>
                        </p:nvSpPr>
                        <p:spPr>
                          <a:xfrm flipV="1">
                            <a:off x="8702640" y="1357200"/>
                            <a:ext cx="1440" cy="79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0" name=""/>
                          <p:cNvSpPr/>
                          <p:nvPr/>
                        </p:nvSpPr>
                        <p:spPr>
                          <a:xfrm flipH="1">
                            <a:off x="8704800" y="1365480"/>
                            <a:ext cx="9360" cy="36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8994960" y="1307880"/>
                    <a:ext cx="106920" cy="78840"/>
                    <a:chOff x="8994960" y="1307880"/>
                    <a:chExt cx="106920" cy="78840"/>
                  </a:xfrm>
                </p:grpSpPr>
                <p:grpSp>
                  <p:nvGrpSpPr>
                    <p:cNvPr id="972" name=""/>
                    <p:cNvGrpSpPr/>
                    <p:nvPr/>
                  </p:nvGrpSpPr>
                  <p:grpSpPr>
                    <a:xfrm>
                      <a:off x="8994960" y="1307880"/>
                      <a:ext cx="106920" cy="78840"/>
                      <a:chOff x="8994960" y="1307880"/>
                      <a:chExt cx="106920" cy="78840"/>
                    </a:xfrm>
                  </p:grpSpPr>
                  <p:sp>
                    <p:nvSpPr>
                      <p:cNvPr id="973" name=""/>
                      <p:cNvSpPr/>
                      <p:nvPr/>
                    </p:nvSpPr>
                    <p:spPr>
                      <a:xfrm>
                        <a:off x="9006480" y="1307880"/>
                        <a:ext cx="89280" cy="788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000" bIns="9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4" name=""/>
                      <p:cNvSpPr/>
                      <p:nvPr/>
                    </p:nvSpPr>
                    <p:spPr>
                      <a:xfrm>
                        <a:off x="8994960" y="1323360"/>
                        <a:ext cx="106920" cy="6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742" y="21600"/>
                            </a:moveTo>
                            <a:arcTo wR="10800" hR="10800" stAng="5418611" swAng="542880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742" y="21600"/>
                            </a:moveTo>
                            <a:arcTo wR="10800" hR="10800" stAng="5418611" swAng="5428803"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6560" bIns="16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75" name=""/>
                    <p:cNvGrpSpPr/>
                    <p:nvPr/>
                  </p:nvGrpSpPr>
                  <p:grpSpPr>
                    <a:xfrm>
                      <a:off x="9016200" y="1324080"/>
                      <a:ext cx="63000" cy="46800"/>
                      <a:chOff x="9016200" y="1324080"/>
                      <a:chExt cx="63000" cy="46800"/>
                    </a:xfrm>
                  </p:grpSpPr>
                  <p:sp>
                    <p:nvSpPr>
                      <p:cNvPr id="976" name=""/>
                      <p:cNvSpPr/>
                      <p:nvPr/>
                    </p:nvSpPr>
                    <p:spPr>
                      <a:xfrm>
                        <a:off x="9018000" y="1324080"/>
                        <a:ext cx="60840" cy="468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255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7" name=""/>
                      <p:cNvSpPr/>
                      <p:nvPr/>
                    </p:nvSpPr>
                    <p:spPr>
                      <a:xfrm>
                        <a:off x="9016200" y="1324080"/>
                        <a:ext cx="63000" cy="46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212">
                            <a:moveTo>
                              <a:pt x="133" y="0"/>
                            </a:moveTo>
                            <a:lnTo>
                              <a:pt x="134" y="90"/>
                            </a:lnTo>
                            <a:lnTo>
                              <a:pt x="210" y="76"/>
                            </a:lnTo>
                            <a:lnTo>
                              <a:pt x="216" y="86"/>
                            </a:lnTo>
                            <a:lnTo>
                              <a:pt x="217" y="102"/>
                            </a:lnTo>
                            <a:lnTo>
                              <a:pt x="143" y="128"/>
                            </a:lnTo>
                            <a:lnTo>
                              <a:pt x="179" y="195"/>
                            </a:lnTo>
                            <a:lnTo>
                              <a:pt x="165" y="206"/>
                            </a:lnTo>
                            <a:lnTo>
                              <a:pt x="151" y="211"/>
                            </a:lnTo>
                            <a:lnTo>
                              <a:pt x="110" y="156"/>
                            </a:lnTo>
                            <a:lnTo>
                              <a:pt x="58" y="207"/>
                            </a:lnTo>
                            <a:lnTo>
                              <a:pt x="44" y="200"/>
                            </a:lnTo>
                            <a:lnTo>
                              <a:pt x="33" y="187"/>
                            </a:lnTo>
                            <a:lnTo>
                              <a:pt x="82" y="125"/>
                            </a:lnTo>
                            <a:lnTo>
                              <a:pt x="13" y="90"/>
                            </a:lnTo>
                            <a:lnTo>
                              <a:pt x="0" y="86"/>
                            </a:lnTo>
                            <a:lnTo>
                              <a:pt x="6" y="68"/>
                            </a:lnTo>
                            <a:lnTo>
                              <a:pt x="10" y="62"/>
                            </a:lnTo>
                            <a:lnTo>
                              <a:pt x="100" y="90"/>
                            </a:lnTo>
                            <a:lnTo>
                              <a:pt x="103" y="0"/>
                            </a:lnTo>
                            <a:lnTo>
                              <a:pt x="119" y="0"/>
                            </a:lnTo>
                            <a:lnTo>
                              <a:pt x="133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255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" bIns="-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78" name=""/>
                      <p:cNvGrpSpPr/>
                      <p:nvPr/>
                    </p:nvGrpSpPr>
                    <p:grpSpPr>
                      <a:xfrm>
                        <a:off x="9039240" y="1339920"/>
                        <a:ext cx="20880" cy="16920"/>
                        <a:chOff x="9039240" y="1339920"/>
                        <a:chExt cx="20880" cy="16920"/>
                      </a:xfrm>
                    </p:grpSpPr>
                    <p:grpSp>
                      <p:nvGrpSpPr>
                        <p:cNvPr id="979" name=""/>
                        <p:cNvGrpSpPr/>
                        <p:nvPr/>
                      </p:nvGrpSpPr>
                      <p:grpSpPr>
                        <a:xfrm>
                          <a:off x="9055800" y="1344960"/>
                          <a:ext cx="4320" cy="3240"/>
                          <a:chOff x="9055800" y="1344960"/>
                          <a:chExt cx="4320" cy="3240"/>
                        </a:xfrm>
                      </p:grpSpPr>
                      <p:sp>
                        <p:nvSpPr>
                          <p:cNvPr id="980" name=""/>
                          <p:cNvSpPr/>
                          <p:nvPr/>
                        </p:nvSpPr>
                        <p:spPr>
                          <a:xfrm>
                            <a:off x="9055800" y="134496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1" name=""/>
                          <p:cNvSpPr/>
                          <p:nvPr/>
                        </p:nvSpPr>
                        <p:spPr>
                          <a:xfrm>
                            <a:off x="9057240" y="134604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82" name=""/>
                        <p:cNvGrpSpPr/>
                        <p:nvPr/>
                      </p:nvGrpSpPr>
                      <p:grpSpPr>
                        <a:xfrm>
                          <a:off x="9039240" y="1344600"/>
                          <a:ext cx="4320" cy="3240"/>
                          <a:chOff x="9039240" y="1344600"/>
                          <a:chExt cx="4320" cy="3240"/>
                        </a:xfrm>
                      </p:grpSpPr>
                      <p:sp>
                        <p:nvSpPr>
                          <p:cNvPr id="983" name=""/>
                          <p:cNvSpPr/>
                          <p:nvPr/>
                        </p:nvSpPr>
                        <p:spPr>
                          <a:xfrm>
                            <a:off x="9039240" y="134460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4" name=""/>
                          <p:cNvSpPr/>
                          <p:nvPr/>
                        </p:nvSpPr>
                        <p:spPr>
                          <a:xfrm>
                            <a:off x="9040680" y="134568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85" name=""/>
                        <p:cNvGrpSpPr/>
                        <p:nvPr/>
                      </p:nvGrpSpPr>
                      <p:grpSpPr>
                        <a:xfrm>
                          <a:off x="9048240" y="1339920"/>
                          <a:ext cx="4680" cy="3240"/>
                          <a:chOff x="9048240" y="1339920"/>
                          <a:chExt cx="4680" cy="3240"/>
                        </a:xfrm>
                      </p:grpSpPr>
                      <p:sp>
                        <p:nvSpPr>
                          <p:cNvPr id="986" name=""/>
                          <p:cNvSpPr/>
                          <p:nvPr/>
                        </p:nvSpPr>
                        <p:spPr>
                          <a:xfrm>
                            <a:off x="9048240" y="1339920"/>
                            <a:ext cx="468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7" name=""/>
                          <p:cNvSpPr/>
                          <p:nvPr/>
                        </p:nvSpPr>
                        <p:spPr>
                          <a:xfrm>
                            <a:off x="9050040" y="134100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88" name=""/>
                        <p:cNvGrpSpPr/>
                        <p:nvPr/>
                      </p:nvGrpSpPr>
                      <p:grpSpPr>
                        <a:xfrm>
                          <a:off x="9041400" y="1353240"/>
                          <a:ext cx="4680" cy="3240"/>
                          <a:chOff x="9041400" y="1353240"/>
                          <a:chExt cx="4680" cy="3240"/>
                        </a:xfrm>
                      </p:grpSpPr>
                      <p:sp>
                        <p:nvSpPr>
                          <p:cNvPr id="989" name=""/>
                          <p:cNvSpPr/>
                          <p:nvPr/>
                        </p:nvSpPr>
                        <p:spPr>
                          <a:xfrm>
                            <a:off x="9041400" y="1353240"/>
                            <a:ext cx="468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90" name=""/>
                          <p:cNvSpPr/>
                          <p:nvPr/>
                        </p:nvSpPr>
                        <p:spPr>
                          <a:xfrm>
                            <a:off x="9043200" y="135432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91" name=""/>
                        <p:cNvGrpSpPr/>
                        <p:nvPr/>
                      </p:nvGrpSpPr>
                      <p:grpSpPr>
                        <a:xfrm>
                          <a:off x="9052200" y="1353600"/>
                          <a:ext cx="4680" cy="3240"/>
                          <a:chOff x="9052200" y="1353600"/>
                          <a:chExt cx="4680" cy="3240"/>
                        </a:xfrm>
                      </p:grpSpPr>
                      <p:sp>
                        <p:nvSpPr>
                          <p:cNvPr id="992" name=""/>
                          <p:cNvSpPr/>
                          <p:nvPr/>
                        </p:nvSpPr>
                        <p:spPr>
                          <a:xfrm>
                            <a:off x="9052200" y="1353600"/>
                            <a:ext cx="468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93" name=""/>
                          <p:cNvSpPr/>
                          <p:nvPr/>
                        </p:nvSpPr>
                        <p:spPr>
                          <a:xfrm>
                            <a:off x="9053640" y="135468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94" name=""/>
                      <p:cNvGrpSpPr/>
                      <p:nvPr/>
                    </p:nvGrpSpPr>
                    <p:grpSpPr>
                      <a:xfrm>
                        <a:off x="9042480" y="1344960"/>
                        <a:ext cx="17640" cy="11520"/>
                        <a:chOff x="9042480" y="1344960"/>
                        <a:chExt cx="17640" cy="11520"/>
                      </a:xfrm>
                    </p:grpSpPr>
                    <p:grpSp>
                      <p:nvGrpSpPr>
                        <p:cNvPr id="995" name=""/>
                        <p:cNvGrpSpPr/>
                        <p:nvPr/>
                      </p:nvGrpSpPr>
                      <p:grpSpPr>
                        <a:xfrm>
                          <a:off x="9042480" y="1344960"/>
                          <a:ext cx="17640" cy="10800"/>
                          <a:chOff x="9042480" y="1344960"/>
                          <a:chExt cx="17640" cy="10800"/>
                        </a:xfrm>
                      </p:grpSpPr>
                      <p:sp>
                        <p:nvSpPr>
                          <p:cNvPr id="996" name=""/>
                          <p:cNvSpPr/>
                          <p:nvPr/>
                        </p:nvSpPr>
                        <p:spPr>
                          <a:xfrm>
                            <a:off x="9045000" y="1345320"/>
                            <a:ext cx="9720" cy="756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1400" bIns="-414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97" name=""/>
                          <p:cNvSpPr/>
                          <p:nvPr/>
                        </p:nvSpPr>
                        <p:spPr>
                          <a:xfrm flipH="1">
                            <a:off x="9046800" y="1344960"/>
                            <a:ext cx="12600" cy="25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98" name=""/>
                          <p:cNvSpPr/>
                          <p:nvPr/>
                        </p:nvSpPr>
                        <p:spPr>
                          <a:xfrm>
                            <a:off x="9044280" y="1345320"/>
                            <a:ext cx="324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99" name=""/>
                          <p:cNvSpPr/>
                          <p:nvPr/>
                        </p:nvSpPr>
                        <p:spPr>
                          <a:xfrm flipH="1" flipV="1">
                            <a:off x="9046800" y="1347120"/>
                            <a:ext cx="13320" cy="864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160" bIns="-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00" name=""/>
                          <p:cNvSpPr/>
                          <p:nvPr/>
                        </p:nvSpPr>
                        <p:spPr>
                          <a:xfrm flipV="1">
                            <a:off x="9042480" y="1346760"/>
                            <a:ext cx="1800" cy="79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001" name=""/>
                        <p:cNvSpPr/>
                        <p:nvPr/>
                      </p:nvSpPr>
                      <p:spPr>
                        <a:xfrm flipH="1">
                          <a:off x="9043560" y="1355400"/>
                          <a:ext cx="10080" cy="108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002" name=""/>
                <p:cNvGrpSpPr/>
                <p:nvPr/>
              </p:nvGrpSpPr>
              <p:grpSpPr>
                <a:xfrm>
                  <a:off x="8465040" y="1299240"/>
                  <a:ext cx="543600" cy="91800"/>
                  <a:chOff x="8465040" y="1299240"/>
                  <a:chExt cx="543600" cy="91800"/>
                </a:xfrm>
              </p:grpSpPr>
              <p:grpSp>
                <p:nvGrpSpPr>
                  <p:cNvPr id="1003" name=""/>
                  <p:cNvGrpSpPr/>
                  <p:nvPr/>
                </p:nvGrpSpPr>
                <p:grpSpPr>
                  <a:xfrm>
                    <a:off x="8465040" y="1299240"/>
                    <a:ext cx="543600" cy="91800"/>
                    <a:chOff x="8465040" y="1299240"/>
                    <a:chExt cx="543600" cy="91800"/>
                  </a:xfrm>
                </p:grpSpPr>
                <p:grpSp>
                  <p:nvGrpSpPr>
                    <p:cNvPr id="1004" name=""/>
                    <p:cNvGrpSpPr/>
                    <p:nvPr/>
                  </p:nvGrpSpPr>
                  <p:grpSpPr>
                    <a:xfrm>
                      <a:off x="8465040" y="1299240"/>
                      <a:ext cx="462960" cy="91800"/>
                      <a:chOff x="8465040" y="1299240"/>
                      <a:chExt cx="462960" cy="91800"/>
                    </a:xfrm>
                  </p:grpSpPr>
                  <p:sp>
                    <p:nvSpPr>
                      <p:cNvPr id="1005" name=""/>
                      <p:cNvSpPr/>
                      <p:nvPr/>
                    </p:nvSpPr>
                    <p:spPr>
                      <a:xfrm>
                        <a:off x="8465040" y="1299240"/>
                        <a:ext cx="102960" cy="918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360" bIns="18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6" name=""/>
                      <p:cNvSpPr/>
                      <p:nvPr/>
                    </p:nvSpPr>
                    <p:spPr>
                      <a:xfrm>
                        <a:off x="8831880" y="1324080"/>
                        <a:ext cx="96120" cy="554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7200" bIns="-7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07" name=""/>
                    <p:cNvSpPr/>
                    <p:nvPr/>
                  </p:nvSpPr>
                  <p:spPr>
                    <a:xfrm>
                      <a:off x="8902800" y="1350720"/>
                      <a:ext cx="10584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6" h="67">
                          <a:moveTo>
                            <a:pt x="353" y="60"/>
                          </a:moveTo>
                          <a:lnTo>
                            <a:pt x="0" y="66"/>
                          </a:lnTo>
                          <a:lnTo>
                            <a:pt x="0" y="0"/>
                          </a:lnTo>
                          <a:lnTo>
                            <a:pt x="365" y="16"/>
                          </a:lnTo>
                          <a:lnTo>
                            <a:pt x="353" y="6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08" name=""/>
                  <p:cNvSpPr/>
                  <p:nvPr/>
                </p:nvSpPr>
                <p:spPr>
                  <a:xfrm>
                    <a:off x="8476560" y="1353240"/>
                    <a:ext cx="1782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99">
                        <a:moveTo>
                          <a:pt x="590" y="98"/>
                        </a:moveTo>
                        <a:lnTo>
                          <a:pt x="37" y="63"/>
                        </a:lnTo>
                        <a:lnTo>
                          <a:pt x="0" y="0"/>
                        </a:lnTo>
                        <a:lnTo>
                          <a:pt x="615" y="34"/>
                        </a:lnTo>
                        <a:lnTo>
                          <a:pt x="590" y="98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09" name=""/>
            <p:cNvGrpSpPr/>
            <p:nvPr/>
          </p:nvGrpSpPr>
          <p:grpSpPr>
            <a:xfrm>
              <a:off x="8370720" y="1219320"/>
              <a:ext cx="773280" cy="156600"/>
              <a:chOff x="8370720" y="1219320"/>
              <a:chExt cx="773280" cy="156600"/>
            </a:xfrm>
          </p:grpSpPr>
          <p:grpSp>
            <p:nvGrpSpPr>
              <p:cNvPr id="1010" name=""/>
              <p:cNvGrpSpPr/>
              <p:nvPr/>
            </p:nvGrpSpPr>
            <p:grpSpPr>
              <a:xfrm>
                <a:off x="8500320" y="1222560"/>
                <a:ext cx="469080" cy="55800"/>
                <a:chOff x="8500320" y="1222560"/>
                <a:chExt cx="469080" cy="5580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8744400" y="1226160"/>
                  <a:ext cx="225000" cy="52200"/>
                </a:xfrm>
                <a:custGeom>
                  <a:avLst/>
                  <a:gdLst/>
                  <a:ahLst/>
                  <a:rect l="l" t="t" r="r" b="b"/>
                  <a:pathLst>
                    <a:path w="778" h="238">
                      <a:moveTo>
                        <a:pt x="745" y="210"/>
                      </a:moveTo>
                      <a:lnTo>
                        <a:pt x="698" y="177"/>
                      </a:lnTo>
                      <a:lnTo>
                        <a:pt x="647" y="146"/>
                      </a:lnTo>
                      <a:lnTo>
                        <a:pt x="596" y="115"/>
                      </a:lnTo>
                      <a:lnTo>
                        <a:pt x="555" y="90"/>
                      </a:lnTo>
                      <a:lnTo>
                        <a:pt x="507" y="60"/>
                      </a:lnTo>
                      <a:lnTo>
                        <a:pt x="481" y="45"/>
                      </a:lnTo>
                      <a:lnTo>
                        <a:pt x="463" y="36"/>
                      </a:lnTo>
                      <a:lnTo>
                        <a:pt x="444" y="29"/>
                      </a:lnTo>
                      <a:lnTo>
                        <a:pt x="432" y="26"/>
                      </a:lnTo>
                      <a:lnTo>
                        <a:pt x="420" y="22"/>
                      </a:lnTo>
                      <a:lnTo>
                        <a:pt x="388" y="16"/>
                      </a:lnTo>
                      <a:lnTo>
                        <a:pt x="282" y="8"/>
                      </a:lnTo>
                      <a:lnTo>
                        <a:pt x="216" y="4"/>
                      </a:lnTo>
                      <a:lnTo>
                        <a:pt x="142" y="0"/>
                      </a:lnTo>
                      <a:lnTo>
                        <a:pt x="98" y="0"/>
                      </a:lnTo>
                      <a:lnTo>
                        <a:pt x="78" y="0"/>
                      </a:lnTo>
                      <a:lnTo>
                        <a:pt x="65" y="2"/>
                      </a:lnTo>
                      <a:lnTo>
                        <a:pt x="54" y="6"/>
                      </a:lnTo>
                      <a:lnTo>
                        <a:pt x="46" y="13"/>
                      </a:lnTo>
                      <a:lnTo>
                        <a:pt x="40" y="19"/>
                      </a:lnTo>
                      <a:lnTo>
                        <a:pt x="35" y="35"/>
                      </a:lnTo>
                      <a:lnTo>
                        <a:pt x="30" y="49"/>
                      </a:lnTo>
                      <a:lnTo>
                        <a:pt x="25" y="70"/>
                      </a:lnTo>
                      <a:lnTo>
                        <a:pt x="8" y="173"/>
                      </a:lnTo>
                      <a:lnTo>
                        <a:pt x="4" y="186"/>
                      </a:lnTo>
                      <a:lnTo>
                        <a:pt x="2" y="193"/>
                      </a:lnTo>
                      <a:lnTo>
                        <a:pt x="0" y="203"/>
                      </a:lnTo>
                      <a:lnTo>
                        <a:pt x="1" y="209"/>
                      </a:lnTo>
                      <a:lnTo>
                        <a:pt x="4" y="215"/>
                      </a:lnTo>
                      <a:lnTo>
                        <a:pt x="11" y="222"/>
                      </a:lnTo>
                      <a:lnTo>
                        <a:pt x="26" y="223"/>
                      </a:lnTo>
                      <a:lnTo>
                        <a:pt x="176" y="226"/>
                      </a:lnTo>
                      <a:lnTo>
                        <a:pt x="391" y="232"/>
                      </a:lnTo>
                      <a:lnTo>
                        <a:pt x="729" y="236"/>
                      </a:lnTo>
                      <a:lnTo>
                        <a:pt x="668" y="214"/>
                      </a:lnTo>
                      <a:lnTo>
                        <a:pt x="243" y="203"/>
                      </a:lnTo>
                      <a:lnTo>
                        <a:pt x="238" y="181"/>
                      </a:lnTo>
                      <a:lnTo>
                        <a:pt x="233" y="162"/>
                      </a:lnTo>
                      <a:lnTo>
                        <a:pt x="225" y="142"/>
                      </a:lnTo>
                      <a:lnTo>
                        <a:pt x="218" y="126"/>
                      </a:lnTo>
                      <a:lnTo>
                        <a:pt x="153" y="135"/>
                      </a:lnTo>
                      <a:lnTo>
                        <a:pt x="111" y="135"/>
                      </a:lnTo>
                      <a:lnTo>
                        <a:pt x="43" y="67"/>
                      </a:lnTo>
                      <a:lnTo>
                        <a:pt x="62" y="65"/>
                      </a:lnTo>
                      <a:lnTo>
                        <a:pt x="124" y="67"/>
                      </a:lnTo>
                      <a:lnTo>
                        <a:pt x="132" y="83"/>
                      </a:lnTo>
                      <a:lnTo>
                        <a:pt x="142" y="104"/>
                      </a:lnTo>
                      <a:lnTo>
                        <a:pt x="147" y="120"/>
                      </a:lnTo>
                      <a:lnTo>
                        <a:pt x="154" y="135"/>
                      </a:lnTo>
                      <a:lnTo>
                        <a:pt x="218" y="126"/>
                      </a:lnTo>
                      <a:lnTo>
                        <a:pt x="209" y="105"/>
                      </a:lnTo>
                      <a:lnTo>
                        <a:pt x="196" y="82"/>
                      </a:lnTo>
                      <a:lnTo>
                        <a:pt x="187" y="64"/>
                      </a:lnTo>
                      <a:lnTo>
                        <a:pt x="388" y="70"/>
                      </a:lnTo>
                      <a:lnTo>
                        <a:pt x="441" y="73"/>
                      </a:lnTo>
                      <a:lnTo>
                        <a:pt x="459" y="75"/>
                      </a:lnTo>
                      <a:lnTo>
                        <a:pt x="486" y="89"/>
                      </a:lnTo>
                      <a:lnTo>
                        <a:pt x="524" y="112"/>
                      </a:lnTo>
                      <a:lnTo>
                        <a:pt x="563" y="139"/>
                      </a:lnTo>
                      <a:lnTo>
                        <a:pt x="600" y="163"/>
                      </a:lnTo>
                      <a:lnTo>
                        <a:pt x="639" y="191"/>
                      </a:lnTo>
                      <a:lnTo>
                        <a:pt x="668" y="213"/>
                      </a:lnTo>
                      <a:lnTo>
                        <a:pt x="732" y="236"/>
                      </a:lnTo>
                      <a:lnTo>
                        <a:pt x="777" y="237"/>
                      </a:lnTo>
                      <a:lnTo>
                        <a:pt x="745" y="2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8500320" y="1222560"/>
                  <a:ext cx="194760" cy="42480"/>
                </a:xfrm>
                <a:custGeom>
                  <a:avLst/>
                  <a:gdLst/>
                  <a:ahLst/>
                  <a:rect l="l" t="t" r="r" b="b"/>
                  <a:pathLst>
                    <a:path w="673" h="193">
                      <a:moveTo>
                        <a:pt x="638" y="2"/>
                      </a:moveTo>
                      <a:lnTo>
                        <a:pt x="649" y="3"/>
                      </a:lnTo>
                      <a:lnTo>
                        <a:pt x="659" y="7"/>
                      </a:lnTo>
                      <a:lnTo>
                        <a:pt x="667" y="12"/>
                      </a:lnTo>
                      <a:lnTo>
                        <a:pt x="671" y="19"/>
                      </a:lnTo>
                      <a:lnTo>
                        <a:pt x="672" y="30"/>
                      </a:lnTo>
                      <a:lnTo>
                        <a:pt x="670" y="39"/>
                      </a:lnTo>
                      <a:lnTo>
                        <a:pt x="664" y="59"/>
                      </a:lnTo>
                      <a:lnTo>
                        <a:pt x="658" y="76"/>
                      </a:lnTo>
                      <a:lnTo>
                        <a:pt x="644" y="72"/>
                      </a:lnTo>
                      <a:lnTo>
                        <a:pt x="625" y="71"/>
                      </a:lnTo>
                      <a:lnTo>
                        <a:pt x="601" y="71"/>
                      </a:lnTo>
                      <a:lnTo>
                        <a:pt x="561" y="71"/>
                      </a:lnTo>
                      <a:lnTo>
                        <a:pt x="552" y="78"/>
                      </a:lnTo>
                      <a:lnTo>
                        <a:pt x="546" y="89"/>
                      </a:lnTo>
                      <a:lnTo>
                        <a:pt x="540" y="101"/>
                      </a:lnTo>
                      <a:lnTo>
                        <a:pt x="535" y="111"/>
                      </a:lnTo>
                      <a:lnTo>
                        <a:pt x="529" y="125"/>
                      </a:lnTo>
                      <a:lnTo>
                        <a:pt x="523" y="140"/>
                      </a:lnTo>
                      <a:lnTo>
                        <a:pt x="519" y="153"/>
                      </a:lnTo>
                      <a:lnTo>
                        <a:pt x="518" y="162"/>
                      </a:lnTo>
                      <a:lnTo>
                        <a:pt x="514" y="188"/>
                      </a:lnTo>
                      <a:lnTo>
                        <a:pt x="456" y="191"/>
                      </a:lnTo>
                      <a:lnTo>
                        <a:pt x="427" y="191"/>
                      </a:lnTo>
                      <a:lnTo>
                        <a:pt x="435" y="156"/>
                      </a:lnTo>
                      <a:lnTo>
                        <a:pt x="440" y="138"/>
                      </a:lnTo>
                      <a:lnTo>
                        <a:pt x="447" y="119"/>
                      </a:lnTo>
                      <a:lnTo>
                        <a:pt x="453" y="103"/>
                      </a:lnTo>
                      <a:lnTo>
                        <a:pt x="464" y="76"/>
                      </a:lnTo>
                      <a:lnTo>
                        <a:pt x="447" y="80"/>
                      </a:lnTo>
                      <a:lnTo>
                        <a:pt x="427" y="85"/>
                      </a:lnTo>
                      <a:lnTo>
                        <a:pt x="408" y="93"/>
                      </a:lnTo>
                      <a:lnTo>
                        <a:pt x="389" y="105"/>
                      </a:lnTo>
                      <a:lnTo>
                        <a:pt x="369" y="119"/>
                      </a:lnTo>
                      <a:lnTo>
                        <a:pt x="352" y="132"/>
                      </a:lnTo>
                      <a:lnTo>
                        <a:pt x="337" y="151"/>
                      </a:lnTo>
                      <a:lnTo>
                        <a:pt x="307" y="192"/>
                      </a:lnTo>
                      <a:lnTo>
                        <a:pt x="152" y="192"/>
                      </a:lnTo>
                      <a:lnTo>
                        <a:pt x="0" y="191"/>
                      </a:lnTo>
                      <a:lnTo>
                        <a:pt x="138" y="106"/>
                      </a:lnTo>
                      <a:lnTo>
                        <a:pt x="213" y="62"/>
                      </a:lnTo>
                      <a:lnTo>
                        <a:pt x="259" y="36"/>
                      </a:lnTo>
                      <a:lnTo>
                        <a:pt x="295" y="21"/>
                      </a:lnTo>
                      <a:lnTo>
                        <a:pt x="313" y="16"/>
                      </a:lnTo>
                      <a:lnTo>
                        <a:pt x="340" y="12"/>
                      </a:lnTo>
                      <a:lnTo>
                        <a:pt x="429" y="9"/>
                      </a:lnTo>
                      <a:lnTo>
                        <a:pt x="566" y="0"/>
                      </a:lnTo>
                      <a:lnTo>
                        <a:pt x="627" y="0"/>
                      </a:lnTo>
                      <a:lnTo>
                        <a:pt x="638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3" name=""/>
              <p:cNvSpPr/>
              <p:nvPr/>
            </p:nvSpPr>
            <p:spPr>
              <a:xfrm>
                <a:off x="8370720" y="1219320"/>
                <a:ext cx="773280" cy="156600"/>
              </a:xfrm>
              <a:custGeom>
                <a:avLst/>
                <a:gdLst/>
                <a:ahLst/>
                <a:rect l="l" t="t" r="r" b="b"/>
                <a:pathLst>
                  <a:path w="2672" h="716">
                    <a:moveTo>
                      <a:pt x="2635" y="463"/>
                    </a:moveTo>
                    <a:lnTo>
                      <a:pt x="2602" y="385"/>
                    </a:lnTo>
                    <a:lnTo>
                      <a:pt x="2593" y="372"/>
                    </a:lnTo>
                    <a:lnTo>
                      <a:pt x="2578" y="359"/>
                    </a:lnTo>
                    <a:lnTo>
                      <a:pt x="2560" y="349"/>
                    </a:lnTo>
                    <a:lnTo>
                      <a:pt x="2494" y="328"/>
                    </a:lnTo>
                    <a:lnTo>
                      <a:pt x="2391" y="305"/>
                    </a:lnTo>
                    <a:lnTo>
                      <a:pt x="2279" y="282"/>
                    </a:lnTo>
                    <a:lnTo>
                      <a:pt x="2176" y="261"/>
                    </a:lnTo>
                    <a:lnTo>
                      <a:pt x="2077" y="243"/>
                    </a:lnTo>
                    <a:lnTo>
                      <a:pt x="2057" y="271"/>
                    </a:lnTo>
                    <a:lnTo>
                      <a:pt x="2025" y="277"/>
                    </a:lnTo>
                    <a:lnTo>
                      <a:pt x="1984" y="277"/>
                    </a:lnTo>
                    <a:lnTo>
                      <a:pt x="1851" y="274"/>
                    </a:lnTo>
                    <a:lnTo>
                      <a:pt x="1647" y="271"/>
                    </a:lnTo>
                    <a:lnTo>
                      <a:pt x="1379" y="264"/>
                    </a:lnTo>
                    <a:lnTo>
                      <a:pt x="1308" y="264"/>
                    </a:lnTo>
                    <a:lnTo>
                      <a:pt x="1295" y="263"/>
                    </a:lnTo>
                    <a:lnTo>
                      <a:pt x="1288" y="255"/>
                    </a:lnTo>
                    <a:lnTo>
                      <a:pt x="1285" y="247"/>
                    </a:lnTo>
                    <a:lnTo>
                      <a:pt x="1285" y="239"/>
                    </a:lnTo>
                    <a:lnTo>
                      <a:pt x="1286" y="232"/>
                    </a:lnTo>
                    <a:lnTo>
                      <a:pt x="1288" y="226"/>
                    </a:lnTo>
                    <a:lnTo>
                      <a:pt x="1290" y="216"/>
                    </a:lnTo>
                    <a:lnTo>
                      <a:pt x="1310" y="102"/>
                    </a:lnTo>
                    <a:lnTo>
                      <a:pt x="1320" y="68"/>
                    </a:lnTo>
                    <a:lnTo>
                      <a:pt x="1326" y="51"/>
                    </a:lnTo>
                    <a:lnTo>
                      <a:pt x="1337" y="40"/>
                    </a:lnTo>
                    <a:lnTo>
                      <a:pt x="1348" y="35"/>
                    </a:lnTo>
                    <a:lnTo>
                      <a:pt x="1364" y="33"/>
                    </a:lnTo>
                    <a:lnTo>
                      <a:pt x="1400" y="33"/>
                    </a:lnTo>
                    <a:lnTo>
                      <a:pt x="1493" y="36"/>
                    </a:lnTo>
                    <a:lnTo>
                      <a:pt x="1572" y="41"/>
                    </a:lnTo>
                    <a:lnTo>
                      <a:pt x="1666" y="49"/>
                    </a:lnTo>
                    <a:lnTo>
                      <a:pt x="1692" y="53"/>
                    </a:lnTo>
                    <a:lnTo>
                      <a:pt x="1714" y="57"/>
                    </a:lnTo>
                    <a:lnTo>
                      <a:pt x="1734" y="63"/>
                    </a:lnTo>
                    <a:lnTo>
                      <a:pt x="1754" y="71"/>
                    </a:lnTo>
                    <a:lnTo>
                      <a:pt x="1776" y="82"/>
                    </a:lnTo>
                    <a:lnTo>
                      <a:pt x="1865" y="138"/>
                    </a:lnTo>
                    <a:lnTo>
                      <a:pt x="2059" y="261"/>
                    </a:lnTo>
                    <a:lnTo>
                      <a:pt x="2070" y="246"/>
                    </a:lnTo>
                    <a:lnTo>
                      <a:pt x="1954" y="171"/>
                    </a:lnTo>
                    <a:lnTo>
                      <a:pt x="1882" y="126"/>
                    </a:lnTo>
                    <a:lnTo>
                      <a:pt x="1775" y="60"/>
                    </a:lnTo>
                    <a:lnTo>
                      <a:pt x="1752" y="49"/>
                    </a:lnTo>
                    <a:lnTo>
                      <a:pt x="1733" y="42"/>
                    </a:lnTo>
                    <a:lnTo>
                      <a:pt x="1715" y="37"/>
                    </a:lnTo>
                    <a:lnTo>
                      <a:pt x="1700" y="33"/>
                    </a:lnTo>
                    <a:lnTo>
                      <a:pt x="1671" y="29"/>
                    </a:lnTo>
                    <a:lnTo>
                      <a:pt x="1626" y="22"/>
                    </a:lnTo>
                    <a:lnTo>
                      <a:pt x="1482" y="7"/>
                    </a:lnTo>
                    <a:lnTo>
                      <a:pt x="1348" y="0"/>
                    </a:lnTo>
                    <a:lnTo>
                      <a:pt x="1221" y="0"/>
                    </a:lnTo>
                    <a:lnTo>
                      <a:pt x="1102" y="0"/>
                    </a:lnTo>
                    <a:lnTo>
                      <a:pt x="1030" y="1"/>
                    </a:lnTo>
                    <a:lnTo>
                      <a:pt x="920" y="8"/>
                    </a:lnTo>
                    <a:lnTo>
                      <a:pt x="850" y="13"/>
                    </a:lnTo>
                    <a:lnTo>
                      <a:pt x="820" y="16"/>
                    </a:lnTo>
                    <a:lnTo>
                      <a:pt x="794" y="21"/>
                    </a:lnTo>
                    <a:lnTo>
                      <a:pt x="772" y="26"/>
                    </a:lnTo>
                    <a:lnTo>
                      <a:pt x="754" y="33"/>
                    </a:lnTo>
                    <a:lnTo>
                      <a:pt x="777" y="29"/>
                    </a:lnTo>
                    <a:lnTo>
                      <a:pt x="800" y="29"/>
                    </a:lnTo>
                    <a:lnTo>
                      <a:pt x="829" y="26"/>
                    </a:lnTo>
                    <a:lnTo>
                      <a:pt x="878" y="23"/>
                    </a:lnTo>
                    <a:lnTo>
                      <a:pt x="943" y="19"/>
                    </a:lnTo>
                    <a:lnTo>
                      <a:pt x="1045" y="15"/>
                    </a:lnTo>
                    <a:lnTo>
                      <a:pt x="1074" y="16"/>
                    </a:lnTo>
                    <a:lnTo>
                      <a:pt x="1094" y="19"/>
                    </a:lnTo>
                    <a:lnTo>
                      <a:pt x="1105" y="22"/>
                    </a:lnTo>
                    <a:lnTo>
                      <a:pt x="1113" y="26"/>
                    </a:lnTo>
                    <a:lnTo>
                      <a:pt x="1118" y="33"/>
                    </a:lnTo>
                    <a:lnTo>
                      <a:pt x="1120" y="39"/>
                    </a:lnTo>
                    <a:lnTo>
                      <a:pt x="1120" y="49"/>
                    </a:lnTo>
                    <a:lnTo>
                      <a:pt x="1118" y="59"/>
                    </a:lnTo>
                    <a:lnTo>
                      <a:pt x="1078" y="167"/>
                    </a:lnTo>
                    <a:lnTo>
                      <a:pt x="1066" y="185"/>
                    </a:lnTo>
                    <a:lnTo>
                      <a:pt x="1061" y="192"/>
                    </a:lnTo>
                    <a:lnTo>
                      <a:pt x="1054" y="199"/>
                    </a:lnTo>
                    <a:lnTo>
                      <a:pt x="1046" y="204"/>
                    </a:lnTo>
                    <a:lnTo>
                      <a:pt x="1036" y="208"/>
                    </a:lnTo>
                    <a:lnTo>
                      <a:pt x="1026" y="212"/>
                    </a:lnTo>
                    <a:lnTo>
                      <a:pt x="1010" y="212"/>
                    </a:lnTo>
                    <a:lnTo>
                      <a:pt x="984" y="214"/>
                    </a:lnTo>
                    <a:lnTo>
                      <a:pt x="930" y="214"/>
                    </a:lnTo>
                    <a:lnTo>
                      <a:pt x="849" y="216"/>
                    </a:lnTo>
                    <a:lnTo>
                      <a:pt x="785" y="216"/>
                    </a:lnTo>
                    <a:lnTo>
                      <a:pt x="703" y="216"/>
                    </a:lnTo>
                    <a:lnTo>
                      <a:pt x="612" y="216"/>
                    </a:lnTo>
                    <a:lnTo>
                      <a:pt x="515" y="216"/>
                    </a:lnTo>
                    <a:lnTo>
                      <a:pt x="464" y="216"/>
                    </a:lnTo>
                    <a:lnTo>
                      <a:pt x="440" y="215"/>
                    </a:lnTo>
                    <a:lnTo>
                      <a:pt x="392" y="218"/>
                    </a:lnTo>
                    <a:lnTo>
                      <a:pt x="332" y="223"/>
                    </a:lnTo>
                    <a:lnTo>
                      <a:pt x="281" y="227"/>
                    </a:lnTo>
                    <a:lnTo>
                      <a:pt x="235" y="232"/>
                    </a:lnTo>
                    <a:lnTo>
                      <a:pt x="150" y="245"/>
                    </a:lnTo>
                    <a:lnTo>
                      <a:pt x="126" y="251"/>
                    </a:lnTo>
                    <a:lnTo>
                      <a:pt x="117" y="254"/>
                    </a:lnTo>
                    <a:lnTo>
                      <a:pt x="105" y="263"/>
                    </a:lnTo>
                    <a:lnTo>
                      <a:pt x="95" y="275"/>
                    </a:lnTo>
                    <a:lnTo>
                      <a:pt x="87" y="286"/>
                    </a:lnTo>
                    <a:lnTo>
                      <a:pt x="81" y="301"/>
                    </a:lnTo>
                    <a:lnTo>
                      <a:pt x="76" y="319"/>
                    </a:lnTo>
                    <a:lnTo>
                      <a:pt x="72" y="339"/>
                    </a:lnTo>
                    <a:lnTo>
                      <a:pt x="80" y="339"/>
                    </a:lnTo>
                    <a:lnTo>
                      <a:pt x="81" y="391"/>
                    </a:lnTo>
                    <a:lnTo>
                      <a:pt x="83" y="421"/>
                    </a:lnTo>
                    <a:lnTo>
                      <a:pt x="85" y="430"/>
                    </a:lnTo>
                    <a:lnTo>
                      <a:pt x="70" y="442"/>
                    </a:lnTo>
                    <a:lnTo>
                      <a:pt x="70" y="457"/>
                    </a:lnTo>
                    <a:lnTo>
                      <a:pt x="76" y="465"/>
                    </a:lnTo>
                    <a:lnTo>
                      <a:pt x="83" y="470"/>
                    </a:lnTo>
                    <a:lnTo>
                      <a:pt x="84" y="475"/>
                    </a:lnTo>
                    <a:lnTo>
                      <a:pt x="54" y="481"/>
                    </a:lnTo>
                    <a:lnTo>
                      <a:pt x="36" y="488"/>
                    </a:lnTo>
                    <a:lnTo>
                      <a:pt x="19" y="495"/>
                    </a:lnTo>
                    <a:lnTo>
                      <a:pt x="4" y="504"/>
                    </a:lnTo>
                    <a:lnTo>
                      <a:pt x="0" y="535"/>
                    </a:lnTo>
                    <a:lnTo>
                      <a:pt x="25" y="609"/>
                    </a:lnTo>
                    <a:lnTo>
                      <a:pt x="32" y="622"/>
                    </a:lnTo>
                    <a:lnTo>
                      <a:pt x="41" y="633"/>
                    </a:lnTo>
                    <a:lnTo>
                      <a:pt x="51" y="640"/>
                    </a:lnTo>
                    <a:lnTo>
                      <a:pt x="67" y="644"/>
                    </a:lnTo>
                    <a:lnTo>
                      <a:pt x="147" y="649"/>
                    </a:lnTo>
                    <a:lnTo>
                      <a:pt x="202" y="651"/>
                    </a:lnTo>
                    <a:lnTo>
                      <a:pt x="278" y="659"/>
                    </a:lnTo>
                    <a:lnTo>
                      <a:pt x="343" y="668"/>
                    </a:lnTo>
                    <a:lnTo>
                      <a:pt x="387" y="677"/>
                    </a:lnTo>
                    <a:lnTo>
                      <a:pt x="450" y="682"/>
                    </a:lnTo>
                    <a:lnTo>
                      <a:pt x="516" y="687"/>
                    </a:lnTo>
                    <a:lnTo>
                      <a:pt x="595" y="691"/>
                    </a:lnTo>
                    <a:lnTo>
                      <a:pt x="729" y="692"/>
                    </a:lnTo>
                    <a:lnTo>
                      <a:pt x="919" y="702"/>
                    </a:lnTo>
                    <a:lnTo>
                      <a:pt x="947" y="581"/>
                    </a:lnTo>
                    <a:lnTo>
                      <a:pt x="968" y="540"/>
                    </a:lnTo>
                    <a:lnTo>
                      <a:pt x="993" y="497"/>
                    </a:lnTo>
                    <a:lnTo>
                      <a:pt x="1018" y="471"/>
                    </a:lnTo>
                    <a:lnTo>
                      <a:pt x="1050" y="450"/>
                    </a:lnTo>
                    <a:lnTo>
                      <a:pt x="1096" y="434"/>
                    </a:lnTo>
                    <a:lnTo>
                      <a:pt x="1149" y="426"/>
                    </a:lnTo>
                    <a:lnTo>
                      <a:pt x="1199" y="428"/>
                    </a:lnTo>
                    <a:lnTo>
                      <a:pt x="1240" y="438"/>
                    </a:lnTo>
                    <a:lnTo>
                      <a:pt x="1274" y="453"/>
                    </a:lnTo>
                    <a:lnTo>
                      <a:pt x="1292" y="467"/>
                    </a:lnTo>
                    <a:lnTo>
                      <a:pt x="1305" y="484"/>
                    </a:lnTo>
                    <a:lnTo>
                      <a:pt x="1324" y="519"/>
                    </a:lnTo>
                    <a:lnTo>
                      <a:pt x="1339" y="559"/>
                    </a:lnTo>
                    <a:lnTo>
                      <a:pt x="1348" y="602"/>
                    </a:lnTo>
                    <a:lnTo>
                      <a:pt x="1348" y="649"/>
                    </a:lnTo>
                    <a:lnTo>
                      <a:pt x="1339" y="715"/>
                    </a:lnTo>
                    <a:lnTo>
                      <a:pt x="2180" y="664"/>
                    </a:lnTo>
                    <a:lnTo>
                      <a:pt x="2194" y="633"/>
                    </a:lnTo>
                    <a:lnTo>
                      <a:pt x="2205" y="602"/>
                    </a:lnTo>
                    <a:lnTo>
                      <a:pt x="2211" y="577"/>
                    </a:lnTo>
                    <a:lnTo>
                      <a:pt x="2218" y="550"/>
                    </a:lnTo>
                    <a:lnTo>
                      <a:pt x="2222" y="522"/>
                    </a:lnTo>
                    <a:lnTo>
                      <a:pt x="2231" y="496"/>
                    </a:lnTo>
                    <a:lnTo>
                      <a:pt x="2241" y="473"/>
                    </a:lnTo>
                    <a:lnTo>
                      <a:pt x="2250" y="458"/>
                    </a:lnTo>
                    <a:lnTo>
                      <a:pt x="2265" y="442"/>
                    </a:lnTo>
                    <a:lnTo>
                      <a:pt x="2278" y="427"/>
                    </a:lnTo>
                    <a:lnTo>
                      <a:pt x="2291" y="416"/>
                    </a:lnTo>
                    <a:lnTo>
                      <a:pt x="2312" y="408"/>
                    </a:lnTo>
                    <a:lnTo>
                      <a:pt x="2342" y="404"/>
                    </a:lnTo>
                    <a:lnTo>
                      <a:pt x="2372" y="404"/>
                    </a:lnTo>
                    <a:lnTo>
                      <a:pt x="2402" y="408"/>
                    </a:lnTo>
                    <a:lnTo>
                      <a:pt x="2421" y="416"/>
                    </a:lnTo>
                    <a:lnTo>
                      <a:pt x="2438" y="431"/>
                    </a:lnTo>
                    <a:lnTo>
                      <a:pt x="2452" y="446"/>
                    </a:lnTo>
                    <a:lnTo>
                      <a:pt x="2466" y="467"/>
                    </a:lnTo>
                    <a:lnTo>
                      <a:pt x="2476" y="492"/>
                    </a:lnTo>
                    <a:lnTo>
                      <a:pt x="2480" y="511"/>
                    </a:lnTo>
                    <a:lnTo>
                      <a:pt x="2481" y="545"/>
                    </a:lnTo>
                    <a:lnTo>
                      <a:pt x="2484" y="568"/>
                    </a:lnTo>
                    <a:lnTo>
                      <a:pt x="2481" y="598"/>
                    </a:lnTo>
                    <a:lnTo>
                      <a:pt x="2483" y="635"/>
                    </a:lnTo>
                    <a:lnTo>
                      <a:pt x="2596" y="632"/>
                    </a:lnTo>
                    <a:lnTo>
                      <a:pt x="2605" y="626"/>
                    </a:lnTo>
                    <a:lnTo>
                      <a:pt x="2612" y="618"/>
                    </a:lnTo>
                    <a:lnTo>
                      <a:pt x="2617" y="595"/>
                    </a:lnTo>
                    <a:lnTo>
                      <a:pt x="2629" y="586"/>
                    </a:lnTo>
                    <a:lnTo>
                      <a:pt x="2643" y="577"/>
                    </a:lnTo>
                    <a:lnTo>
                      <a:pt x="2659" y="558"/>
                    </a:lnTo>
                    <a:lnTo>
                      <a:pt x="2660" y="521"/>
                    </a:lnTo>
                    <a:lnTo>
                      <a:pt x="2671" y="515"/>
                    </a:lnTo>
                    <a:lnTo>
                      <a:pt x="2667" y="485"/>
                    </a:lnTo>
                    <a:lnTo>
                      <a:pt x="2635" y="463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9088920" y="1325160"/>
                <a:ext cx="55080" cy="6840"/>
              </a:xfrm>
              <a:custGeom>
                <a:avLst/>
                <a:gdLst/>
                <a:ahLst/>
                <a:rect l="l" t="t" r="r" b="b"/>
                <a:pathLst>
                  <a:path w="191" h="32">
                    <a:moveTo>
                      <a:pt x="186" y="0"/>
                    </a:moveTo>
                    <a:lnTo>
                      <a:pt x="189" y="12"/>
                    </a:lnTo>
                    <a:lnTo>
                      <a:pt x="190" y="25"/>
                    </a:lnTo>
                    <a:lnTo>
                      <a:pt x="178" y="30"/>
                    </a:lnTo>
                    <a:lnTo>
                      <a:pt x="8" y="31"/>
                    </a:lnTo>
                    <a:lnTo>
                      <a:pt x="4" y="17"/>
                    </a:lnTo>
                    <a:lnTo>
                      <a:pt x="0" y="1"/>
                    </a:lnTo>
                    <a:lnTo>
                      <a:pt x="70" y="2"/>
                    </a:lnTo>
                    <a:lnTo>
                      <a:pt x="159" y="2"/>
                    </a:lnTo>
                    <a:lnTo>
                      <a:pt x="18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5" name=""/>
              <p:cNvGrpSpPr/>
              <p:nvPr/>
            </p:nvGrpSpPr>
            <p:grpSpPr>
              <a:xfrm>
                <a:off x="8395200" y="1220400"/>
                <a:ext cx="746280" cy="149400"/>
                <a:chOff x="8395200" y="1220400"/>
                <a:chExt cx="746280" cy="14940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8561160" y="1289160"/>
                  <a:ext cx="561600" cy="13320"/>
                </a:xfrm>
                <a:custGeom>
                  <a:avLst/>
                  <a:gdLst/>
                  <a:ahLst/>
                  <a:rect l="l" t="t" r="r" b="b"/>
                  <a:pathLst>
                    <a:path w="1940" h="61">
                      <a:moveTo>
                        <a:pt x="1939" y="60"/>
                      </a:moveTo>
                      <a:lnTo>
                        <a:pt x="1882" y="50"/>
                      </a:lnTo>
                      <a:lnTo>
                        <a:pt x="1824" y="40"/>
                      </a:lnTo>
                      <a:lnTo>
                        <a:pt x="1766" y="34"/>
                      </a:lnTo>
                      <a:lnTo>
                        <a:pt x="1606" y="22"/>
                      </a:lnTo>
                      <a:lnTo>
                        <a:pt x="1368" y="13"/>
                      </a:lnTo>
                      <a:lnTo>
                        <a:pt x="673" y="0"/>
                      </a:lnTo>
                      <a:lnTo>
                        <a:pt x="423" y="0"/>
                      </a:lnTo>
                      <a:lnTo>
                        <a:pt x="56" y="6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H="1">
                  <a:off x="9086760" y="1335600"/>
                  <a:ext cx="5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8" name=""/>
                <p:cNvGrpSpPr/>
                <p:nvPr/>
              </p:nvGrpSpPr>
              <p:grpSpPr>
                <a:xfrm>
                  <a:off x="8395200" y="1220400"/>
                  <a:ext cx="619200" cy="149400"/>
                  <a:chOff x="8395200" y="1220400"/>
                  <a:chExt cx="619200" cy="149400"/>
                </a:xfrm>
              </p:grpSpPr>
              <p:sp>
                <p:nvSpPr>
                  <p:cNvPr id="1019" name=""/>
                  <p:cNvSpPr/>
                  <p:nvPr/>
                </p:nvSpPr>
                <p:spPr>
                  <a:xfrm>
                    <a:off x="8486280" y="1220400"/>
                    <a:ext cx="21240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34" h="221">
                        <a:moveTo>
                          <a:pt x="408" y="15"/>
                        </a:moveTo>
                        <a:lnTo>
                          <a:pt x="477" y="10"/>
                        </a:lnTo>
                        <a:lnTo>
                          <a:pt x="556" y="5"/>
                        </a:lnTo>
                        <a:lnTo>
                          <a:pt x="639" y="1"/>
                        </a:lnTo>
                        <a:lnTo>
                          <a:pt x="674" y="0"/>
                        </a:lnTo>
                        <a:lnTo>
                          <a:pt x="694" y="2"/>
                        </a:lnTo>
                        <a:lnTo>
                          <a:pt x="710" y="6"/>
                        </a:lnTo>
                        <a:lnTo>
                          <a:pt x="722" y="12"/>
                        </a:lnTo>
                        <a:lnTo>
                          <a:pt x="729" y="22"/>
                        </a:lnTo>
                        <a:lnTo>
                          <a:pt x="733" y="35"/>
                        </a:lnTo>
                        <a:lnTo>
                          <a:pt x="733" y="47"/>
                        </a:lnTo>
                        <a:lnTo>
                          <a:pt x="691" y="161"/>
                        </a:lnTo>
                        <a:lnTo>
                          <a:pt x="686" y="172"/>
                        </a:lnTo>
                        <a:lnTo>
                          <a:pt x="678" y="185"/>
                        </a:lnTo>
                        <a:lnTo>
                          <a:pt x="671" y="195"/>
                        </a:lnTo>
                        <a:lnTo>
                          <a:pt x="661" y="206"/>
                        </a:lnTo>
                        <a:lnTo>
                          <a:pt x="647" y="213"/>
                        </a:lnTo>
                        <a:lnTo>
                          <a:pt x="632" y="218"/>
                        </a:lnTo>
                        <a:lnTo>
                          <a:pt x="610" y="220"/>
                        </a:lnTo>
                        <a:lnTo>
                          <a:pt x="395" y="218"/>
                        </a:lnTo>
                        <a:lnTo>
                          <a:pt x="282" y="217"/>
                        </a:lnTo>
                        <a:lnTo>
                          <a:pt x="175" y="216"/>
                        </a:lnTo>
                        <a:lnTo>
                          <a:pt x="0" y="21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8797680" y="1272600"/>
                    <a:ext cx="19980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440">
                        <a:moveTo>
                          <a:pt x="595" y="0"/>
                        </a:moveTo>
                        <a:lnTo>
                          <a:pt x="621" y="25"/>
                        </a:lnTo>
                        <a:lnTo>
                          <a:pt x="636" y="40"/>
                        </a:lnTo>
                        <a:lnTo>
                          <a:pt x="647" y="53"/>
                        </a:lnTo>
                        <a:lnTo>
                          <a:pt x="657" y="67"/>
                        </a:lnTo>
                        <a:lnTo>
                          <a:pt x="666" y="81"/>
                        </a:lnTo>
                        <a:lnTo>
                          <a:pt x="671" y="94"/>
                        </a:lnTo>
                        <a:lnTo>
                          <a:pt x="680" y="139"/>
                        </a:lnTo>
                        <a:lnTo>
                          <a:pt x="685" y="184"/>
                        </a:lnTo>
                        <a:lnTo>
                          <a:pt x="689" y="221"/>
                        </a:lnTo>
                        <a:lnTo>
                          <a:pt x="689" y="243"/>
                        </a:lnTo>
                        <a:lnTo>
                          <a:pt x="688" y="281"/>
                        </a:lnTo>
                        <a:lnTo>
                          <a:pt x="684" y="311"/>
                        </a:lnTo>
                        <a:lnTo>
                          <a:pt x="678" y="340"/>
                        </a:lnTo>
                        <a:lnTo>
                          <a:pt x="673" y="363"/>
                        </a:lnTo>
                        <a:lnTo>
                          <a:pt x="666" y="383"/>
                        </a:lnTo>
                        <a:lnTo>
                          <a:pt x="656" y="404"/>
                        </a:lnTo>
                        <a:lnTo>
                          <a:pt x="547" y="411"/>
                        </a:lnTo>
                        <a:lnTo>
                          <a:pt x="0" y="439"/>
                        </a:lnTo>
                        <a:lnTo>
                          <a:pt x="15" y="350"/>
                        </a:lnTo>
                        <a:lnTo>
                          <a:pt x="23" y="259"/>
                        </a:lnTo>
                        <a:lnTo>
                          <a:pt x="28" y="84"/>
                        </a:lnTo>
                        <a:lnTo>
                          <a:pt x="26" y="68"/>
                        </a:lnTo>
                        <a:lnTo>
                          <a:pt x="21" y="50"/>
                        </a:lnTo>
                        <a:lnTo>
                          <a:pt x="15" y="33"/>
                        </a:lnTo>
                        <a:lnTo>
                          <a:pt x="4" y="2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8737560" y="1224360"/>
                    <a:ext cx="23976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828" h="270">
                        <a:moveTo>
                          <a:pt x="469" y="31"/>
                        </a:moveTo>
                        <a:lnTo>
                          <a:pt x="509" y="51"/>
                        </a:lnTo>
                        <a:lnTo>
                          <a:pt x="548" y="73"/>
                        </a:lnTo>
                        <a:lnTo>
                          <a:pt x="586" y="98"/>
                        </a:lnTo>
                        <a:lnTo>
                          <a:pt x="623" y="121"/>
                        </a:lnTo>
                        <a:lnTo>
                          <a:pt x="661" y="145"/>
                        </a:lnTo>
                        <a:lnTo>
                          <a:pt x="699" y="169"/>
                        </a:lnTo>
                        <a:lnTo>
                          <a:pt x="741" y="195"/>
                        </a:lnTo>
                        <a:lnTo>
                          <a:pt x="777" y="221"/>
                        </a:lnTo>
                        <a:lnTo>
                          <a:pt x="802" y="242"/>
                        </a:lnTo>
                        <a:lnTo>
                          <a:pt x="827" y="267"/>
                        </a:lnTo>
                        <a:lnTo>
                          <a:pt x="696" y="269"/>
                        </a:lnTo>
                        <a:lnTo>
                          <a:pt x="227" y="264"/>
                        </a:lnTo>
                        <a:lnTo>
                          <a:pt x="44" y="260"/>
                        </a:lnTo>
                        <a:lnTo>
                          <a:pt x="28" y="259"/>
                        </a:lnTo>
                        <a:lnTo>
                          <a:pt x="15" y="255"/>
                        </a:lnTo>
                        <a:lnTo>
                          <a:pt x="5" y="246"/>
                        </a:lnTo>
                        <a:lnTo>
                          <a:pt x="0" y="233"/>
                        </a:lnTo>
                        <a:lnTo>
                          <a:pt x="0" y="222"/>
                        </a:lnTo>
                        <a:lnTo>
                          <a:pt x="1" y="211"/>
                        </a:lnTo>
                        <a:lnTo>
                          <a:pt x="4" y="200"/>
                        </a:lnTo>
                        <a:lnTo>
                          <a:pt x="36" y="52"/>
                        </a:lnTo>
                        <a:lnTo>
                          <a:pt x="40" y="39"/>
                        </a:lnTo>
                        <a:lnTo>
                          <a:pt x="44" y="29"/>
                        </a:lnTo>
                        <a:lnTo>
                          <a:pt x="50" y="18"/>
                        </a:lnTo>
                        <a:lnTo>
                          <a:pt x="57" y="12"/>
                        </a:lnTo>
                        <a:lnTo>
                          <a:pt x="65" y="5"/>
                        </a:lnTo>
                        <a:lnTo>
                          <a:pt x="73" y="3"/>
                        </a:lnTo>
                        <a:lnTo>
                          <a:pt x="87" y="0"/>
                        </a:lnTo>
                        <a:lnTo>
                          <a:pt x="108" y="0"/>
                        </a:lnTo>
                        <a:lnTo>
                          <a:pt x="14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 flipH="1">
                    <a:off x="8755560" y="1338480"/>
                    <a:ext cx="258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3" name=""/>
                  <p:cNvGrpSpPr/>
                  <p:nvPr/>
                </p:nvGrpSpPr>
                <p:grpSpPr>
                  <a:xfrm>
                    <a:off x="8395200" y="1268280"/>
                    <a:ext cx="266040" cy="101520"/>
                    <a:chOff x="8395200" y="1268280"/>
                    <a:chExt cx="266040" cy="101520"/>
                  </a:xfrm>
                </p:grpSpPr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8525880" y="1268280"/>
                      <a:ext cx="13536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8" h="120">
                          <a:moveTo>
                            <a:pt x="467" y="0"/>
                          </a:moveTo>
                          <a:lnTo>
                            <a:pt x="290" y="6"/>
                          </a:lnTo>
                          <a:lnTo>
                            <a:pt x="217" y="10"/>
                          </a:lnTo>
                          <a:lnTo>
                            <a:pt x="165" y="13"/>
                          </a:lnTo>
                          <a:lnTo>
                            <a:pt x="120" y="17"/>
                          </a:lnTo>
                          <a:lnTo>
                            <a:pt x="74" y="21"/>
                          </a:lnTo>
                          <a:lnTo>
                            <a:pt x="54" y="25"/>
                          </a:lnTo>
                          <a:lnTo>
                            <a:pt x="39" y="34"/>
                          </a:lnTo>
                          <a:lnTo>
                            <a:pt x="29" y="45"/>
                          </a:lnTo>
                          <a:lnTo>
                            <a:pt x="20" y="55"/>
                          </a:lnTo>
                          <a:lnTo>
                            <a:pt x="13" y="69"/>
                          </a:lnTo>
                          <a:lnTo>
                            <a:pt x="7" y="80"/>
                          </a:lnTo>
                          <a:lnTo>
                            <a:pt x="3" y="96"/>
                          </a:lnTo>
                          <a:lnTo>
                            <a:pt x="0" y="119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5" name=""/>
                    <p:cNvSpPr/>
                    <p:nvPr/>
                  </p:nvSpPr>
                  <p:spPr>
                    <a:xfrm>
                      <a:off x="8568000" y="1340280"/>
                      <a:ext cx="133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135">
                          <a:moveTo>
                            <a:pt x="45" y="0"/>
                          </a:moveTo>
                          <a:lnTo>
                            <a:pt x="44" y="32"/>
                          </a:lnTo>
                          <a:lnTo>
                            <a:pt x="42" y="52"/>
                          </a:lnTo>
                          <a:lnTo>
                            <a:pt x="39" y="73"/>
                          </a:lnTo>
                          <a:lnTo>
                            <a:pt x="36" y="93"/>
                          </a:lnTo>
                          <a:lnTo>
                            <a:pt x="27" y="108"/>
                          </a:lnTo>
                          <a:lnTo>
                            <a:pt x="17" y="122"/>
                          </a:lnTo>
                          <a:lnTo>
                            <a:pt x="0" y="13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6" name=""/>
                    <p:cNvSpPr/>
                    <p:nvPr/>
                  </p:nvSpPr>
                  <p:spPr>
                    <a:xfrm>
                      <a:off x="8465760" y="1340280"/>
                      <a:ext cx="169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124">
                          <a:moveTo>
                            <a:pt x="0" y="0"/>
                          </a:moveTo>
                          <a:lnTo>
                            <a:pt x="0" y="15"/>
                          </a:lnTo>
                          <a:lnTo>
                            <a:pt x="1" y="35"/>
                          </a:lnTo>
                          <a:lnTo>
                            <a:pt x="6" y="54"/>
                          </a:lnTo>
                          <a:lnTo>
                            <a:pt x="11" y="74"/>
                          </a:lnTo>
                          <a:lnTo>
                            <a:pt x="24" y="92"/>
                          </a:lnTo>
                          <a:lnTo>
                            <a:pt x="34" y="105"/>
                          </a:lnTo>
                          <a:lnTo>
                            <a:pt x="44" y="115"/>
                          </a:lnTo>
                          <a:lnTo>
                            <a:pt x="58" y="12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7" name=""/>
                    <p:cNvSpPr/>
                    <p:nvPr/>
                  </p:nvSpPr>
                  <p:spPr>
                    <a:xfrm>
                      <a:off x="8407080" y="1273320"/>
                      <a:ext cx="13536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7" h="17">
                          <a:moveTo>
                            <a:pt x="466" y="0"/>
                          </a:moveTo>
                          <a:lnTo>
                            <a:pt x="265" y="10"/>
                          </a:lnTo>
                          <a:lnTo>
                            <a:pt x="57" y="10"/>
                          </a:lnTo>
                          <a:lnTo>
                            <a:pt x="37" y="10"/>
                          </a:lnTo>
                          <a:lnTo>
                            <a:pt x="17" y="10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8465040" y="1341360"/>
                      <a:ext cx="18360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4" h="17">
                          <a:moveTo>
                            <a:pt x="633" y="5"/>
                          </a:moveTo>
                          <a:lnTo>
                            <a:pt x="505" y="8"/>
                          </a:lnTo>
                          <a:lnTo>
                            <a:pt x="459" y="10"/>
                          </a:lnTo>
                          <a:lnTo>
                            <a:pt x="410" y="10"/>
                          </a:lnTo>
                          <a:lnTo>
                            <a:pt x="356" y="11"/>
                          </a:lnTo>
                          <a:lnTo>
                            <a:pt x="307" y="13"/>
                          </a:lnTo>
                          <a:lnTo>
                            <a:pt x="264" y="16"/>
                          </a:lnTo>
                          <a:lnTo>
                            <a:pt x="227" y="1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8395200" y="1323000"/>
                      <a:ext cx="18792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9" h="17">
                          <a:moveTo>
                            <a:pt x="648" y="16"/>
                          </a:moveTo>
                          <a:lnTo>
                            <a:pt x="418" y="1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030" name=""/>
              <p:cNvSpPr/>
              <p:nvPr/>
            </p:nvSpPr>
            <p:spPr>
              <a:xfrm>
                <a:off x="8754120" y="1326240"/>
                <a:ext cx="262440" cy="10080"/>
              </a:xfrm>
              <a:custGeom>
                <a:avLst/>
                <a:gdLst/>
                <a:ahLst/>
                <a:rect l="l" t="t" r="r" b="b"/>
                <a:pathLst>
                  <a:path w="907" h="47">
                    <a:moveTo>
                      <a:pt x="906" y="0"/>
                    </a:moveTo>
                    <a:lnTo>
                      <a:pt x="461" y="5"/>
                    </a:lnTo>
                    <a:lnTo>
                      <a:pt x="0" y="14"/>
                    </a:lnTo>
                    <a:lnTo>
                      <a:pt x="10" y="31"/>
                    </a:lnTo>
                    <a:lnTo>
                      <a:pt x="17" y="46"/>
                    </a:lnTo>
                    <a:lnTo>
                      <a:pt x="423" y="41"/>
                    </a:lnTo>
                    <a:lnTo>
                      <a:pt x="893" y="32"/>
                    </a:lnTo>
                    <a:lnTo>
                      <a:pt x="90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373600" y="1324440"/>
                <a:ext cx="283680" cy="17280"/>
              </a:xfrm>
              <a:custGeom>
                <a:avLst/>
                <a:gdLst/>
                <a:ahLst/>
                <a:rect l="l" t="t" r="r" b="b"/>
                <a:pathLst>
                  <a:path w="980" h="80">
                    <a:moveTo>
                      <a:pt x="979" y="23"/>
                    </a:moveTo>
                    <a:lnTo>
                      <a:pt x="743" y="31"/>
                    </a:lnTo>
                    <a:lnTo>
                      <a:pt x="615" y="35"/>
                    </a:lnTo>
                    <a:lnTo>
                      <a:pt x="367" y="35"/>
                    </a:lnTo>
                    <a:lnTo>
                      <a:pt x="61" y="19"/>
                    </a:lnTo>
                    <a:lnTo>
                      <a:pt x="54" y="18"/>
                    </a:lnTo>
                    <a:lnTo>
                      <a:pt x="48" y="16"/>
                    </a:lnTo>
                    <a:lnTo>
                      <a:pt x="42" y="13"/>
                    </a:lnTo>
                    <a:lnTo>
                      <a:pt x="46" y="7"/>
                    </a:lnTo>
                    <a:lnTo>
                      <a:pt x="61" y="0"/>
                    </a:lnTo>
                    <a:lnTo>
                      <a:pt x="52" y="0"/>
                    </a:lnTo>
                    <a:lnTo>
                      <a:pt x="16" y="13"/>
                    </a:lnTo>
                    <a:lnTo>
                      <a:pt x="2" y="21"/>
                    </a:lnTo>
                    <a:lnTo>
                      <a:pt x="0" y="31"/>
                    </a:lnTo>
                    <a:lnTo>
                      <a:pt x="9" y="42"/>
                    </a:lnTo>
                    <a:lnTo>
                      <a:pt x="18" y="47"/>
                    </a:lnTo>
                    <a:lnTo>
                      <a:pt x="30" y="51"/>
                    </a:lnTo>
                    <a:lnTo>
                      <a:pt x="46" y="54"/>
                    </a:lnTo>
                    <a:lnTo>
                      <a:pt x="541" y="79"/>
                    </a:lnTo>
                    <a:lnTo>
                      <a:pt x="948" y="68"/>
                    </a:lnTo>
                    <a:lnTo>
                      <a:pt x="979" y="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2" name=""/>
              <p:cNvGrpSpPr/>
              <p:nvPr/>
            </p:nvGrpSpPr>
            <p:grpSpPr>
              <a:xfrm>
                <a:off x="8390880" y="1293480"/>
                <a:ext cx="188640" cy="30960"/>
                <a:chOff x="8390880" y="1293480"/>
                <a:chExt cx="188640" cy="309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8391240" y="1293480"/>
                  <a:ext cx="188280" cy="30960"/>
                </a:xfrm>
                <a:custGeom>
                  <a:avLst/>
                  <a:gdLst/>
                  <a:ahLst/>
                  <a:rect l="l" t="t" r="r" b="b"/>
                  <a:pathLst>
                    <a:path w="651" h="142">
                      <a:moveTo>
                        <a:pt x="650" y="136"/>
                      </a:moveTo>
                      <a:lnTo>
                        <a:pt x="619" y="56"/>
                      </a:lnTo>
                      <a:lnTo>
                        <a:pt x="607" y="0"/>
                      </a:lnTo>
                      <a:lnTo>
                        <a:pt x="9" y="0"/>
                      </a:lnTo>
                      <a:lnTo>
                        <a:pt x="12" y="72"/>
                      </a:lnTo>
                      <a:lnTo>
                        <a:pt x="12" y="83"/>
                      </a:lnTo>
                      <a:lnTo>
                        <a:pt x="12" y="93"/>
                      </a:lnTo>
                      <a:lnTo>
                        <a:pt x="0" y="103"/>
                      </a:lnTo>
                      <a:lnTo>
                        <a:pt x="0" y="122"/>
                      </a:lnTo>
                      <a:lnTo>
                        <a:pt x="276" y="134"/>
                      </a:lnTo>
                      <a:lnTo>
                        <a:pt x="468" y="141"/>
                      </a:lnTo>
                      <a:lnTo>
                        <a:pt x="650" y="136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4" name=""/>
                <p:cNvGrpSpPr/>
                <p:nvPr/>
              </p:nvGrpSpPr>
              <p:grpSpPr>
                <a:xfrm>
                  <a:off x="8390880" y="1295640"/>
                  <a:ext cx="182160" cy="17280"/>
                  <a:chOff x="8390880" y="1295640"/>
                  <a:chExt cx="182160" cy="17280"/>
                </a:xfrm>
              </p:grpSpPr>
              <p:sp>
                <p:nvSpPr>
                  <p:cNvPr id="1035" name=""/>
                  <p:cNvSpPr/>
                  <p:nvPr/>
                </p:nvSpPr>
                <p:spPr>
                  <a:xfrm flipH="1">
                    <a:off x="8390880" y="1295640"/>
                    <a:ext cx="178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 flipH="1">
                    <a:off x="8392680" y="1297080"/>
                    <a:ext cx="177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 flipH="1">
                    <a:off x="8391960" y="1299960"/>
                    <a:ext cx="178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flipH="1" flipV="1">
                    <a:off x="8392320" y="1300320"/>
                    <a:ext cx="178920" cy="3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 flipH="1">
                    <a:off x="8391600" y="1304640"/>
                    <a:ext cx="180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8394480" y="1306800"/>
                    <a:ext cx="1771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11" h="17">
                        <a:moveTo>
                          <a:pt x="610" y="0"/>
                        </a:moveTo>
                        <a:lnTo>
                          <a:pt x="497" y="16"/>
                        </a:lnTo>
                        <a:lnTo>
                          <a:pt x="459" y="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8394120" y="1309320"/>
                    <a:ext cx="1789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18" h="17">
                        <a:moveTo>
                          <a:pt x="617" y="4"/>
                        </a:moveTo>
                        <a:lnTo>
                          <a:pt x="513" y="16"/>
                        </a:lnTo>
                        <a:lnTo>
                          <a:pt x="456" y="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42" name=""/>
              <p:cNvGrpSpPr/>
              <p:nvPr/>
            </p:nvGrpSpPr>
            <p:grpSpPr>
              <a:xfrm>
                <a:off x="8393400" y="1280160"/>
                <a:ext cx="104040" cy="79920"/>
                <a:chOff x="8393400" y="1280160"/>
                <a:chExt cx="104040" cy="79920"/>
              </a:xfrm>
            </p:grpSpPr>
            <p:sp>
              <p:nvSpPr>
                <p:cNvPr id="1043" name=""/>
                <p:cNvSpPr/>
                <p:nvPr/>
              </p:nvSpPr>
              <p:spPr>
                <a:xfrm>
                  <a:off x="8412480" y="1338120"/>
                  <a:ext cx="11880" cy="21960"/>
                </a:xfrm>
                <a:custGeom>
                  <a:avLst/>
                  <a:gdLst/>
                  <a:ahLst/>
                  <a:rect l="l" t="t" r="r" b="b"/>
                  <a:pathLst>
                    <a:path w="41" h="101">
                      <a:moveTo>
                        <a:pt x="1" y="0"/>
                      </a:moveTo>
                      <a:lnTo>
                        <a:pt x="0" y="17"/>
                      </a:lnTo>
                      <a:lnTo>
                        <a:pt x="3" y="42"/>
                      </a:lnTo>
                      <a:lnTo>
                        <a:pt x="9" y="61"/>
                      </a:lnTo>
                      <a:lnTo>
                        <a:pt x="15" y="76"/>
                      </a:lnTo>
                      <a:lnTo>
                        <a:pt x="26" y="90"/>
                      </a:lnTo>
                      <a:lnTo>
                        <a:pt x="40" y="100"/>
                      </a:lnTo>
                      <a:lnTo>
                        <a:pt x="40" y="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4" name=""/>
                <p:cNvGrpSpPr/>
                <p:nvPr/>
              </p:nvGrpSpPr>
              <p:grpSpPr>
                <a:xfrm>
                  <a:off x="8393400" y="1280160"/>
                  <a:ext cx="104040" cy="77400"/>
                  <a:chOff x="8393400" y="1280160"/>
                  <a:chExt cx="104040" cy="77400"/>
                </a:xfrm>
              </p:grpSpPr>
              <p:sp>
                <p:nvSpPr>
                  <p:cNvPr id="1045" name=""/>
                  <p:cNvSpPr/>
                  <p:nvPr/>
                </p:nvSpPr>
                <p:spPr>
                  <a:xfrm>
                    <a:off x="8473680" y="1344240"/>
                    <a:ext cx="23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61">
                        <a:moveTo>
                          <a:pt x="64" y="4"/>
                        </a:moveTo>
                        <a:lnTo>
                          <a:pt x="65" y="20"/>
                        </a:lnTo>
                        <a:lnTo>
                          <a:pt x="67" y="33"/>
                        </a:lnTo>
                        <a:lnTo>
                          <a:pt x="74" y="46"/>
                        </a:lnTo>
                        <a:lnTo>
                          <a:pt x="82" y="60"/>
                        </a:lnTo>
                        <a:lnTo>
                          <a:pt x="15" y="55"/>
                        </a:lnTo>
                        <a:lnTo>
                          <a:pt x="7" y="48"/>
                        </a:lnTo>
                        <a:lnTo>
                          <a:pt x="4" y="35"/>
                        </a:lnTo>
                        <a:lnTo>
                          <a:pt x="0" y="21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64" y="4"/>
                        </a:lnTo>
                      </a:path>
                    </a:pathLst>
                  </a:custGeom>
                  <a:solidFill>
                    <a:srgbClr val="ffa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8393400" y="1340280"/>
                    <a:ext cx="162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9">
                        <a:moveTo>
                          <a:pt x="46" y="3"/>
                        </a:moveTo>
                        <a:lnTo>
                          <a:pt x="46" y="12"/>
                        </a:lnTo>
                        <a:lnTo>
                          <a:pt x="46" y="22"/>
                        </a:lnTo>
                        <a:lnTo>
                          <a:pt x="50" y="36"/>
                        </a:lnTo>
                        <a:lnTo>
                          <a:pt x="56" y="48"/>
                        </a:lnTo>
                        <a:lnTo>
                          <a:pt x="11" y="45"/>
                        </a:lnTo>
                        <a:lnTo>
                          <a:pt x="4" y="36"/>
                        </a:lnTo>
                        <a:lnTo>
                          <a:pt x="1" y="27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46" y="3"/>
                        </a:lnTo>
                      </a:path>
                    </a:pathLst>
                  </a:custGeom>
                  <a:solidFill>
                    <a:srgbClr val="ffa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8448480" y="1280160"/>
                    <a:ext cx="11160" cy="756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48" name=""/>
              <p:cNvGrpSpPr/>
              <p:nvPr/>
            </p:nvGrpSpPr>
            <p:grpSpPr>
              <a:xfrm>
                <a:off x="8768520" y="1226520"/>
                <a:ext cx="47160" cy="51480"/>
                <a:chOff x="8768520" y="1226520"/>
                <a:chExt cx="47160" cy="5148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8768520" y="1226520"/>
                  <a:ext cx="47160" cy="51480"/>
                </a:xfrm>
                <a:custGeom>
                  <a:avLst/>
                  <a:gdLst/>
                  <a:ahLst/>
                  <a:rect l="l" t="t" r="r" b="b"/>
                  <a:pathLst>
                    <a:path w="164" h="236">
                      <a:moveTo>
                        <a:pt x="61" y="0"/>
                      </a:moveTo>
                      <a:lnTo>
                        <a:pt x="77" y="28"/>
                      </a:lnTo>
                      <a:lnTo>
                        <a:pt x="93" y="58"/>
                      </a:lnTo>
                      <a:lnTo>
                        <a:pt x="107" y="86"/>
                      </a:lnTo>
                      <a:lnTo>
                        <a:pt x="123" y="116"/>
                      </a:lnTo>
                      <a:lnTo>
                        <a:pt x="136" y="144"/>
                      </a:lnTo>
                      <a:lnTo>
                        <a:pt x="143" y="159"/>
                      </a:lnTo>
                      <a:lnTo>
                        <a:pt x="149" y="178"/>
                      </a:lnTo>
                      <a:lnTo>
                        <a:pt x="158" y="209"/>
                      </a:lnTo>
                      <a:lnTo>
                        <a:pt x="163" y="235"/>
                      </a:lnTo>
                      <a:lnTo>
                        <a:pt x="124" y="234"/>
                      </a:lnTo>
                      <a:lnTo>
                        <a:pt x="93" y="233"/>
                      </a:lnTo>
                      <a:lnTo>
                        <a:pt x="87" y="202"/>
                      </a:lnTo>
                      <a:lnTo>
                        <a:pt x="76" y="166"/>
                      </a:lnTo>
                      <a:lnTo>
                        <a:pt x="66" y="140"/>
                      </a:lnTo>
                      <a:lnTo>
                        <a:pt x="52" y="107"/>
                      </a:lnTo>
                      <a:lnTo>
                        <a:pt x="34" y="67"/>
                      </a:lnTo>
                      <a:lnTo>
                        <a:pt x="0" y="0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8787600" y="1229400"/>
                  <a:ext cx="20160" cy="46440"/>
                </a:xfrm>
                <a:custGeom>
                  <a:avLst/>
                  <a:gdLst/>
                  <a:ahLst/>
                  <a:rect l="l" t="t" r="r" b="b"/>
                  <a:pathLst>
                    <a:path w="70" h="213">
                      <a:moveTo>
                        <a:pt x="0" y="0"/>
                      </a:moveTo>
                      <a:lnTo>
                        <a:pt x="18" y="37"/>
                      </a:lnTo>
                      <a:lnTo>
                        <a:pt x="29" y="62"/>
                      </a:lnTo>
                      <a:lnTo>
                        <a:pt x="41" y="92"/>
                      </a:lnTo>
                      <a:lnTo>
                        <a:pt x="50" y="110"/>
                      </a:lnTo>
                      <a:lnTo>
                        <a:pt x="57" y="129"/>
                      </a:lnTo>
                      <a:lnTo>
                        <a:pt x="63" y="146"/>
                      </a:lnTo>
                      <a:lnTo>
                        <a:pt x="67" y="163"/>
                      </a:lnTo>
                      <a:lnTo>
                        <a:pt x="68" y="178"/>
                      </a:lnTo>
                      <a:lnTo>
                        <a:pt x="69" y="197"/>
                      </a:lnTo>
                      <a:lnTo>
                        <a:pt x="68" y="212"/>
                      </a:lnTo>
                      <a:lnTo>
                        <a:pt x="58" y="211"/>
                      </a:lnTo>
                      <a:lnTo>
                        <a:pt x="63" y="192"/>
                      </a:lnTo>
                      <a:lnTo>
                        <a:pt x="63" y="178"/>
                      </a:lnTo>
                      <a:lnTo>
                        <a:pt x="61" y="158"/>
                      </a:lnTo>
                      <a:lnTo>
                        <a:pt x="56" y="138"/>
                      </a:lnTo>
                      <a:lnTo>
                        <a:pt x="50" y="117"/>
                      </a:lnTo>
                      <a:lnTo>
                        <a:pt x="25" y="59"/>
                      </a:lnTo>
                      <a:lnTo>
                        <a:pt x="4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8814960" y="1265400"/>
                <a:ext cx="160920" cy="33840"/>
                <a:chOff x="8814960" y="1265400"/>
                <a:chExt cx="160920" cy="33840"/>
              </a:xfrm>
            </p:grpSpPr>
            <p:grpSp>
              <p:nvGrpSpPr>
                <p:cNvPr id="1052" name=""/>
                <p:cNvGrpSpPr/>
                <p:nvPr/>
              </p:nvGrpSpPr>
              <p:grpSpPr>
                <a:xfrm>
                  <a:off x="8814960" y="1295280"/>
                  <a:ext cx="15840" cy="3960"/>
                  <a:chOff x="8814960" y="1295280"/>
                  <a:chExt cx="15840" cy="396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>
                    <a:off x="8814960" y="1295280"/>
                    <a:ext cx="158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7">
                        <a:moveTo>
                          <a:pt x="52" y="1"/>
                        </a:moveTo>
                        <a:lnTo>
                          <a:pt x="54" y="9"/>
                        </a:lnTo>
                        <a:lnTo>
                          <a:pt x="54" y="16"/>
                        </a:lnTo>
                        <a:lnTo>
                          <a:pt x="0" y="16"/>
                        </a:lnTo>
                        <a:lnTo>
                          <a:pt x="1" y="6"/>
                        </a:lnTo>
                        <a:lnTo>
                          <a:pt x="0" y="0"/>
                        </a:lnTo>
                        <a:lnTo>
                          <a:pt x="52" y="1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8814960" y="1295640"/>
                    <a:ext cx="158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7">
                        <a:moveTo>
                          <a:pt x="54" y="0"/>
                        </a:moveTo>
                        <a:lnTo>
                          <a:pt x="54" y="5"/>
                        </a:lnTo>
                        <a:lnTo>
                          <a:pt x="54" y="16"/>
                        </a:lnTo>
                        <a:lnTo>
                          <a:pt x="0" y="16"/>
                        </a:lnTo>
                        <a:lnTo>
                          <a:pt x="1" y="5"/>
                        </a:lnTo>
                        <a:lnTo>
                          <a:pt x="0" y="0"/>
                        </a:lnTo>
                        <a:lnTo>
                          <a:pt x="54" y="0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5" name=""/>
                <p:cNvGrpSpPr/>
                <p:nvPr/>
              </p:nvGrpSpPr>
              <p:grpSpPr>
                <a:xfrm>
                  <a:off x="8945280" y="1265400"/>
                  <a:ext cx="30600" cy="20880"/>
                  <a:chOff x="8945280" y="1265400"/>
                  <a:chExt cx="30600" cy="20880"/>
                </a:xfrm>
              </p:grpSpPr>
              <p:sp>
                <p:nvSpPr>
                  <p:cNvPr id="1056" name=""/>
                  <p:cNvSpPr/>
                  <p:nvPr/>
                </p:nvSpPr>
                <p:spPr>
                  <a:xfrm>
                    <a:off x="8945280" y="1265400"/>
                    <a:ext cx="306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96">
                        <a:moveTo>
                          <a:pt x="96" y="41"/>
                        </a:moveTo>
                        <a:lnTo>
                          <a:pt x="68" y="13"/>
                        </a:lnTo>
                        <a:lnTo>
                          <a:pt x="60" y="8"/>
                        </a:lnTo>
                        <a:lnTo>
                          <a:pt x="48" y="4"/>
                        </a:lnTo>
                        <a:lnTo>
                          <a:pt x="15" y="0"/>
                        </a:lnTo>
                        <a:lnTo>
                          <a:pt x="5" y="1"/>
                        </a:lnTo>
                        <a:lnTo>
                          <a:pt x="0" y="76"/>
                        </a:lnTo>
                        <a:lnTo>
                          <a:pt x="10" y="87"/>
                        </a:lnTo>
                        <a:lnTo>
                          <a:pt x="25" y="93"/>
                        </a:lnTo>
                        <a:lnTo>
                          <a:pt x="52" y="95"/>
                        </a:lnTo>
                        <a:lnTo>
                          <a:pt x="72" y="88"/>
                        </a:lnTo>
                        <a:lnTo>
                          <a:pt x="102" y="60"/>
                        </a:lnTo>
                        <a:lnTo>
                          <a:pt x="105" y="52"/>
                        </a:lnTo>
                        <a:lnTo>
                          <a:pt x="96" y="4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8945280" y="1276560"/>
                    <a:ext cx="30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44">
                        <a:moveTo>
                          <a:pt x="105" y="0"/>
                        </a:moveTo>
                        <a:lnTo>
                          <a:pt x="83" y="7"/>
                        </a:lnTo>
                        <a:lnTo>
                          <a:pt x="62" y="14"/>
                        </a:lnTo>
                        <a:lnTo>
                          <a:pt x="46" y="14"/>
                        </a:lnTo>
                        <a:lnTo>
                          <a:pt x="24" y="17"/>
                        </a:lnTo>
                        <a:lnTo>
                          <a:pt x="8" y="12"/>
                        </a:lnTo>
                        <a:lnTo>
                          <a:pt x="3" y="1"/>
                        </a:lnTo>
                        <a:lnTo>
                          <a:pt x="0" y="25"/>
                        </a:lnTo>
                        <a:lnTo>
                          <a:pt x="8" y="35"/>
                        </a:lnTo>
                        <a:lnTo>
                          <a:pt x="25" y="41"/>
                        </a:lnTo>
                        <a:lnTo>
                          <a:pt x="51" y="43"/>
                        </a:lnTo>
                        <a:lnTo>
                          <a:pt x="73" y="36"/>
                        </a:lnTo>
                        <a:lnTo>
                          <a:pt x="99" y="13"/>
                        </a:lnTo>
                        <a:lnTo>
                          <a:pt x="103" y="8"/>
                        </a:lnTo>
                        <a:lnTo>
                          <a:pt x="105" y="0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aphicFrame>
        <p:nvGraphicFramePr>
          <p:cNvPr id="1058" name=""/>
          <p:cNvGraphicFramePr/>
          <p:nvPr/>
        </p:nvGraphicFramePr>
        <p:xfrm>
          <a:off x="6897600" y="1830240"/>
          <a:ext cx="465120" cy="533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97600" y="1830240"/>
                    <a:ext cx="465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0" name="" descr=""/>
          <p:cNvPicPr/>
          <p:nvPr/>
        </p:nvPicPr>
        <p:blipFill>
          <a:blip r:embed="rId8"/>
          <a:stretch/>
        </p:blipFill>
        <p:spPr>
          <a:xfrm>
            <a:off x="8240760" y="1609560"/>
            <a:ext cx="622080" cy="376560"/>
          </a:xfrm>
          <a:prstGeom prst="rect">
            <a:avLst/>
          </a:prstGeom>
          <a:ln w="0">
            <a:noFill/>
          </a:ln>
        </p:spPr>
      </p:pic>
      <p:pic>
        <p:nvPicPr>
          <p:cNvPr id="1061" name="" descr=""/>
          <p:cNvPicPr/>
          <p:nvPr/>
        </p:nvPicPr>
        <p:blipFill>
          <a:blip r:embed="rId9"/>
          <a:stretch/>
        </p:blipFill>
        <p:spPr>
          <a:xfrm>
            <a:off x="6783480" y="1231920"/>
            <a:ext cx="452520" cy="476280"/>
          </a:xfrm>
          <a:prstGeom prst="rect">
            <a:avLst/>
          </a:prstGeom>
          <a:ln w="0">
            <a:noFill/>
          </a:ln>
        </p:spPr>
      </p:pic>
      <p:grpSp>
        <p:nvGrpSpPr>
          <p:cNvPr id="1062" name=""/>
          <p:cNvGrpSpPr/>
          <p:nvPr/>
        </p:nvGrpSpPr>
        <p:grpSpPr>
          <a:xfrm>
            <a:off x="7408800" y="2187720"/>
            <a:ext cx="773280" cy="186840"/>
            <a:chOff x="7408800" y="2187720"/>
            <a:chExt cx="773280" cy="186840"/>
          </a:xfrm>
        </p:grpSpPr>
        <p:grpSp>
          <p:nvGrpSpPr>
            <p:cNvPr id="1063" name=""/>
            <p:cNvGrpSpPr/>
            <p:nvPr/>
          </p:nvGrpSpPr>
          <p:grpSpPr>
            <a:xfrm>
              <a:off x="7503120" y="2263320"/>
              <a:ext cx="640440" cy="111240"/>
              <a:chOff x="7503120" y="2263320"/>
              <a:chExt cx="640440" cy="111240"/>
            </a:xfrm>
          </p:grpSpPr>
          <p:grpSp>
            <p:nvGrpSpPr>
              <p:cNvPr id="1064" name=""/>
              <p:cNvGrpSpPr/>
              <p:nvPr/>
            </p:nvGrpSpPr>
            <p:grpSpPr>
              <a:xfrm>
                <a:off x="7671600" y="2263320"/>
                <a:ext cx="471960" cy="71280"/>
                <a:chOff x="7671600" y="2263320"/>
                <a:chExt cx="471960" cy="7128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8057880" y="2263320"/>
                  <a:ext cx="85680" cy="63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7671600" y="2271600"/>
                  <a:ext cx="145440" cy="63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7503120" y="2265120"/>
                <a:ext cx="636840" cy="109440"/>
                <a:chOff x="7503120" y="2265120"/>
                <a:chExt cx="636840" cy="109440"/>
              </a:xfrm>
            </p:grpSpPr>
            <p:grpSp>
              <p:nvGrpSpPr>
                <p:cNvPr id="1068" name=""/>
                <p:cNvGrpSpPr/>
                <p:nvPr/>
              </p:nvGrpSpPr>
              <p:grpSpPr>
                <a:xfrm>
                  <a:off x="7677360" y="2265120"/>
                  <a:ext cx="462600" cy="109440"/>
                  <a:chOff x="7677360" y="2265120"/>
                  <a:chExt cx="462600" cy="109440"/>
                </a:xfrm>
              </p:grpSpPr>
              <p:grpSp>
                <p:nvGrpSpPr>
                  <p:cNvPr id="1069" name=""/>
                  <p:cNvGrpSpPr/>
                  <p:nvPr/>
                </p:nvGrpSpPr>
                <p:grpSpPr>
                  <a:xfrm>
                    <a:off x="7677360" y="2265120"/>
                    <a:ext cx="133560" cy="109440"/>
                    <a:chOff x="7677360" y="2265120"/>
                    <a:chExt cx="133560" cy="109440"/>
                  </a:xfrm>
                </p:grpSpPr>
                <p:grpSp>
                  <p:nvGrpSpPr>
                    <p:cNvPr id="1070" name=""/>
                    <p:cNvGrpSpPr/>
                    <p:nvPr/>
                  </p:nvGrpSpPr>
                  <p:grpSpPr>
                    <a:xfrm>
                      <a:off x="7677360" y="2265120"/>
                      <a:ext cx="133560" cy="109440"/>
                      <a:chOff x="7677360" y="2265120"/>
                      <a:chExt cx="133560" cy="109440"/>
                    </a:xfrm>
                  </p:grpSpPr>
                  <p:sp>
                    <p:nvSpPr>
                      <p:cNvPr id="1071" name=""/>
                      <p:cNvSpPr/>
                      <p:nvPr/>
                    </p:nvSpPr>
                    <p:spPr>
                      <a:xfrm>
                        <a:off x="7692480" y="2282400"/>
                        <a:ext cx="102960" cy="918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360" bIns="18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2" name=""/>
                      <p:cNvSpPr/>
                      <p:nvPr/>
                    </p:nvSpPr>
                    <p:spPr>
                      <a:xfrm>
                        <a:off x="7678800" y="2265120"/>
                        <a:ext cx="113400" cy="10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2559" y="21456"/>
                            </a:moveTo>
                            <a:arcTo wR="10800" hR="10800" stAng="4837647" swAng="598963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2559" y="21456"/>
                            </a:moveTo>
                            <a:arcTo wR="10800" hR="10800" stAng="4837647" swAng="5989635"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3" name=""/>
                      <p:cNvSpPr/>
                      <p:nvPr/>
                    </p:nvSpPr>
                    <p:spPr>
                      <a:xfrm>
                        <a:off x="7677360" y="2282400"/>
                        <a:ext cx="133560" cy="7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740"/>
                            </a:moveTo>
                            <a:arcTo wR="10800" hR="10800" stAng="-10780795" swAng="536597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740"/>
                            </a:moveTo>
                            <a:arcTo wR="10800" hR="10800" stAng="-10780795" swAng="5365977"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1320" bIns="313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74" name=""/>
                    <p:cNvGrpSpPr/>
                    <p:nvPr/>
                  </p:nvGrpSpPr>
                  <p:grpSpPr>
                    <a:xfrm>
                      <a:off x="7716240" y="2300400"/>
                      <a:ext cx="58320" cy="55080"/>
                      <a:chOff x="7716240" y="2300400"/>
                      <a:chExt cx="58320" cy="55080"/>
                    </a:xfrm>
                  </p:grpSpPr>
                  <p:sp>
                    <p:nvSpPr>
                      <p:cNvPr id="1075" name=""/>
                      <p:cNvSpPr/>
                      <p:nvPr/>
                    </p:nvSpPr>
                    <p:spPr>
                      <a:xfrm>
                        <a:off x="7716240" y="2300400"/>
                        <a:ext cx="58320" cy="550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255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7560" bIns="-7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76" name=""/>
                      <p:cNvGrpSpPr/>
                      <p:nvPr/>
                    </p:nvGrpSpPr>
                    <p:grpSpPr>
                      <a:xfrm>
                        <a:off x="7716960" y="2301120"/>
                        <a:ext cx="56520" cy="52560"/>
                        <a:chOff x="7716960" y="2301120"/>
                        <a:chExt cx="56520" cy="52560"/>
                      </a:xfrm>
                    </p:grpSpPr>
                    <p:sp>
                      <p:nvSpPr>
                        <p:cNvPr id="1077" name=""/>
                        <p:cNvSpPr/>
                        <p:nvPr/>
                      </p:nvSpPr>
                      <p:spPr>
                        <a:xfrm>
                          <a:off x="7716960" y="2301120"/>
                          <a:ext cx="56520" cy="52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5" h="240">
                              <a:moveTo>
                                <a:pt x="122" y="2"/>
                              </a:moveTo>
                              <a:lnTo>
                                <a:pt x="128" y="96"/>
                              </a:lnTo>
                              <a:lnTo>
                                <a:pt x="190" y="85"/>
                              </a:lnTo>
                              <a:lnTo>
                                <a:pt x="193" y="99"/>
                              </a:lnTo>
                              <a:lnTo>
                                <a:pt x="194" y="112"/>
                              </a:lnTo>
                              <a:lnTo>
                                <a:pt x="142" y="143"/>
                              </a:lnTo>
                              <a:lnTo>
                                <a:pt x="162" y="220"/>
                              </a:lnTo>
                              <a:lnTo>
                                <a:pt x="150" y="230"/>
                              </a:lnTo>
                              <a:lnTo>
                                <a:pt x="142" y="239"/>
                              </a:lnTo>
                              <a:lnTo>
                                <a:pt x="107" y="159"/>
                              </a:lnTo>
                              <a:lnTo>
                                <a:pt x="48" y="236"/>
                              </a:lnTo>
                              <a:lnTo>
                                <a:pt x="36" y="227"/>
                              </a:lnTo>
                              <a:lnTo>
                                <a:pt x="26" y="214"/>
                              </a:lnTo>
                              <a:lnTo>
                                <a:pt x="73" y="140"/>
                              </a:lnTo>
                              <a:lnTo>
                                <a:pt x="0" y="93"/>
                              </a:lnTo>
                              <a:lnTo>
                                <a:pt x="7" y="70"/>
                              </a:lnTo>
                              <a:lnTo>
                                <a:pt x="14" y="65"/>
                              </a:lnTo>
                              <a:lnTo>
                                <a:pt x="83" y="94"/>
                              </a:lnTo>
                              <a:lnTo>
                                <a:pt x="94" y="0"/>
                              </a:lnTo>
                              <a:lnTo>
                                <a:pt x="122" y="2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cap="rnd" w="255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078" name=""/>
                        <p:cNvGrpSpPr/>
                        <p:nvPr/>
                      </p:nvGrpSpPr>
                      <p:grpSpPr>
                        <a:xfrm>
                          <a:off x="7753680" y="2324160"/>
                          <a:ext cx="4320" cy="3240"/>
                          <a:chOff x="7753680" y="2324160"/>
                          <a:chExt cx="4320" cy="3240"/>
                        </a:xfrm>
                      </p:grpSpPr>
                      <p:sp>
                        <p:nvSpPr>
                          <p:cNvPr id="1079" name=""/>
                          <p:cNvSpPr/>
                          <p:nvPr/>
                        </p:nvSpPr>
                        <p:spPr>
                          <a:xfrm>
                            <a:off x="7753680" y="232416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80" name=""/>
                          <p:cNvSpPr/>
                          <p:nvPr/>
                        </p:nvSpPr>
                        <p:spPr>
                          <a:xfrm>
                            <a:off x="7755120" y="232524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81" name=""/>
                        <p:cNvGrpSpPr/>
                        <p:nvPr/>
                      </p:nvGrpSpPr>
                      <p:grpSpPr>
                        <a:xfrm>
                          <a:off x="7737120" y="2323800"/>
                          <a:ext cx="4320" cy="3240"/>
                          <a:chOff x="7737120" y="2323800"/>
                          <a:chExt cx="4320" cy="3240"/>
                        </a:xfrm>
                      </p:grpSpPr>
                      <p:sp>
                        <p:nvSpPr>
                          <p:cNvPr id="1082" name=""/>
                          <p:cNvSpPr/>
                          <p:nvPr/>
                        </p:nvSpPr>
                        <p:spPr>
                          <a:xfrm>
                            <a:off x="7737120" y="232380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83" name=""/>
                          <p:cNvSpPr/>
                          <p:nvPr/>
                        </p:nvSpPr>
                        <p:spPr>
                          <a:xfrm>
                            <a:off x="7738200" y="2324880"/>
                            <a:ext cx="180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84" name=""/>
                        <p:cNvGrpSpPr/>
                        <p:nvPr/>
                      </p:nvGrpSpPr>
                      <p:grpSpPr>
                        <a:xfrm>
                          <a:off x="7746480" y="2319120"/>
                          <a:ext cx="4320" cy="3240"/>
                          <a:chOff x="7746480" y="2319120"/>
                          <a:chExt cx="4320" cy="3240"/>
                        </a:xfrm>
                      </p:grpSpPr>
                      <p:sp>
                        <p:nvSpPr>
                          <p:cNvPr id="1085" name=""/>
                          <p:cNvSpPr/>
                          <p:nvPr/>
                        </p:nvSpPr>
                        <p:spPr>
                          <a:xfrm>
                            <a:off x="7746480" y="231912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86" name=""/>
                          <p:cNvSpPr/>
                          <p:nvPr/>
                        </p:nvSpPr>
                        <p:spPr>
                          <a:xfrm>
                            <a:off x="7747560" y="232020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87" name=""/>
                        <p:cNvGrpSpPr/>
                        <p:nvPr/>
                      </p:nvGrpSpPr>
                      <p:grpSpPr>
                        <a:xfrm>
                          <a:off x="7739640" y="2332440"/>
                          <a:ext cx="4320" cy="3240"/>
                          <a:chOff x="7739640" y="2332440"/>
                          <a:chExt cx="4320" cy="3240"/>
                        </a:xfrm>
                      </p:grpSpPr>
                      <p:sp>
                        <p:nvSpPr>
                          <p:cNvPr id="1088" name=""/>
                          <p:cNvSpPr/>
                          <p:nvPr/>
                        </p:nvSpPr>
                        <p:spPr>
                          <a:xfrm>
                            <a:off x="7739640" y="233244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89" name=""/>
                          <p:cNvSpPr/>
                          <p:nvPr/>
                        </p:nvSpPr>
                        <p:spPr>
                          <a:xfrm>
                            <a:off x="7740720" y="233352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090" name=""/>
                        <p:cNvSpPr/>
                        <p:nvPr/>
                      </p:nvSpPr>
                      <p:spPr>
                        <a:xfrm>
                          <a:off x="7742520" y="2324160"/>
                          <a:ext cx="10080" cy="7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41760" bIns="-41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091" name=""/>
                        <p:cNvGrpSpPr/>
                        <p:nvPr/>
                      </p:nvGrpSpPr>
                      <p:grpSpPr>
                        <a:xfrm>
                          <a:off x="7751880" y="2332440"/>
                          <a:ext cx="4680" cy="3240"/>
                          <a:chOff x="7751880" y="2332440"/>
                          <a:chExt cx="4680" cy="3240"/>
                        </a:xfrm>
                      </p:grpSpPr>
                      <p:sp>
                        <p:nvSpPr>
                          <p:cNvPr id="1092" name=""/>
                          <p:cNvSpPr/>
                          <p:nvPr/>
                        </p:nvSpPr>
                        <p:spPr>
                          <a:xfrm>
                            <a:off x="7751880" y="2332440"/>
                            <a:ext cx="468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93" name=""/>
                          <p:cNvSpPr/>
                          <p:nvPr/>
                        </p:nvSpPr>
                        <p:spPr>
                          <a:xfrm>
                            <a:off x="7753680" y="233352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94" name=""/>
                        <p:cNvGrpSpPr/>
                        <p:nvPr/>
                      </p:nvGrpSpPr>
                      <p:grpSpPr>
                        <a:xfrm>
                          <a:off x="7740720" y="2323800"/>
                          <a:ext cx="20880" cy="11160"/>
                          <a:chOff x="7740720" y="2323800"/>
                          <a:chExt cx="20880" cy="11160"/>
                        </a:xfrm>
                      </p:grpSpPr>
                      <p:sp>
                        <p:nvSpPr>
                          <p:cNvPr id="1095" name=""/>
                          <p:cNvSpPr/>
                          <p:nvPr/>
                        </p:nvSpPr>
                        <p:spPr>
                          <a:xfrm flipH="1">
                            <a:off x="7744680" y="2323800"/>
                            <a:ext cx="12600" cy="25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96" name=""/>
                          <p:cNvSpPr/>
                          <p:nvPr/>
                        </p:nvSpPr>
                        <p:spPr>
                          <a:xfrm>
                            <a:off x="7742160" y="2324160"/>
                            <a:ext cx="360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97" name=""/>
                          <p:cNvSpPr/>
                          <p:nvPr/>
                        </p:nvSpPr>
                        <p:spPr>
                          <a:xfrm flipH="1" flipV="1">
                            <a:off x="7745040" y="2325600"/>
                            <a:ext cx="16560" cy="936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98" name=""/>
                          <p:cNvSpPr/>
                          <p:nvPr/>
                        </p:nvSpPr>
                        <p:spPr>
                          <a:xfrm flipV="1">
                            <a:off x="7740720" y="2325600"/>
                            <a:ext cx="1440" cy="79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99" name=""/>
                          <p:cNvSpPr/>
                          <p:nvPr/>
                        </p:nvSpPr>
                        <p:spPr>
                          <a:xfrm flipH="1">
                            <a:off x="7742880" y="2333880"/>
                            <a:ext cx="9360" cy="36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1100" name=""/>
                  <p:cNvGrpSpPr/>
                  <p:nvPr/>
                </p:nvGrpSpPr>
                <p:grpSpPr>
                  <a:xfrm>
                    <a:off x="8033040" y="2276280"/>
                    <a:ext cx="106920" cy="78840"/>
                    <a:chOff x="8033040" y="2276280"/>
                    <a:chExt cx="106920" cy="78840"/>
                  </a:xfrm>
                </p:grpSpPr>
                <p:grpSp>
                  <p:nvGrpSpPr>
                    <p:cNvPr id="1101" name=""/>
                    <p:cNvGrpSpPr/>
                    <p:nvPr/>
                  </p:nvGrpSpPr>
                  <p:grpSpPr>
                    <a:xfrm>
                      <a:off x="8033040" y="2276280"/>
                      <a:ext cx="106920" cy="78840"/>
                      <a:chOff x="8033040" y="2276280"/>
                      <a:chExt cx="106920" cy="78840"/>
                    </a:xfrm>
                  </p:grpSpPr>
                  <p:sp>
                    <p:nvSpPr>
                      <p:cNvPr id="1102" name=""/>
                      <p:cNvSpPr/>
                      <p:nvPr/>
                    </p:nvSpPr>
                    <p:spPr>
                      <a:xfrm>
                        <a:off x="8044560" y="2276280"/>
                        <a:ext cx="89280" cy="788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000" bIns="9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3" name=""/>
                      <p:cNvSpPr/>
                      <p:nvPr/>
                    </p:nvSpPr>
                    <p:spPr>
                      <a:xfrm>
                        <a:off x="8033040" y="2291760"/>
                        <a:ext cx="106920" cy="6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742" y="21600"/>
                            </a:moveTo>
                            <a:arcTo wR="10800" hR="10800" stAng="5418611" swAng="542880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742" y="21600"/>
                            </a:moveTo>
                            <a:arcTo wR="10800" hR="10800" stAng="5418611" swAng="5428803"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6560" bIns="16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04" name=""/>
                    <p:cNvGrpSpPr/>
                    <p:nvPr/>
                  </p:nvGrpSpPr>
                  <p:grpSpPr>
                    <a:xfrm>
                      <a:off x="8054280" y="2292480"/>
                      <a:ext cx="63000" cy="46800"/>
                      <a:chOff x="8054280" y="2292480"/>
                      <a:chExt cx="63000" cy="46800"/>
                    </a:xfrm>
                  </p:grpSpPr>
                  <p:sp>
                    <p:nvSpPr>
                      <p:cNvPr id="1105" name=""/>
                      <p:cNvSpPr/>
                      <p:nvPr/>
                    </p:nvSpPr>
                    <p:spPr>
                      <a:xfrm>
                        <a:off x="8056080" y="2292480"/>
                        <a:ext cx="60840" cy="468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255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6" name=""/>
                      <p:cNvSpPr/>
                      <p:nvPr/>
                    </p:nvSpPr>
                    <p:spPr>
                      <a:xfrm>
                        <a:off x="8054280" y="2292480"/>
                        <a:ext cx="63000" cy="46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212">
                            <a:moveTo>
                              <a:pt x="133" y="0"/>
                            </a:moveTo>
                            <a:lnTo>
                              <a:pt x="134" y="90"/>
                            </a:lnTo>
                            <a:lnTo>
                              <a:pt x="210" y="76"/>
                            </a:lnTo>
                            <a:lnTo>
                              <a:pt x="216" y="86"/>
                            </a:lnTo>
                            <a:lnTo>
                              <a:pt x="217" y="102"/>
                            </a:lnTo>
                            <a:lnTo>
                              <a:pt x="143" y="128"/>
                            </a:lnTo>
                            <a:lnTo>
                              <a:pt x="179" y="195"/>
                            </a:lnTo>
                            <a:lnTo>
                              <a:pt x="165" y="206"/>
                            </a:lnTo>
                            <a:lnTo>
                              <a:pt x="151" y="211"/>
                            </a:lnTo>
                            <a:lnTo>
                              <a:pt x="110" y="156"/>
                            </a:lnTo>
                            <a:lnTo>
                              <a:pt x="58" y="207"/>
                            </a:lnTo>
                            <a:lnTo>
                              <a:pt x="44" y="200"/>
                            </a:lnTo>
                            <a:lnTo>
                              <a:pt x="33" y="187"/>
                            </a:lnTo>
                            <a:lnTo>
                              <a:pt x="82" y="125"/>
                            </a:lnTo>
                            <a:lnTo>
                              <a:pt x="13" y="90"/>
                            </a:lnTo>
                            <a:lnTo>
                              <a:pt x="0" y="86"/>
                            </a:lnTo>
                            <a:lnTo>
                              <a:pt x="6" y="68"/>
                            </a:lnTo>
                            <a:lnTo>
                              <a:pt x="10" y="62"/>
                            </a:lnTo>
                            <a:lnTo>
                              <a:pt x="100" y="90"/>
                            </a:lnTo>
                            <a:lnTo>
                              <a:pt x="103" y="0"/>
                            </a:lnTo>
                            <a:lnTo>
                              <a:pt x="119" y="0"/>
                            </a:lnTo>
                            <a:lnTo>
                              <a:pt x="133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255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" bIns="-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07" name=""/>
                      <p:cNvGrpSpPr/>
                      <p:nvPr/>
                    </p:nvGrpSpPr>
                    <p:grpSpPr>
                      <a:xfrm>
                        <a:off x="8077320" y="2308320"/>
                        <a:ext cx="20880" cy="16920"/>
                        <a:chOff x="8077320" y="2308320"/>
                        <a:chExt cx="20880" cy="16920"/>
                      </a:xfrm>
                    </p:grpSpPr>
                    <p:grpSp>
                      <p:nvGrpSpPr>
                        <p:cNvPr id="1108" name=""/>
                        <p:cNvGrpSpPr/>
                        <p:nvPr/>
                      </p:nvGrpSpPr>
                      <p:grpSpPr>
                        <a:xfrm>
                          <a:off x="8093880" y="2313360"/>
                          <a:ext cx="4320" cy="3240"/>
                          <a:chOff x="8093880" y="2313360"/>
                          <a:chExt cx="4320" cy="3240"/>
                        </a:xfrm>
                      </p:grpSpPr>
                      <p:sp>
                        <p:nvSpPr>
                          <p:cNvPr id="1109" name=""/>
                          <p:cNvSpPr/>
                          <p:nvPr/>
                        </p:nvSpPr>
                        <p:spPr>
                          <a:xfrm>
                            <a:off x="8093880" y="231336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10" name=""/>
                          <p:cNvSpPr/>
                          <p:nvPr/>
                        </p:nvSpPr>
                        <p:spPr>
                          <a:xfrm>
                            <a:off x="8095320" y="231444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11" name=""/>
                        <p:cNvGrpSpPr/>
                        <p:nvPr/>
                      </p:nvGrpSpPr>
                      <p:grpSpPr>
                        <a:xfrm>
                          <a:off x="8077320" y="2313000"/>
                          <a:ext cx="4320" cy="3240"/>
                          <a:chOff x="8077320" y="2313000"/>
                          <a:chExt cx="4320" cy="3240"/>
                        </a:xfrm>
                      </p:grpSpPr>
                      <p:sp>
                        <p:nvSpPr>
                          <p:cNvPr id="1112" name=""/>
                          <p:cNvSpPr/>
                          <p:nvPr/>
                        </p:nvSpPr>
                        <p:spPr>
                          <a:xfrm>
                            <a:off x="8077320" y="231300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13" name=""/>
                          <p:cNvSpPr/>
                          <p:nvPr/>
                        </p:nvSpPr>
                        <p:spPr>
                          <a:xfrm>
                            <a:off x="8078760" y="231408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14" name=""/>
                        <p:cNvGrpSpPr/>
                        <p:nvPr/>
                      </p:nvGrpSpPr>
                      <p:grpSpPr>
                        <a:xfrm>
                          <a:off x="8086320" y="2308320"/>
                          <a:ext cx="4680" cy="3240"/>
                          <a:chOff x="8086320" y="2308320"/>
                          <a:chExt cx="4680" cy="3240"/>
                        </a:xfrm>
                      </p:grpSpPr>
                      <p:sp>
                        <p:nvSpPr>
                          <p:cNvPr id="1115" name=""/>
                          <p:cNvSpPr/>
                          <p:nvPr/>
                        </p:nvSpPr>
                        <p:spPr>
                          <a:xfrm>
                            <a:off x="8086320" y="2308320"/>
                            <a:ext cx="468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16" name=""/>
                          <p:cNvSpPr/>
                          <p:nvPr/>
                        </p:nvSpPr>
                        <p:spPr>
                          <a:xfrm>
                            <a:off x="8088120" y="230940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17" name=""/>
                        <p:cNvGrpSpPr/>
                        <p:nvPr/>
                      </p:nvGrpSpPr>
                      <p:grpSpPr>
                        <a:xfrm>
                          <a:off x="8079480" y="2321640"/>
                          <a:ext cx="4680" cy="3240"/>
                          <a:chOff x="8079480" y="2321640"/>
                          <a:chExt cx="4680" cy="3240"/>
                        </a:xfrm>
                      </p:grpSpPr>
                      <p:sp>
                        <p:nvSpPr>
                          <p:cNvPr id="1118" name=""/>
                          <p:cNvSpPr/>
                          <p:nvPr/>
                        </p:nvSpPr>
                        <p:spPr>
                          <a:xfrm>
                            <a:off x="8079480" y="2321640"/>
                            <a:ext cx="468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19" name=""/>
                          <p:cNvSpPr/>
                          <p:nvPr/>
                        </p:nvSpPr>
                        <p:spPr>
                          <a:xfrm>
                            <a:off x="8081280" y="232272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20" name=""/>
                        <p:cNvGrpSpPr/>
                        <p:nvPr/>
                      </p:nvGrpSpPr>
                      <p:grpSpPr>
                        <a:xfrm>
                          <a:off x="8090280" y="2322000"/>
                          <a:ext cx="4680" cy="3240"/>
                          <a:chOff x="8090280" y="2322000"/>
                          <a:chExt cx="4680" cy="3240"/>
                        </a:xfrm>
                      </p:grpSpPr>
                      <p:sp>
                        <p:nvSpPr>
                          <p:cNvPr id="1121" name=""/>
                          <p:cNvSpPr/>
                          <p:nvPr/>
                        </p:nvSpPr>
                        <p:spPr>
                          <a:xfrm>
                            <a:off x="8090280" y="2322000"/>
                            <a:ext cx="468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22" name=""/>
                          <p:cNvSpPr/>
                          <p:nvPr/>
                        </p:nvSpPr>
                        <p:spPr>
                          <a:xfrm>
                            <a:off x="8091720" y="232308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23" name=""/>
                      <p:cNvGrpSpPr/>
                      <p:nvPr/>
                    </p:nvGrpSpPr>
                    <p:grpSpPr>
                      <a:xfrm>
                        <a:off x="8080560" y="2313360"/>
                        <a:ext cx="17640" cy="11520"/>
                        <a:chOff x="8080560" y="2313360"/>
                        <a:chExt cx="17640" cy="11520"/>
                      </a:xfrm>
                    </p:grpSpPr>
                    <p:grpSp>
                      <p:nvGrpSpPr>
                        <p:cNvPr id="1124" name=""/>
                        <p:cNvGrpSpPr/>
                        <p:nvPr/>
                      </p:nvGrpSpPr>
                      <p:grpSpPr>
                        <a:xfrm>
                          <a:off x="8080560" y="2313360"/>
                          <a:ext cx="17640" cy="10800"/>
                          <a:chOff x="8080560" y="2313360"/>
                          <a:chExt cx="17640" cy="10800"/>
                        </a:xfrm>
                      </p:grpSpPr>
                      <p:sp>
                        <p:nvSpPr>
                          <p:cNvPr id="1125" name=""/>
                          <p:cNvSpPr/>
                          <p:nvPr/>
                        </p:nvSpPr>
                        <p:spPr>
                          <a:xfrm>
                            <a:off x="8083080" y="2313720"/>
                            <a:ext cx="9720" cy="756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1400" bIns="-414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26" name=""/>
                          <p:cNvSpPr/>
                          <p:nvPr/>
                        </p:nvSpPr>
                        <p:spPr>
                          <a:xfrm flipH="1">
                            <a:off x="8084880" y="2313360"/>
                            <a:ext cx="12600" cy="25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27" name=""/>
                          <p:cNvSpPr/>
                          <p:nvPr/>
                        </p:nvSpPr>
                        <p:spPr>
                          <a:xfrm>
                            <a:off x="8082360" y="2313720"/>
                            <a:ext cx="324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28" name=""/>
                          <p:cNvSpPr/>
                          <p:nvPr/>
                        </p:nvSpPr>
                        <p:spPr>
                          <a:xfrm flipH="1" flipV="1">
                            <a:off x="8084880" y="2315520"/>
                            <a:ext cx="13320" cy="864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160" bIns="-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29" name=""/>
                          <p:cNvSpPr/>
                          <p:nvPr/>
                        </p:nvSpPr>
                        <p:spPr>
                          <a:xfrm flipV="1">
                            <a:off x="8080560" y="2315160"/>
                            <a:ext cx="1800" cy="79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30" name=""/>
                        <p:cNvSpPr/>
                        <p:nvPr/>
                      </p:nvSpPr>
                      <p:spPr>
                        <a:xfrm flipH="1">
                          <a:off x="8081640" y="2323800"/>
                          <a:ext cx="10080" cy="108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131" name=""/>
                <p:cNvGrpSpPr/>
                <p:nvPr/>
              </p:nvGrpSpPr>
              <p:grpSpPr>
                <a:xfrm>
                  <a:off x="7503120" y="2267640"/>
                  <a:ext cx="543600" cy="91800"/>
                  <a:chOff x="7503120" y="2267640"/>
                  <a:chExt cx="543600" cy="91800"/>
                </a:xfrm>
              </p:grpSpPr>
              <p:grpSp>
                <p:nvGrpSpPr>
                  <p:cNvPr id="1132" name=""/>
                  <p:cNvGrpSpPr/>
                  <p:nvPr/>
                </p:nvGrpSpPr>
                <p:grpSpPr>
                  <a:xfrm>
                    <a:off x="7503120" y="2267640"/>
                    <a:ext cx="543600" cy="91800"/>
                    <a:chOff x="7503120" y="2267640"/>
                    <a:chExt cx="543600" cy="91800"/>
                  </a:xfrm>
                </p:grpSpPr>
                <p:grpSp>
                  <p:nvGrpSpPr>
                    <p:cNvPr id="1133" name=""/>
                    <p:cNvGrpSpPr/>
                    <p:nvPr/>
                  </p:nvGrpSpPr>
                  <p:grpSpPr>
                    <a:xfrm>
                      <a:off x="7503120" y="2267640"/>
                      <a:ext cx="462960" cy="91800"/>
                      <a:chOff x="7503120" y="2267640"/>
                      <a:chExt cx="462960" cy="91800"/>
                    </a:xfrm>
                  </p:grpSpPr>
                  <p:sp>
                    <p:nvSpPr>
                      <p:cNvPr id="1134" name=""/>
                      <p:cNvSpPr/>
                      <p:nvPr/>
                    </p:nvSpPr>
                    <p:spPr>
                      <a:xfrm>
                        <a:off x="7503120" y="2267640"/>
                        <a:ext cx="102960" cy="918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360" bIns="18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5" name=""/>
                      <p:cNvSpPr/>
                      <p:nvPr/>
                    </p:nvSpPr>
                    <p:spPr>
                      <a:xfrm>
                        <a:off x="7869960" y="2292480"/>
                        <a:ext cx="96120" cy="554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7200" bIns="-7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7940880" y="2319120"/>
                      <a:ext cx="10584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6" h="67">
                          <a:moveTo>
                            <a:pt x="353" y="60"/>
                          </a:moveTo>
                          <a:lnTo>
                            <a:pt x="0" y="66"/>
                          </a:lnTo>
                          <a:lnTo>
                            <a:pt x="0" y="0"/>
                          </a:lnTo>
                          <a:lnTo>
                            <a:pt x="365" y="16"/>
                          </a:lnTo>
                          <a:lnTo>
                            <a:pt x="353" y="6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37" name=""/>
                  <p:cNvSpPr/>
                  <p:nvPr/>
                </p:nvSpPr>
                <p:spPr>
                  <a:xfrm>
                    <a:off x="7514640" y="2321640"/>
                    <a:ext cx="1782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99">
                        <a:moveTo>
                          <a:pt x="590" y="98"/>
                        </a:moveTo>
                        <a:lnTo>
                          <a:pt x="37" y="63"/>
                        </a:lnTo>
                        <a:lnTo>
                          <a:pt x="0" y="0"/>
                        </a:lnTo>
                        <a:lnTo>
                          <a:pt x="615" y="34"/>
                        </a:lnTo>
                        <a:lnTo>
                          <a:pt x="590" y="98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38" name=""/>
            <p:cNvGrpSpPr/>
            <p:nvPr/>
          </p:nvGrpSpPr>
          <p:grpSpPr>
            <a:xfrm>
              <a:off x="7408800" y="2187720"/>
              <a:ext cx="773280" cy="156600"/>
              <a:chOff x="7408800" y="2187720"/>
              <a:chExt cx="773280" cy="156600"/>
            </a:xfrm>
          </p:grpSpPr>
          <p:grpSp>
            <p:nvGrpSpPr>
              <p:cNvPr id="1139" name=""/>
              <p:cNvGrpSpPr/>
              <p:nvPr/>
            </p:nvGrpSpPr>
            <p:grpSpPr>
              <a:xfrm>
                <a:off x="7538400" y="2190960"/>
                <a:ext cx="469080" cy="55800"/>
                <a:chOff x="7538400" y="2190960"/>
                <a:chExt cx="469080" cy="5580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7782480" y="2194560"/>
                  <a:ext cx="225000" cy="52200"/>
                </a:xfrm>
                <a:custGeom>
                  <a:avLst/>
                  <a:gdLst/>
                  <a:ahLst/>
                  <a:rect l="l" t="t" r="r" b="b"/>
                  <a:pathLst>
                    <a:path w="778" h="238">
                      <a:moveTo>
                        <a:pt x="745" y="210"/>
                      </a:moveTo>
                      <a:lnTo>
                        <a:pt x="698" y="177"/>
                      </a:lnTo>
                      <a:lnTo>
                        <a:pt x="647" y="146"/>
                      </a:lnTo>
                      <a:lnTo>
                        <a:pt x="596" y="115"/>
                      </a:lnTo>
                      <a:lnTo>
                        <a:pt x="555" y="90"/>
                      </a:lnTo>
                      <a:lnTo>
                        <a:pt x="507" y="60"/>
                      </a:lnTo>
                      <a:lnTo>
                        <a:pt x="481" y="45"/>
                      </a:lnTo>
                      <a:lnTo>
                        <a:pt x="463" y="36"/>
                      </a:lnTo>
                      <a:lnTo>
                        <a:pt x="444" y="29"/>
                      </a:lnTo>
                      <a:lnTo>
                        <a:pt x="432" y="26"/>
                      </a:lnTo>
                      <a:lnTo>
                        <a:pt x="420" y="22"/>
                      </a:lnTo>
                      <a:lnTo>
                        <a:pt x="388" y="16"/>
                      </a:lnTo>
                      <a:lnTo>
                        <a:pt x="282" y="8"/>
                      </a:lnTo>
                      <a:lnTo>
                        <a:pt x="216" y="4"/>
                      </a:lnTo>
                      <a:lnTo>
                        <a:pt x="142" y="0"/>
                      </a:lnTo>
                      <a:lnTo>
                        <a:pt x="98" y="0"/>
                      </a:lnTo>
                      <a:lnTo>
                        <a:pt x="78" y="0"/>
                      </a:lnTo>
                      <a:lnTo>
                        <a:pt x="65" y="2"/>
                      </a:lnTo>
                      <a:lnTo>
                        <a:pt x="54" y="6"/>
                      </a:lnTo>
                      <a:lnTo>
                        <a:pt x="46" y="13"/>
                      </a:lnTo>
                      <a:lnTo>
                        <a:pt x="40" y="19"/>
                      </a:lnTo>
                      <a:lnTo>
                        <a:pt x="35" y="35"/>
                      </a:lnTo>
                      <a:lnTo>
                        <a:pt x="30" y="49"/>
                      </a:lnTo>
                      <a:lnTo>
                        <a:pt x="25" y="70"/>
                      </a:lnTo>
                      <a:lnTo>
                        <a:pt x="8" y="173"/>
                      </a:lnTo>
                      <a:lnTo>
                        <a:pt x="4" y="186"/>
                      </a:lnTo>
                      <a:lnTo>
                        <a:pt x="2" y="193"/>
                      </a:lnTo>
                      <a:lnTo>
                        <a:pt x="0" y="203"/>
                      </a:lnTo>
                      <a:lnTo>
                        <a:pt x="1" y="209"/>
                      </a:lnTo>
                      <a:lnTo>
                        <a:pt x="4" y="215"/>
                      </a:lnTo>
                      <a:lnTo>
                        <a:pt x="11" y="222"/>
                      </a:lnTo>
                      <a:lnTo>
                        <a:pt x="26" y="223"/>
                      </a:lnTo>
                      <a:lnTo>
                        <a:pt x="176" y="226"/>
                      </a:lnTo>
                      <a:lnTo>
                        <a:pt x="391" y="232"/>
                      </a:lnTo>
                      <a:lnTo>
                        <a:pt x="729" y="236"/>
                      </a:lnTo>
                      <a:lnTo>
                        <a:pt x="668" y="214"/>
                      </a:lnTo>
                      <a:lnTo>
                        <a:pt x="243" y="203"/>
                      </a:lnTo>
                      <a:lnTo>
                        <a:pt x="238" y="181"/>
                      </a:lnTo>
                      <a:lnTo>
                        <a:pt x="233" y="162"/>
                      </a:lnTo>
                      <a:lnTo>
                        <a:pt x="225" y="142"/>
                      </a:lnTo>
                      <a:lnTo>
                        <a:pt x="218" y="126"/>
                      </a:lnTo>
                      <a:lnTo>
                        <a:pt x="153" y="135"/>
                      </a:lnTo>
                      <a:lnTo>
                        <a:pt x="111" y="135"/>
                      </a:lnTo>
                      <a:lnTo>
                        <a:pt x="43" y="67"/>
                      </a:lnTo>
                      <a:lnTo>
                        <a:pt x="62" y="65"/>
                      </a:lnTo>
                      <a:lnTo>
                        <a:pt x="124" y="67"/>
                      </a:lnTo>
                      <a:lnTo>
                        <a:pt x="132" y="83"/>
                      </a:lnTo>
                      <a:lnTo>
                        <a:pt x="142" y="104"/>
                      </a:lnTo>
                      <a:lnTo>
                        <a:pt x="147" y="120"/>
                      </a:lnTo>
                      <a:lnTo>
                        <a:pt x="154" y="135"/>
                      </a:lnTo>
                      <a:lnTo>
                        <a:pt x="218" y="126"/>
                      </a:lnTo>
                      <a:lnTo>
                        <a:pt x="209" y="105"/>
                      </a:lnTo>
                      <a:lnTo>
                        <a:pt x="196" y="82"/>
                      </a:lnTo>
                      <a:lnTo>
                        <a:pt x="187" y="64"/>
                      </a:lnTo>
                      <a:lnTo>
                        <a:pt x="388" y="70"/>
                      </a:lnTo>
                      <a:lnTo>
                        <a:pt x="441" y="73"/>
                      </a:lnTo>
                      <a:lnTo>
                        <a:pt x="459" y="75"/>
                      </a:lnTo>
                      <a:lnTo>
                        <a:pt x="486" y="89"/>
                      </a:lnTo>
                      <a:lnTo>
                        <a:pt x="524" y="112"/>
                      </a:lnTo>
                      <a:lnTo>
                        <a:pt x="563" y="139"/>
                      </a:lnTo>
                      <a:lnTo>
                        <a:pt x="600" y="163"/>
                      </a:lnTo>
                      <a:lnTo>
                        <a:pt x="639" y="191"/>
                      </a:lnTo>
                      <a:lnTo>
                        <a:pt x="668" y="213"/>
                      </a:lnTo>
                      <a:lnTo>
                        <a:pt x="732" y="236"/>
                      </a:lnTo>
                      <a:lnTo>
                        <a:pt x="777" y="237"/>
                      </a:lnTo>
                      <a:lnTo>
                        <a:pt x="745" y="2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7538400" y="2190960"/>
                  <a:ext cx="194760" cy="42480"/>
                </a:xfrm>
                <a:custGeom>
                  <a:avLst/>
                  <a:gdLst/>
                  <a:ahLst/>
                  <a:rect l="l" t="t" r="r" b="b"/>
                  <a:pathLst>
                    <a:path w="673" h="193">
                      <a:moveTo>
                        <a:pt x="638" y="2"/>
                      </a:moveTo>
                      <a:lnTo>
                        <a:pt x="649" y="3"/>
                      </a:lnTo>
                      <a:lnTo>
                        <a:pt x="659" y="7"/>
                      </a:lnTo>
                      <a:lnTo>
                        <a:pt x="667" y="12"/>
                      </a:lnTo>
                      <a:lnTo>
                        <a:pt x="671" y="19"/>
                      </a:lnTo>
                      <a:lnTo>
                        <a:pt x="672" y="30"/>
                      </a:lnTo>
                      <a:lnTo>
                        <a:pt x="670" y="39"/>
                      </a:lnTo>
                      <a:lnTo>
                        <a:pt x="664" y="59"/>
                      </a:lnTo>
                      <a:lnTo>
                        <a:pt x="658" y="76"/>
                      </a:lnTo>
                      <a:lnTo>
                        <a:pt x="644" y="72"/>
                      </a:lnTo>
                      <a:lnTo>
                        <a:pt x="625" y="71"/>
                      </a:lnTo>
                      <a:lnTo>
                        <a:pt x="601" y="71"/>
                      </a:lnTo>
                      <a:lnTo>
                        <a:pt x="561" y="71"/>
                      </a:lnTo>
                      <a:lnTo>
                        <a:pt x="552" y="78"/>
                      </a:lnTo>
                      <a:lnTo>
                        <a:pt x="546" y="89"/>
                      </a:lnTo>
                      <a:lnTo>
                        <a:pt x="540" y="101"/>
                      </a:lnTo>
                      <a:lnTo>
                        <a:pt x="535" y="111"/>
                      </a:lnTo>
                      <a:lnTo>
                        <a:pt x="529" y="125"/>
                      </a:lnTo>
                      <a:lnTo>
                        <a:pt x="523" y="140"/>
                      </a:lnTo>
                      <a:lnTo>
                        <a:pt x="519" y="153"/>
                      </a:lnTo>
                      <a:lnTo>
                        <a:pt x="518" y="162"/>
                      </a:lnTo>
                      <a:lnTo>
                        <a:pt x="514" y="188"/>
                      </a:lnTo>
                      <a:lnTo>
                        <a:pt x="456" y="191"/>
                      </a:lnTo>
                      <a:lnTo>
                        <a:pt x="427" y="191"/>
                      </a:lnTo>
                      <a:lnTo>
                        <a:pt x="435" y="156"/>
                      </a:lnTo>
                      <a:lnTo>
                        <a:pt x="440" y="138"/>
                      </a:lnTo>
                      <a:lnTo>
                        <a:pt x="447" y="119"/>
                      </a:lnTo>
                      <a:lnTo>
                        <a:pt x="453" y="103"/>
                      </a:lnTo>
                      <a:lnTo>
                        <a:pt x="464" y="76"/>
                      </a:lnTo>
                      <a:lnTo>
                        <a:pt x="447" y="80"/>
                      </a:lnTo>
                      <a:lnTo>
                        <a:pt x="427" y="85"/>
                      </a:lnTo>
                      <a:lnTo>
                        <a:pt x="408" y="93"/>
                      </a:lnTo>
                      <a:lnTo>
                        <a:pt x="389" y="105"/>
                      </a:lnTo>
                      <a:lnTo>
                        <a:pt x="369" y="119"/>
                      </a:lnTo>
                      <a:lnTo>
                        <a:pt x="352" y="132"/>
                      </a:lnTo>
                      <a:lnTo>
                        <a:pt x="337" y="151"/>
                      </a:lnTo>
                      <a:lnTo>
                        <a:pt x="307" y="192"/>
                      </a:lnTo>
                      <a:lnTo>
                        <a:pt x="152" y="192"/>
                      </a:lnTo>
                      <a:lnTo>
                        <a:pt x="0" y="191"/>
                      </a:lnTo>
                      <a:lnTo>
                        <a:pt x="138" y="106"/>
                      </a:lnTo>
                      <a:lnTo>
                        <a:pt x="213" y="62"/>
                      </a:lnTo>
                      <a:lnTo>
                        <a:pt x="259" y="36"/>
                      </a:lnTo>
                      <a:lnTo>
                        <a:pt x="295" y="21"/>
                      </a:lnTo>
                      <a:lnTo>
                        <a:pt x="313" y="16"/>
                      </a:lnTo>
                      <a:lnTo>
                        <a:pt x="340" y="12"/>
                      </a:lnTo>
                      <a:lnTo>
                        <a:pt x="429" y="9"/>
                      </a:lnTo>
                      <a:lnTo>
                        <a:pt x="566" y="0"/>
                      </a:lnTo>
                      <a:lnTo>
                        <a:pt x="627" y="0"/>
                      </a:lnTo>
                      <a:lnTo>
                        <a:pt x="638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2" name=""/>
              <p:cNvSpPr/>
              <p:nvPr/>
            </p:nvSpPr>
            <p:spPr>
              <a:xfrm>
                <a:off x="7408800" y="2187720"/>
                <a:ext cx="773280" cy="156600"/>
              </a:xfrm>
              <a:custGeom>
                <a:avLst/>
                <a:gdLst/>
                <a:ahLst/>
                <a:rect l="l" t="t" r="r" b="b"/>
                <a:pathLst>
                  <a:path w="2672" h="716">
                    <a:moveTo>
                      <a:pt x="2635" y="463"/>
                    </a:moveTo>
                    <a:lnTo>
                      <a:pt x="2602" y="385"/>
                    </a:lnTo>
                    <a:lnTo>
                      <a:pt x="2593" y="372"/>
                    </a:lnTo>
                    <a:lnTo>
                      <a:pt x="2578" y="359"/>
                    </a:lnTo>
                    <a:lnTo>
                      <a:pt x="2560" y="349"/>
                    </a:lnTo>
                    <a:lnTo>
                      <a:pt x="2494" y="328"/>
                    </a:lnTo>
                    <a:lnTo>
                      <a:pt x="2391" y="305"/>
                    </a:lnTo>
                    <a:lnTo>
                      <a:pt x="2279" y="282"/>
                    </a:lnTo>
                    <a:lnTo>
                      <a:pt x="2176" y="261"/>
                    </a:lnTo>
                    <a:lnTo>
                      <a:pt x="2077" y="243"/>
                    </a:lnTo>
                    <a:lnTo>
                      <a:pt x="2057" y="271"/>
                    </a:lnTo>
                    <a:lnTo>
                      <a:pt x="2025" y="277"/>
                    </a:lnTo>
                    <a:lnTo>
                      <a:pt x="1984" y="277"/>
                    </a:lnTo>
                    <a:lnTo>
                      <a:pt x="1851" y="274"/>
                    </a:lnTo>
                    <a:lnTo>
                      <a:pt x="1647" y="271"/>
                    </a:lnTo>
                    <a:lnTo>
                      <a:pt x="1379" y="264"/>
                    </a:lnTo>
                    <a:lnTo>
                      <a:pt x="1308" y="264"/>
                    </a:lnTo>
                    <a:lnTo>
                      <a:pt x="1295" y="263"/>
                    </a:lnTo>
                    <a:lnTo>
                      <a:pt x="1288" y="255"/>
                    </a:lnTo>
                    <a:lnTo>
                      <a:pt x="1285" y="247"/>
                    </a:lnTo>
                    <a:lnTo>
                      <a:pt x="1285" y="239"/>
                    </a:lnTo>
                    <a:lnTo>
                      <a:pt x="1286" y="232"/>
                    </a:lnTo>
                    <a:lnTo>
                      <a:pt x="1288" y="226"/>
                    </a:lnTo>
                    <a:lnTo>
                      <a:pt x="1290" y="216"/>
                    </a:lnTo>
                    <a:lnTo>
                      <a:pt x="1310" y="102"/>
                    </a:lnTo>
                    <a:lnTo>
                      <a:pt x="1320" y="68"/>
                    </a:lnTo>
                    <a:lnTo>
                      <a:pt x="1326" y="51"/>
                    </a:lnTo>
                    <a:lnTo>
                      <a:pt x="1337" y="40"/>
                    </a:lnTo>
                    <a:lnTo>
                      <a:pt x="1348" y="35"/>
                    </a:lnTo>
                    <a:lnTo>
                      <a:pt x="1364" y="33"/>
                    </a:lnTo>
                    <a:lnTo>
                      <a:pt x="1400" y="33"/>
                    </a:lnTo>
                    <a:lnTo>
                      <a:pt x="1493" y="36"/>
                    </a:lnTo>
                    <a:lnTo>
                      <a:pt x="1572" y="41"/>
                    </a:lnTo>
                    <a:lnTo>
                      <a:pt x="1666" y="49"/>
                    </a:lnTo>
                    <a:lnTo>
                      <a:pt x="1692" y="53"/>
                    </a:lnTo>
                    <a:lnTo>
                      <a:pt x="1714" y="57"/>
                    </a:lnTo>
                    <a:lnTo>
                      <a:pt x="1734" y="63"/>
                    </a:lnTo>
                    <a:lnTo>
                      <a:pt x="1754" y="71"/>
                    </a:lnTo>
                    <a:lnTo>
                      <a:pt x="1776" y="82"/>
                    </a:lnTo>
                    <a:lnTo>
                      <a:pt x="1865" y="138"/>
                    </a:lnTo>
                    <a:lnTo>
                      <a:pt x="2059" y="261"/>
                    </a:lnTo>
                    <a:lnTo>
                      <a:pt x="2070" y="246"/>
                    </a:lnTo>
                    <a:lnTo>
                      <a:pt x="1954" y="171"/>
                    </a:lnTo>
                    <a:lnTo>
                      <a:pt x="1882" y="126"/>
                    </a:lnTo>
                    <a:lnTo>
                      <a:pt x="1775" y="60"/>
                    </a:lnTo>
                    <a:lnTo>
                      <a:pt x="1752" y="49"/>
                    </a:lnTo>
                    <a:lnTo>
                      <a:pt x="1733" y="42"/>
                    </a:lnTo>
                    <a:lnTo>
                      <a:pt x="1715" y="37"/>
                    </a:lnTo>
                    <a:lnTo>
                      <a:pt x="1700" y="33"/>
                    </a:lnTo>
                    <a:lnTo>
                      <a:pt x="1671" y="29"/>
                    </a:lnTo>
                    <a:lnTo>
                      <a:pt x="1626" y="22"/>
                    </a:lnTo>
                    <a:lnTo>
                      <a:pt x="1482" y="7"/>
                    </a:lnTo>
                    <a:lnTo>
                      <a:pt x="1348" y="0"/>
                    </a:lnTo>
                    <a:lnTo>
                      <a:pt x="1221" y="0"/>
                    </a:lnTo>
                    <a:lnTo>
                      <a:pt x="1102" y="0"/>
                    </a:lnTo>
                    <a:lnTo>
                      <a:pt x="1030" y="1"/>
                    </a:lnTo>
                    <a:lnTo>
                      <a:pt x="920" y="8"/>
                    </a:lnTo>
                    <a:lnTo>
                      <a:pt x="850" y="13"/>
                    </a:lnTo>
                    <a:lnTo>
                      <a:pt x="820" y="16"/>
                    </a:lnTo>
                    <a:lnTo>
                      <a:pt x="794" y="21"/>
                    </a:lnTo>
                    <a:lnTo>
                      <a:pt x="772" y="26"/>
                    </a:lnTo>
                    <a:lnTo>
                      <a:pt x="754" y="33"/>
                    </a:lnTo>
                    <a:lnTo>
                      <a:pt x="777" y="29"/>
                    </a:lnTo>
                    <a:lnTo>
                      <a:pt x="800" y="29"/>
                    </a:lnTo>
                    <a:lnTo>
                      <a:pt x="829" y="26"/>
                    </a:lnTo>
                    <a:lnTo>
                      <a:pt x="878" y="23"/>
                    </a:lnTo>
                    <a:lnTo>
                      <a:pt x="943" y="19"/>
                    </a:lnTo>
                    <a:lnTo>
                      <a:pt x="1045" y="15"/>
                    </a:lnTo>
                    <a:lnTo>
                      <a:pt x="1074" y="16"/>
                    </a:lnTo>
                    <a:lnTo>
                      <a:pt x="1094" y="19"/>
                    </a:lnTo>
                    <a:lnTo>
                      <a:pt x="1105" y="22"/>
                    </a:lnTo>
                    <a:lnTo>
                      <a:pt x="1113" y="26"/>
                    </a:lnTo>
                    <a:lnTo>
                      <a:pt x="1118" y="33"/>
                    </a:lnTo>
                    <a:lnTo>
                      <a:pt x="1120" y="39"/>
                    </a:lnTo>
                    <a:lnTo>
                      <a:pt x="1120" y="49"/>
                    </a:lnTo>
                    <a:lnTo>
                      <a:pt x="1118" y="59"/>
                    </a:lnTo>
                    <a:lnTo>
                      <a:pt x="1078" y="167"/>
                    </a:lnTo>
                    <a:lnTo>
                      <a:pt x="1066" y="185"/>
                    </a:lnTo>
                    <a:lnTo>
                      <a:pt x="1061" y="192"/>
                    </a:lnTo>
                    <a:lnTo>
                      <a:pt x="1054" y="199"/>
                    </a:lnTo>
                    <a:lnTo>
                      <a:pt x="1046" y="204"/>
                    </a:lnTo>
                    <a:lnTo>
                      <a:pt x="1036" y="208"/>
                    </a:lnTo>
                    <a:lnTo>
                      <a:pt x="1026" y="212"/>
                    </a:lnTo>
                    <a:lnTo>
                      <a:pt x="1010" y="212"/>
                    </a:lnTo>
                    <a:lnTo>
                      <a:pt x="984" y="214"/>
                    </a:lnTo>
                    <a:lnTo>
                      <a:pt x="930" y="214"/>
                    </a:lnTo>
                    <a:lnTo>
                      <a:pt x="849" y="216"/>
                    </a:lnTo>
                    <a:lnTo>
                      <a:pt x="785" y="216"/>
                    </a:lnTo>
                    <a:lnTo>
                      <a:pt x="703" y="216"/>
                    </a:lnTo>
                    <a:lnTo>
                      <a:pt x="612" y="216"/>
                    </a:lnTo>
                    <a:lnTo>
                      <a:pt x="515" y="216"/>
                    </a:lnTo>
                    <a:lnTo>
                      <a:pt x="464" y="216"/>
                    </a:lnTo>
                    <a:lnTo>
                      <a:pt x="440" y="215"/>
                    </a:lnTo>
                    <a:lnTo>
                      <a:pt x="392" y="218"/>
                    </a:lnTo>
                    <a:lnTo>
                      <a:pt x="332" y="223"/>
                    </a:lnTo>
                    <a:lnTo>
                      <a:pt x="281" y="227"/>
                    </a:lnTo>
                    <a:lnTo>
                      <a:pt x="235" y="232"/>
                    </a:lnTo>
                    <a:lnTo>
                      <a:pt x="150" y="245"/>
                    </a:lnTo>
                    <a:lnTo>
                      <a:pt x="126" y="251"/>
                    </a:lnTo>
                    <a:lnTo>
                      <a:pt x="117" y="254"/>
                    </a:lnTo>
                    <a:lnTo>
                      <a:pt x="105" y="263"/>
                    </a:lnTo>
                    <a:lnTo>
                      <a:pt x="95" y="275"/>
                    </a:lnTo>
                    <a:lnTo>
                      <a:pt x="87" y="286"/>
                    </a:lnTo>
                    <a:lnTo>
                      <a:pt x="81" y="301"/>
                    </a:lnTo>
                    <a:lnTo>
                      <a:pt x="76" y="319"/>
                    </a:lnTo>
                    <a:lnTo>
                      <a:pt x="72" y="339"/>
                    </a:lnTo>
                    <a:lnTo>
                      <a:pt x="80" y="339"/>
                    </a:lnTo>
                    <a:lnTo>
                      <a:pt x="81" y="391"/>
                    </a:lnTo>
                    <a:lnTo>
                      <a:pt x="83" y="421"/>
                    </a:lnTo>
                    <a:lnTo>
                      <a:pt x="85" y="430"/>
                    </a:lnTo>
                    <a:lnTo>
                      <a:pt x="70" y="442"/>
                    </a:lnTo>
                    <a:lnTo>
                      <a:pt x="70" y="457"/>
                    </a:lnTo>
                    <a:lnTo>
                      <a:pt x="76" y="465"/>
                    </a:lnTo>
                    <a:lnTo>
                      <a:pt x="83" y="470"/>
                    </a:lnTo>
                    <a:lnTo>
                      <a:pt x="84" y="475"/>
                    </a:lnTo>
                    <a:lnTo>
                      <a:pt x="54" y="481"/>
                    </a:lnTo>
                    <a:lnTo>
                      <a:pt x="36" y="488"/>
                    </a:lnTo>
                    <a:lnTo>
                      <a:pt x="19" y="495"/>
                    </a:lnTo>
                    <a:lnTo>
                      <a:pt x="4" y="504"/>
                    </a:lnTo>
                    <a:lnTo>
                      <a:pt x="0" y="535"/>
                    </a:lnTo>
                    <a:lnTo>
                      <a:pt x="25" y="609"/>
                    </a:lnTo>
                    <a:lnTo>
                      <a:pt x="32" y="622"/>
                    </a:lnTo>
                    <a:lnTo>
                      <a:pt x="41" y="633"/>
                    </a:lnTo>
                    <a:lnTo>
                      <a:pt x="51" y="640"/>
                    </a:lnTo>
                    <a:lnTo>
                      <a:pt x="67" y="644"/>
                    </a:lnTo>
                    <a:lnTo>
                      <a:pt x="147" y="649"/>
                    </a:lnTo>
                    <a:lnTo>
                      <a:pt x="202" y="651"/>
                    </a:lnTo>
                    <a:lnTo>
                      <a:pt x="278" y="659"/>
                    </a:lnTo>
                    <a:lnTo>
                      <a:pt x="343" y="668"/>
                    </a:lnTo>
                    <a:lnTo>
                      <a:pt x="387" y="677"/>
                    </a:lnTo>
                    <a:lnTo>
                      <a:pt x="450" y="682"/>
                    </a:lnTo>
                    <a:lnTo>
                      <a:pt x="516" y="687"/>
                    </a:lnTo>
                    <a:lnTo>
                      <a:pt x="595" y="691"/>
                    </a:lnTo>
                    <a:lnTo>
                      <a:pt x="729" y="692"/>
                    </a:lnTo>
                    <a:lnTo>
                      <a:pt x="919" y="702"/>
                    </a:lnTo>
                    <a:lnTo>
                      <a:pt x="947" y="581"/>
                    </a:lnTo>
                    <a:lnTo>
                      <a:pt x="968" y="540"/>
                    </a:lnTo>
                    <a:lnTo>
                      <a:pt x="993" y="497"/>
                    </a:lnTo>
                    <a:lnTo>
                      <a:pt x="1018" y="471"/>
                    </a:lnTo>
                    <a:lnTo>
                      <a:pt x="1050" y="450"/>
                    </a:lnTo>
                    <a:lnTo>
                      <a:pt x="1096" y="434"/>
                    </a:lnTo>
                    <a:lnTo>
                      <a:pt x="1149" y="426"/>
                    </a:lnTo>
                    <a:lnTo>
                      <a:pt x="1199" y="428"/>
                    </a:lnTo>
                    <a:lnTo>
                      <a:pt x="1240" y="438"/>
                    </a:lnTo>
                    <a:lnTo>
                      <a:pt x="1274" y="453"/>
                    </a:lnTo>
                    <a:lnTo>
                      <a:pt x="1292" y="467"/>
                    </a:lnTo>
                    <a:lnTo>
                      <a:pt x="1305" y="484"/>
                    </a:lnTo>
                    <a:lnTo>
                      <a:pt x="1324" y="519"/>
                    </a:lnTo>
                    <a:lnTo>
                      <a:pt x="1339" y="559"/>
                    </a:lnTo>
                    <a:lnTo>
                      <a:pt x="1348" y="602"/>
                    </a:lnTo>
                    <a:lnTo>
                      <a:pt x="1348" y="649"/>
                    </a:lnTo>
                    <a:lnTo>
                      <a:pt x="1339" y="715"/>
                    </a:lnTo>
                    <a:lnTo>
                      <a:pt x="2180" y="664"/>
                    </a:lnTo>
                    <a:lnTo>
                      <a:pt x="2194" y="633"/>
                    </a:lnTo>
                    <a:lnTo>
                      <a:pt x="2205" y="602"/>
                    </a:lnTo>
                    <a:lnTo>
                      <a:pt x="2211" y="577"/>
                    </a:lnTo>
                    <a:lnTo>
                      <a:pt x="2218" y="550"/>
                    </a:lnTo>
                    <a:lnTo>
                      <a:pt x="2222" y="522"/>
                    </a:lnTo>
                    <a:lnTo>
                      <a:pt x="2231" y="496"/>
                    </a:lnTo>
                    <a:lnTo>
                      <a:pt x="2241" y="473"/>
                    </a:lnTo>
                    <a:lnTo>
                      <a:pt x="2250" y="458"/>
                    </a:lnTo>
                    <a:lnTo>
                      <a:pt x="2265" y="442"/>
                    </a:lnTo>
                    <a:lnTo>
                      <a:pt x="2278" y="427"/>
                    </a:lnTo>
                    <a:lnTo>
                      <a:pt x="2291" y="416"/>
                    </a:lnTo>
                    <a:lnTo>
                      <a:pt x="2312" y="408"/>
                    </a:lnTo>
                    <a:lnTo>
                      <a:pt x="2342" y="404"/>
                    </a:lnTo>
                    <a:lnTo>
                      <a:pt x="2372" y="404"/>
                    </a:lnTo>
                    <a:lnTo>
                      <a:pt x="2402" y="408"/>
                    </a:lnTo>
                    <a:lnTo>
                      <a:pt x="2421" y="416"/>
                    </a:lnTo>
                    <a:lnTo>
                      <a:pt x="2438" y="431"/>
                    </a:lnTo>
                    <a:lnTo>
                      <a:pt x="2452" y="446"/>
                    </a:lnTo>
                    <a:lnTo>
                      <a:pt x="2466" y="467"/>
                    </a:lnTo>
                    <a:lnTo>
                      <a:pt x="2476" y="492"/>
                    </a:lnTo>
                    <a:lnTo>
                      <a:pt x="2480" y="511"/>
                    </a:lnTo>
                    <a:lnTo>
                      <a:pt x="2481" y="545"/>
                    </a:lnTo>
                    <a:lnTo>
                      <a:pt x="2484" y="568"/>
                    </a:lnTo>
                    <a:lnTo>
                      <a:pt x="2481" y="598"/>
                    </a:lnTo>
                    <a:lnTo>
                      <a:pt x="2483" y="635"/>
                    </a:lnTo>
                    <a:lnTo>
                      <a:pt x="2596" y="632"/>
                    </a:lnTo>
                    <a:lnTo>
                      <a:pt x="2605" y="626"/>
                    </a:lnTo>
                    <a:lnTo>
                      <a:pt x="2612" y="618"/>
                    </a:lnTo>
                    <a:lnTo>
                      <a:pt x="2617" y="595"/>
                    </a:lnTo>
                    <a:lnTo>
                      <a:pt x="2629" y="586"/>
                    </a:lnTo>
                    <a:lnTo>
                      <a:pt x="2643" y="577"/>
                    </a:lnTo>
                    <a:lnTo>
                      <a:pt x="2659" y="558"/>
                    </a:lnTo>
                    <a:lnTo>
                      <a:pt x="2660" y="521"/>
                    </a:lnTo>
                    <a:lnTo>
                      <a:pt x="2671" y="515"/>
                    </a:lnTo>
                    <a:lnTo>
                      <a:pt x="2667" y="485"/>
                    </a:lnTo>
                    <a:lnTo>
                      <a:pt x="2635" y="463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8127000" y="2293560"/>
                <a:ext cx="55080" cy="6840"/>
              </a:xfrm>
              <a:custGeom>
                <a:avLst/>
                <a:gdLst/>
                <a:ahLst/>
                <a:rect l="l" t="t" r="r" b="b"/>
                <a:pathLst>
                  <a:path w="191" h="32">
                    <a:moveTo>
                      <a:pt x="186" y="0"/>
                    </a:moveTo>
                    <a:lnTo>
                      <a:pt x="189" y="12"/>
                    </a:lnTo>
                    <a:lnTo>
                      <a:pt x="190" y="25"/>
                    </a:lnTo>
                    <a:lnTo>
                      <a:pt x="178" y="30"/>
                    </a:lnTo>
                    <a:lnTo>
                      <a:pt x="8" y="31"/>
                    </a:lnTo>
                    <a:lnTo>
                      <a:pt x="4" y="17"/>
                    </a:lnTo>
                    <a:lnTo>
                      <a:pt x="0" y="1"/>
                    </a:lnTo>
                    <a:lnTo>
                      <a:pt x="70" y="2"/>
                    </a:lnTo>
                    <a:lnTo>
                      <a:pt x="159" y="2"/>
                    </a:lnTo>
                    <a:lnTo>
                      <a:pt x="18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4" name=""/>
              <p:cNvGrpSpPr/>
              <p:nvPr/>
            </p:nvGrpSpPr>
            <p:grpSpPr>
              <a:xfrm>
                <a:off x="7433280" y="2188800"/>
                <a:ext cx="746280" cy="149400"/>
                <a:chOff x="7433280" y="2188800"/>
                <a:chExt cx="746280" cy="149400"/>
              </a:xfrm>
            </p:grpSpPr>
            <p:sp>
              <p:nvSpPr>
                <p:cNvPr id="1145" name=""/>
                <p:cNvSpPr/>
                <p:nvPr/>
              </p:nvSpPr>
              <p:spPr>
                <a:xfrm>
                  <a:off x="7599240" y="2257560"/>
                  <a:ext cx="561600" cy="13320"/>
                </a:xfrm>
                <a:custGeom>
                  <a:avLst/>
                  <a:gdLst/>
                  <a:ahLst/>
                  <a:rect l="l" t="t" r="r" b="b"/>
                  <a:pathLst>
                    <a:path w="1940" h="61">
                      <a:moveTo>
                        <a:pt x="1939" y="60"/>
                      </a:moveTo>
                      <a:lnTo>
                        <a:pt x="1882" y="50"/>
                      </a:lnTo>
                      <a:lnTo>
                        <a:pt x="1824" y="40"/>
                      </a:lnTo>
                      <a:lnTo>
                        <a:pt x="1766" y="34"/>
                      </a:lnTo>
                      <a:lnTo>
                        <a:pt x="1606" y="22"/>
                      </a:lnTo>
                      <a:lnTo>
                        <a:pt x="1368" y="13"/>
                      </a:lnTo>
                      <a:lnTo>
                        <a:pt x="673" y="0"/>
                      </a:lnTo>
                      <a:lnTo>
                        <a:pt x="423" y="0"/>
                      </a:lnTo>
                      <a:lnTo>
                        <a:pt x="56" y="6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H="1">
                  <a:off x="8124840" y="2304000"/>
                  <a:ext cx="5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7" name=""/>
                <p:cNvGrpSpPr/>
                <p:nvPr/>
              </p:nvGrpSpPr>
              <p:grpSpPr>
                <a:xfrm>
                  <a:off x="7433280" y="2188800"/>
                  <a:ext cx="619200" cy="149400"/>
                  <a:chOff x="7433280" y="2188800"/>
                  <a:chExt cx="619200" cy="14940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>
                    <a:off x="7524360" y="2188800"/>
                    <a:ext cx="21240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34" h="221">
                        <a:moveTo>
                          <a:pt x="408" y="15"/>
                        </a:moveTo>
                        <a:lnTo>
                          <a:pt x="477" y="10"/>
                        </a:lnTo>
                        <a:lnTo>
                          <a:pt x="556" y="5"/>
                        </a:lnTo>
                        <a:lnTo>
                          <a:pt x="639" y="1"/>
                        </a:lnTo>
                        <a:lnTo>
                          <a:pt x="674" y="0"/>
                        </a:lnTo>
                        <a:lnTo>
                          <a:pt x="694" y="2"/>
                        </a:lnTo>
                        <a:lnTo>
                          <a:pt x="710" y="6"/>
                        </a:lnTo>
                        <a:lnTo>
                          <a:pt x="722" y="12"/>
                        </a:lnTo>
                        <a:lnTo>
                          <a:pt x="729" y="22"/>
                        </a:lnTo>
                        <a:lnTo>
                          <a:pt x="733" y="35"/>
                        </a:lnTo>
                        <a:lnTo>
                          <a:pt x="733" y="47"/>
                        </a:lnTo>
                        <a:lnTo>
                          <a:pt x="691" y="161"/>
                        </a:lnTo>
                        <a:lnTo>
                          <a:pt x="686" y="172"/>
                        </a:lnTo>
                        <a:lnTo>
                          <a:pt x="678" y="185"/>
                        </a:lnTo>
                        <a:lnTo>
                          <a:pt x="671" y="195"/>
                        </a:lnTo>
                        <a:lnTo>
                          <a:pt x="661" y="206"/>
                        </a:lnTo>
                        <a:lnTo>
                          <a:pt x="647" y="213"/>
                        </a:lnTo>
                        <a:lnTo>
                          <a:pt x="632" y="218"/>
                        </a:lnTo>
                        <a:lnTo>
                          <a:pt x="610" y="220"/>
                        </a:lnTo>
                        <a:lnTo>
                          <a:pt x="395" y="218"/>
                        </a:lnTo>
                        <a:lnTo>
                          <a:pt x="282" y="217"/>
                        </a:lnTo>
                        <a:lnTo>
                          <a:pt x="175" y="216"/>
                        </a:lnTo>
                        <a:lnTo>
                          <a:pt x="0" y="21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7835760" y="2241000"/>
                    <a:ext cx="19980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440">
                        <a:moveTo>
                          <a:pt x="595" y="0"/>
                        </a:moveTo>
                        <a:lnTo>
                          <a:pt x="621" y="25"/>
                        </a:lnTo>
                        <a:lnTo>
                          <a:pt x="636" y="40"/>
                        </a:lnTo>
                        <a:lnTo>
                          <a:pt x="647" y="53"/>
                        </a:lnTo>
                        <a:lnTo>
                          <a:pt x="657" y="67"/>
                        </a:lnTo>
                        <a:lnTo>
                          <a:pt x="666" y="81"/>
                        </a:lnTo>
                        <a:lnTo>
                          <a:pt x="671" y="94"/>
                        </a:lnTo>
                        <a:lnTo>
                          <a:pt x="680" y="139"/>
                        </a:lnTo>
                        <a:lnTo>
                          <a:pt x="685" y="184"/>
                        </a:lnTo>
                        <a:lnTo>
                          <a:pt x="689" y="221"/>
                        </a:lnTo>
                        <a:lnTo>
                          <a:pt x="689" y="243"/>
                        </a:lnTo>
                        <a:lnTo>
                          <a:pt x="688" y="281"/>
                        </a:lnTo>
                        <a:lnTo>
                          <a:pt x="684" y="311"/>
                        </a:lnTo>
                        <a:lnTo>
                          <a:pt x="678" y="340"/>
                        </a:lnTo>
                        <a:lnTo>
                          <a:pt x="673" y="363"/>
                        </a:lnTo>
                        <a:lnTo>
                          <a:pt x="666" y="383"/>
                        </a:lnTo>
                        <a:lnTo>
                          <a:pt x="656" y="404"/>
                        </a:lnTo>
                        <a:lnTo>
                          <a:pt x="547" y="411"/>
                        </a:lnTo>
                        <a:lnTo>
                          <a:pt x="0" y="439"/>
                        </a:lnTo>
                        <a:lnTo>
                          <a:pt x="15" y="350"/>
                        </a:lnTo>
                        <a:lnTo>
                          <a:pt x="23" y="259"/>
                        </a:lnTo>
                        <a:lnTo>
                          <a:pt x="28" y="84"/>
                        </a:lnTo>
                        <a:lnTo>
                          <a:pt x="26" y="68"/>
                        </a:lnTo>
                        <a:lnTo>
                          <a:pt x="21" y="50"/>
                        </a:lnTo>
                        <a:lnTo>
                          <a:pt x="15" y="33"/>
                        </a:lnTo>
                        <a:lnTo>
                          <a:pt x="4" y="2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7775640" y="2192760"/>
                    <a:ext cx="23976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828" h="270">
                        <a:moveTo>
                          <a:pt x="469" y="31"/>
                        </a:moveTo>
                        <a:lnTo>
                          <a:pt x="509" y="51"/>
                        </a:lnTo>
                        <a:lnTo>
                          <a:pt x="548" y="73"/>
                        </a:lnTo>
                        <a:lnTo>
                          <a:pt x="586" y="98"/>
                        </a:lnTo>
                        <a:lnTo>
                          <a:pt x="623" y="121"/>
                        </a:lnTo>
                        <a:lnTo>
                          <a:pt x="661" y="145"/>
                        </a:lnTo>
                        <a:lnTo>
                          <a:pt x="699" y="169"/>
                        </a:lnTo>
                        <a:lnTo>
                          <a:pt x="741" y="195"/>
                        </a:lnTo>
                        <a:lnTo>
                          <a:pt x="777" y="221"/>
                        </a:lnTo>
                        <a:lnTo>
                          <a:pt x="802" y="242"/>
                        </a:lnTo>
                        <a:lnTo>
                          <a:pt x="827" y="267"/>
                        </a:lnTo>
                        <a:lnTo>
                          <a:pt x="696" y="269"/>
                        </a:lnTo>
                        <a:lnTo>
                          <a:pt x="227" y="264"/>
                        </a:lnTo>
                        <a:lnTo>
                          <a:pt x="44" y="260"/>
                        </a:lnTo>
                        <a:lnTo>
                          <a:pt x="28" y="259"/>
                        </a:lnTo>
                        <a:lnTo>
                          <a:pt x="15" y="255"/>
                        </a:lnTo>
                        <a:lnTo>
                          <a:pt x="5" y="246"/>
                        </a:lnTo>
                        <a:lnTo>
                          <a:pt x="0" y="233"/>
                        </a:lnTo>
                        <a:lnTo>
                          <a:pt x="0" y="222"/>
                        </a:lnTo>
                        <a:lnTo>
                          <a:pt x="1" y="211"/>
                        </a:lnTo>
                        <a:lnTo>
                          <a:pt x="4" y="200"/>
                        </a:lnTo>
                        <a:lnTo>
                          <a:pt x="36" y="52"/>
                        </a:lnTo>
                        <a:lnTo>
                          <a:pt x="40" y="39"/>
                        </a:lnTo>
                        <a:lnTo>
                          <a:pt x="44" y="29"/>
                        </a:lnTo>
                        <a:lnTo>
                          <a:pt x="50" y="18"/>
                        </a:lnTo>
                        <a:lnTo>
                          <a:pt x="57" y="12"/>
                        </a:lnTo>
                        <a:lnTo>
                          <a:pt x="65" y="5"/>
                        </a:lnTo>
                        <a:lnTo>
                          <a:pt x="73" y="3"/>
                        </a:lnTo>
                        <a:lnTo>
                          <a:pt x="87" y="0"/>
                        </a:lnTo>
                        <a:lnTo>
                          <a:pt x="108" y="0"/>
                        </a:lnTo>
                        <a:lnTo>
                          <a:pt x="14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 flipH="1">
                    <a:off x="7793640" y="2306880"/>
                    <a:ext cx="258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52" name=""/>
                  <p:cNvGrpSpPr/>
                  <p:nvPr/>
                </p:nvGrpSpPr>
                <p:grpSpPr>
                  <a:xfrm>
                    <a:off x="7433280" y="2236680"/>
                    <a:ext cx="266040" cy="101520"/>
                    <a:chOff x="7433280" y="2236680"/>
                    <a:chExt cx="266040" cy="101520"/>
                  </a:xfrm>
                </p:grpSpPr>
                <p:sp>
                  <p:nvSpPr>
                    <p:cNvPr id="1153" name=""/>
                    <p:cNvSpPr/>
                    <p:nvPr/>
                  </p:nvSpPr>
                  <p:spPr>
                    <a:xfrm>
                      <a:off x="7563960" y="2236680"/>
                      <a:ext cx="13536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8" h="120">
                          <a:moveTo>
                            <a:pt x="467" y="0"/>
                          </a:moveTo>
                          <a:lnTo>
                            <a:pt x="290" y="6"/>
                          </a:lnTo>
                          <a:lnTo>
                            <a:pt x="217" y="10"/>
                          </a:lnTo>
                          <a:lnTo>
                            <a:pt x="165" y="13"/>
                          </a:lnTo>
                          <a:lnTo>
                            <a:pt x="120" y="17"/>
                          </a:lnTo>
                          <a:lnTo>
                            <a:pt x="74" y="21"/>
                          </a:lnTo>
                          <a:lnTo>
                            <a:pt x="54" y="25"/>
                          </a:lnTo>
                          <a:lnTo>
                            <a:pt x="39" y="34"/>
                          </a:lnTo>
                          <a:lnTo>
                            <a:pt x="29" y="45"/>
                          </a:lnTo>
                          <a:lnTo>
                            <a:pt x="20" y="55"/>
                          </a:lnTo>
                          <a:lnTo>
                            <a:pt x="13" y="69"/>
                          </a:lnTo>
                          <a:lnTo>
                            <a:pt x="7" y="80"/>
                          </a:lnTo>
                          <a:lnTo>
                            <a:pt x="3" y="96"/>
                          </a:lnTo>
                          <a:lnTo>
                            <a:pt x="0" y="119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4" name=""/>
                    <p:cNvSpPr/>
                    <p:nvPr/>
                  </p:nvSpPr>
                  <p:spPr>
                    <a:xfrm>
                      <a:off x="7606080" y="2308680"/>
                      <a:ext cx="133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135">
                          <a:moveTo>
                            <a:pt x="45" y="0"/>
                          </a:moveTo>
                          <a:lnTo>
                            <a:pt x="44" y="32"/>
                          </a:lnTo>
                          <a:lnTo>
                            <a:pt x="42" y="52"/>
                          </a:lnTo>
                          <a:lnTo>
                            <a:pt x="39" y="73"/>
                          </a:lnTo>
                          <a:lnTo>
                            <a:pt x="36" y="93"/>
                          </a:lnTo>
                          <a:lnTo>
                            <a:pt x="27" y="108"/>
                          </a:lnTo>
                          <a:lnTo>
                            <a:pt x="17" y="122"/>
                          </a:lnTo>
                          <a:lnTo>
                            <a:pt x="0" y="13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>
                      <a:off x="7503840" y="2308680"/>
                      <a:ext cx="169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124">
                          <a:moveTo>
                            <a:pt x="0" y="0"/>
                          </a:moveTo>
                          <a:lnTo>
                            <a:pt x="0" y="15"/>
                          </a:lnTo>
                          <a:lnTo>
                            <a:pt x="1" y="35"/>
                          </a:lnTo>
                          <a:lnTo>
                            <a:pt x="6" y="54"/>
                          </a:lnTo>
                          <a:lnTo>
                            <a:pt x="11" y="74"/>
                          </a:lnTo>
                          <a:lnTo>
                            <a:pt x="24" y="92"/>
                          </a:lnTo>
                          <a:lnTo>
                            <a:pt x="34" y="105"/>
                          </a:lnTo>
                          <a:lnTo>
                            <a:pt x="44" y="115"/>
                          </a:lnTo>
                          <a:lnTo>
                            <a:pt x="58" y="12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6" name=""/>
                    <p:cNvSpPr/>
                    <p:nvPr/>
                  </p:nvSpPr>
                  <p:spPr>
                    <a:xfrm>
                      <a:off x="7445160" y="2241720"/>
                      <a:ext cx="13536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7" h="17">
                          <a:moveTo>
                            <a:pt x="466" y="0"/>
                          </a:moveTo>
                          <a:lnTo>
                            <a:pt x="265" y="10"/>
                          </a:lnTo>
                          <a:lnTo>
                            <a:pt x="57" y="10"/>
                          </a:lnTo>
                          <a:lnTo>
                            <a:pt x="37" y="10"/>
                          </a:lnTo>
                          <a:lnTo>
                            <a:pt x="17" y="10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>
                      <a:off x="7503120" y="2309760"/>
                      <a:ext cx="18360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4" h="17">
                          <a:moveTo>
                            <a:pt x="633" y="5"/>
                          </a:moveTo>
                          <a:lnTo>
                            <a:pt x="505" y="8"/>
                          </a:lnTo>
                          <a:lnTo>
                            <a:pt x="459" y="10"/>
                          </a:lnTo>
                          <a:lnTo>
                            <a:pt x="410" y="10"/>
                          </a:lnTo>
                          <a:lnTo>
                            <a:pt x="356" y="11"/>
                          </a:lnTo>
                          <a:lnTo>
                            <a:pt x="307" y="13"/>
                          </a:lnTo>
                          <a:lnTo>
                            <a:pt x="264" y="16"/>
                          </a:lnTo>
                          <a:lnTo>
                            <a:pt x="227" y="1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>
                      <a:off x="7433280" y="2291400"/>
                      <a:ext cx="18792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9" h="17">
                          <a:moveTo>
                            <a:pt x="648" y="16"/>
                          </a:moveTo>
                          <a:lnTo>
                            <a:pt x="418" y="1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159" name=""/>
              <p:cNvSpPr/>
              <p:nvPr/>
            </p:nvSpPr>
            <p:spPr>
              <a:xfrm>
                <a:off x="7792200" y="2294640"/>
                <a:ext cx="262440" cy="10080"/>
              </a:xfrm>
              <a:custGeom>
                <a:avLst/>
                <a:gdLst/>
                <a:ahLst/>
                <a:rect l="l" t="t" r="r" b="b"/>
                <a:pathLst>
                  <a:path w="907" h="47">
                    <a:moveTo>
                      <a:pt x="906" y="0"/>
                    </a:moveTo>
                    <a:lnTo>
                      <a:pt x="461" y="5"/>
                    </a:lnTo>
                    <a:lnTo>
                      <a:pt x="0" y="14"/>
                    </a:lnTo>
                    <a:lnTo>
                      <a:pt x="10" y="31"/>
                    </a:lnTo>
                    <a:lnTo>
                      <a:pt x="17" y="46"/>
                    </a:lnTo>
                    <a:lnTo>
                      <a:pt x="423" y="41"/>
                    </a:lnTo>
                    <a:lnTo>
                      <a:pt x="893" y="32"/>
                    </a:lnTo>
                    <a:lnTo>
                      <a:pt x="90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411680" y="2292840"/>
                <a:ext cx="283680" cy="17280"/>
              </a:xfrm>
              <a:custGeom>
                <a:avLst/>
                <a:gdLst/>
                <a:ahLst/>
                <a:rect l="l" t="t" r="r" b="b"/>
                <a:pathLst>
                  <a:path w="980" h="80">
                    <a:moveTo>
                      <a:pt x="979" y="23"/>
                    </a:moveTo>
                    <a:lnTo>
                      <a:pt x="743" y="31"/>
                    </a:lnTo>
                    <a:lnTo>
                      <a:pt x="615" y="35"/>
                    </a:lnTo>
                    <a:lnTo>
                      <a:pt x="367" y="35"/>
                    </a:lnTo>
                    <a:lnTo>
                      <a:pt x="61" y="19"/>
                    </a:lnTo>
                    <a:lnTo>
                      <a:pt x="54" y="18"/>
                    </a:lnTo>
                    <a:lnTo>
                      <a:pt x="48" y="16"/>
                    </a:lnTo>
                    <a:lnTo>
                      <a:pt x="42" y="13"/>
                    </a:lnTo>
                    <a:lnTo>
                      <a:pt x="46" y="7"/>
                    </a:lnTo>
                    <a:lnTo>
                      <a:pt x="61" y="0"/>
                    </a:lnTo>
                    <a:lnTo>
                      <a:pt x="52" y="0"/>
                    </a:lnTo>
                    <a:lnTo>
                      <a:pt x="16" y="13"/>
                    </a:lnTo>
                    <a:lnTo>
                      <a:pt x="2" y="21"/>
                    </a:lnTo>
                    <a:lnTo>
                      <a:pt x="0" y="31"/>
                    </a:lnTo>
                    <a:lnTo>
                      <a:pt x="9" y="42"/>
                    </a:lnTo>
                    <a:lnTo>
                      <a:pt x="18" y="47"/>
                    </a:lnTo>
                    <a:lnTo>
                      <a:pt x="30" y="51"/>
                    </a:lnTo>
                    <a:lnTo>
                      <a:pt x="46" y="54"/>
                    </a:lnTo>
                    <a:lnTo>
                      <a:pt x="541" y="79"/>
                    </a:lnTo>
                    <a:lnTo>
                      <a:pt x="948" y="68"/>
                    </a:lnTo>
                    <a:lnTo>
                      <a:pt x="979" y="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1" name=""/>
              <p:cNvGrpSpPr/>
              <p:nvPr/>
            </p:nvGrpSpPr>
            <p:grpSpPr>
              <a:xfrm>
                <a:off x="7428960" y="2261880"/>
                <a:ext cx="188640" cy="30960"/>
                <a:chOff x="7428960" y="2261880"/>
                <a:chExt cx="188640" cy="3096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29320" y="2261880"/>
                  <a:ext cx="188280" cy="30960"/>
                </a:xfrm>
                <a:custGeom>
                  <a:avLst/>
                  <a:gdLst/>
                  <a:ahLst/>
                  <a:rect l="l" t="t" r="r" b="b"/>
                  <a:pathLst>
                    <a:path w="651" h="142">
                      <a:moveTo>
                        <a:pt x="650" y="136"/>
                      </a:moveTo>
                      <a:lnTo>
                        <a:pt x="619" y="56"/>
                      </a:lnTo>
                      <a:lnTo>
                        <a:pt x="607" y="0"/>
                      </a:lnTo>
                      <a:lnTo>
                        <a:pt x="9" y="0"/>
                      </a:lnTo>
                      <a:lnTo>
                        <a:pt x="12" y="72"/>
                      </a:lnTo>
                      <a:lnTo>
                        <a:pt x="12" y="83"/>
                      </a:lnTo>
                      <a:lnTo>
                        <a:pt x="12" y="93"/>
                      </a:lnTo>
                      <a:lnTo>
                        <a:pt x="0" y="103"/>
                      </a:lnTo>
                      <a:lnTo>
                        <a:pt x="0" y="122"/>
                      </a:lnTo>
                      <a:lnTo>
                        <a:pt x="276" y="134"/>
                      </a:lnTo>
                      <a:lnTo>
                        <a:pt x="468" y="141"/>
                      </a:lnTo>
                      <a:lnTo>
                        <a:pt x="650" y="136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3" name=""/>
                <p:cNvGrpSpPr/>
                <p:nvPr/>
              </p:nvGrpSpPr>
              <p:grpSpPr>
                <a:xfrm>
                  <a:off x="7428960" y="2264040"/>
                  <a:ext cx="182160" cy="17280"/>
                  <a:chOff x="7428960" y="2264040"/>
                  <a:chExt cx="182160" cy="1728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 flipH="1">
                    <a:off x="7428960" y="2264040"/>
                    <a:ext cx="178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flipH="1">
                    <a:off x="7430760" y="2265480"/>
                    <a:ext cx="177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 flipH="1">
                    <a:off x="7430040" y="2268360"/>
                    <a:ext cx="178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 flipH="1" flipV="1">
                    <a:off x="7430400" y="2268720"/>
                    <a:ext cx="178920" cy="3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 flipH="1">
                    <a:off x="7429680" y="2273040"/>
                    <a:ext cx="180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7432560" y="2275200"/>
                    <a:ext cx="1771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11" h="17">
                        <a:moveTo>
                          <a:pt x="610" y="0"/>
                        </a:moveTo>
                        <a:lnTo>
                          <a:pt x="497" y="16"/>
                        </a:lnTo>
                        <a:lnTo>
                          <a:pt x="459" y="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7432200" y="2277720"/>
                    <a:ext cx="1789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18" h="17">
                        <a:moveTo>
                          <a:pt x="617" y="4"/>
                        </a:moveTo>
                        <a:lnTo>
                          <a:pt x="513" y="16"/>
                        </a:lnTo>
                        <a:lnTo>
                          <a:pt x="456" y="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1" name=""/>
              <p:cNvGrpSpPr/>
              <p:nvPr/>
            </p:nvGrpSpPr>
            <p:grpSpPr>
              <a:xfrm>
                <a:off x="7431480" y="2248560"/>
                <a:ext cx="104040" cy="79920"/>
                <a:chOff x="7431480" y="2248560"/>
                <a:chExt cx="104040" cy="7992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7450560" y="2306520"/>
                  <a:ext cx="11880" cy="21960"/>
                </a:xfrm>
                <a:custGeom>
                  <a:avLst/>
                  <a:gdLst/>
                  <a:ahLst/>
                  <a:rect l="l" t="t" r="r" b="b"/>
                  <a:pathLst>
                    <a:path w="41" h="101">
                      <a:moveTo>
                        <a:pt x="1" y="0"/>
                      </a:moveTo>
                      <a:lnTo>
                        <a:pt x="0" y="17"/>
                      </a:lnTo>
                      <a:lnTo>
                        <a:pt x="3" y="42"/>
                      </a:lnTo>
                      <a:lnTo>
                        <a:pt x="9" y="61"/>
                      </a:lnTo>
                      <a:lnTo>
                        <a:pt x="15" y="76"/>
                      </a:lnTo>
                      <a:lnTo>
                        <a:pt x="26" y="90"/>
                      </a:lnTo>
                      <a:lnTo>
                        <a:pt x="40" y="100"/>
                      </a:lnTo>
                      <a:lnTo>
                        <a:pt x="40" y="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3" name=""/>
                <p:cNvGrpSpPr/>
                <p:nvPr/>
              </p:nvGrpSpPr>
              <p:grpSpPr>
                <a:xfrm>
                  <a:off x="7431480" y="2248560"/>
                  <a:ext cx="104040" cy="77400"/>
                  <a:chOff x="7431480" y="2248560"/>
                  <a:chExt cx="104040" cy="77400"/>
                </a:xfrm>
              </p:grpSpPr>
              <p:sp>
                <p:nvSpPr>
                  <p:cNvPr id="1174" name=""/>
                  <p:cNvSpPr/>
                  <p:nvPr/>
                </p:nvSpPr>
                <p:spPr>
                  <a:xfrm>
                    <a:off x="7511760" y="2312640"/>
                    <a:ext cx="23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61">
                        <a:moveTo>
                          <a:pt x="64" y="4"/>
                        </a:moveTo>
                        <a:lnTo>
                          <a:pt x="65" y="20"/>
                        </a:lnTo>
                        <a:lnTo>
                          <a:pt x="67" y="33"/>
                        </a:lnTo>
                        <a:lnTo>
                          <a:pt x="74" y="46"/>
                        </a:lnTo>
                        <a:lnTo>
                          <a:pt x="82" y="60"/>
                        </a:lnTo>
                        <a:lnTo>
                          <a:pt x="15" y="55"/>
                        </a:lnTo>
                        <a:lnTo>
                          <a:pt x="7" y="48"/>
                        </a:lnTo>
                        <a:lnTo>
                          <a:pt x="4" y="35"/>
                        </a:lnTo>
                        <a:lnTo>
                          <a:pt x="0" y="21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64" y="4"/>
                        </a:lnTo>
                      </a:path>
                    </a:pathLst>
                  </a:custGeom>
                  <a:solidFill>
                    <a:srgbClr val="ffa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7431480" y="2308680"/>
                    <a:ext cx="162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9">
                        <a:moveTo>
                          <a:pt x="46" y="3"/>
                        </a:moveTo>
                        <a:lnTo>
                          <a:pt x="46" y="12"/>
                        </a:lnTo>
                        <a:lnTo>
                          <a:pt x="46" y="22"/>
                        </a:lnTo>
                        <a:lnTo>
                          <a:pt x="50" y="36"/>
                        </a:lnTo>
                        <a:lnTo>
                          <a:pt x="56" y="48"/>
                        </a:lnTo>
                        <a:lnTo>
                          <a:pt x="11" y="45"/>
                        </a:lnTo>
                        <a:lnTo>
                          <a:pt x="4" y="36"/>
                        </a:lnTo>
                        <a:lnTo>
                          <a:pt x="1" y="27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46" y="3"/>
                        </a:lnTo>
                      </a:path>
                    </a:pathLst>
                  </a:custGeom>
                  <a:solidFill>
                    <a:srgbClr val="ffa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7486560" y="2248560"/>
                    <a:ext cx="11160" cy="756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7" name=""/>
              <p:cNvGrpSpPr/>
              <p:nvPr/>
            </p:nvGrpSpPr>
            <p:grpSpPr>
              <a:xfrm>
                <a:off x="7806600" y="2194920"/>
                <a:ext cx="47160" cy="51480"/>
                <a:chOff x="7806600" y="2194920"/>
                <a:chExt cx="47160" cy="51480"/>
              </a:xfrm>
            </p:grpSpPr>
            <p:sp>
              <p:nvSpPr>
                <p:cNvPr id="1178" name=""/>
                <p:cNvSpPr/>
                <p:nvPr/>
              </p:nvSpPr>
              <p:spPr>
                <a:xfrm>
                  <a:off x="7806600" y="2194920"/>
                  <a:ext cx="47160" cy="51480"/>
                </a:xfrm>
                <a:custGeom>
                  <a:avLst/>
                  <a:gdLst/>
                  <a:ahLst/>
                  <a:rect l="l" t="t" r="r" b="b"/>
                  <a:pathLst>
                    <a:path w="164" h="236">
                      <a:moveTo>
                        <a:pt x="61" y="0"/>
                      </a:moveTo>
                      <a:lnTo>
                        <a:pt x="77" y="28"/>
                      </a:lnTo>
                      <a:lnTo>
                        <a:pt x="93" y="58"/>
                      </a:lnTo>
                      <a:lnTo>
                        <a:pt x="107" y="86"/>
                      </a:lnTo>
                      <a:lnTo>
                        <a:pt x="123" y="116"/>
                      </a:lnTo>
                      <a:lnTo>
                        <a:pt x="136" y="144"/>
                      </a:lnTo>
                      <a:lnTo>
                        <a:pt x="143" y="159"/>
                      </a:lnTo>
                      <a:lnTo>
                        <a:pt x="149" y="178"/>
                      </a:lnTo>
                      <a:lnTo>
                        <a:pt x="158" y="209"/>
                      </a:lnTo>
                      <a:lnTo>
                        <a:pt x="163" y="235"/>
                      </a:lnTo>
                      <a:lnTo>
                        <a:pt x="124" y="234"/>
                      </a:lnTo>
                      <a:lnTo>
                        <a:pt x="93" y="233"/>
                      </a:lnTo>
                      <a:lnTo>
                        <a:pt x="87" y="202"/>
                      </a:lnTo>
                      <a:lnTo>
                        <a:pt x="76" y="166"/>
                      </a:lnTo>
                      <a:lnTo>
                        <a:pt x="66" y="140"/>
                      </a:lnTo>
                      <a:lnTo>
                        <a:pt x="52" y="107"/>
                      </a:lnTo>
                      <a:lnTo>
                        <a:pt x="34" y="67"/>
                      </a:lnTo>
                      <a:lnTo>
                        <a:pt x="0" y="0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7825680" y="2197800"/>
                  <a:ext cx="20160" cy="46440"/>
                </a:xfrm>
                <a:custGeom>
                  <a:avLst/>
                  <a:gdLst/>
                  <a:ahLst/>
                  <a:rect l="l" t="t" r="r" b="b"/>
                  <a:pathLst>
                    <a:path w="70" h="213">
                      <a:moveTo>
                        <a:pt x="0" y="0"/>
                      </a:moveTo>
                      <a:lnTo>
                        <a:pt x="18" y="37"/>
                      </a:lnTo>
                      <a:lnTo>
                        <a:pt x="29" y="62"/>
                      </a:lnTo>
                      <a:lnTo>
                        <a:pt x="41" y="92"/>
                      </a:lnTo>
                      <a:lnTo>
                        <a:pt x="50" y="110"/>
                      </a:lnTo>
                      <a:lnTo>
                        <a:pt x="57" y="129"/>
                      </a:lnTo>
                      <a:lnTo>
                        <a:pt x="63" y="146"/>
                      </a:lnTo>
                      <a:lnTo>
                        <a:pt x="67" y="163"/>
                      </a:lnTo>
                      <a:lnTo>
                        <a:pt x="68" y="178"/>
                      </a:lnTo>
                      <a:lnTo>
                        <a:pt x="69" y="197"/>
                      </a:lnTo>
                      <a:lnTo>
                        <a:pt x="68" y="212"/>
                      </a:lnTo>
                      <a:lnTo>
                        <a:pt x="58" y="211"/>
                      </a:lnTo>
                      <a:lnTo>
                        <a:pt x="63" y="192"/>
                      </a:lnTo>
                      <a:lnTo>
                        <a:pt x="63" y="178"/>
                      </a:lnTo>
                      <a:lnTo>
                        <a:pt x="61" y="158"/>
                      </a:lnTo>
                      <a:lnTo>
                        <a:pt x="56" y="138"/>
                      </a:lnTo>
                      <a:lnTo>
                        <a:pt x="50" y="117"/>
                      </a:lnTo>
                      <a:lnTo>
                        <a:pt x="25" y="59"/>
                      </a:lnTo>
                      <a:lnTo>
                        <a:pt x="4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0" name=""/>
              <p:cNvGrpSpPr/>
              <p:nvPr/>
            </p:nvGrpSpPr>
            <p:grpSpPr>
              <a:xfrm>
                <a:off x="7853040" y="2233800"/>
                <a:ext cx="160920" cy="33840"/>
                <a:chOff x="7853040" y="2233800"/>
                <a:chExt cx="160920" cy="33840"/>
              </a:xfrm>
            </p:grpSpPr>
            <p:grpSp>
              <p:nvGrpSpPr>
                <p:cNvPr id="1181" name=""/>
                <p:cNvGrpSpPr/>
                <p:nvPr/>
              </p:nvGrpSpPr>
              <p:grpSpPr>
                <a:xfrm>
                  <a:off x="7853040" y="2263680"/>
                  <a:ext cx="15840" cy="3960"/>
                  <a:chOff x="7853040" y="2263680"/>
                  <a:chExt cx="15840" cy="3960"/>
                </a:xfrm>
              </p:grpSpPr>
              <p:sp>
                <p:nvSpPr>
                  <p:cNvPr id="1182" name=""/>
                  <p:cNvSpPr/>
                  <p:nvPr/>
                </p:nvSpPr>
                <p:spPr>
                  <a:xfrm>
                    <a:off x="7853040" y="2263680"/>
                    <a:ext cx="158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7">
                        <a:moveTo>
                          <a:pt x="52" y="1"/>
                        </a:moveTo>
                        <a:lnTo>
                          <a:pt x="54" y="9"/>
                        </a:lnTo>
                        <a:lnTo>
                          <a:pt x="54" y="16"/>
                        </a:lnTo>
                        <a:lnTo>
                          <a:pt x="0" y="16"/>
                        </a:lnTo>
                        <a:lnTo>
                          <a:pt x="1" y="6"/>
                        </a:lnTo>
                        <a:lnTo>
                          <a:pt x="0" y="0"/>
                        </a:lnTo>
                        <a:lnTo>
                          <a:pt x="52" y="1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7853040" y="2264040"/>
                    <a:ext cx="158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7">
                        <a:moveTo>
                          <a:pt x="54" y="0"/>
                        </a:moveTo>
                        <a:lnTo>
                          <a:pt x="54" y="5"/>
                        </a:lnTo>
                        <a:lnTo>
                          <a:pt x="54" y="16"/>
                        </a:lnTo>
                        <a:lnTo>
                          <a:pt x="0" y="16"/>
                        </a:lnTo>
                        <a:lnTo>
                          <a:pt x="1" y="5"/>
                        </a:lnTo>
                        <a:lnTo>
                          <a:pt x="0" y="0"/>
                        </a:lnTo>
                        <a:lnTo>
                          <a:pt x="54" y="0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4" name=""/>
                <p:cNvGrpSpPr/>
                <p:nvPr/>
              </p:nvGrpSpPr>
              <p:grpSpPr>
                <a:xfrm>
                  <a:off x="7983360" y="2233800"/>
                  <a:ext cx="30600" cy="20880"/>
                  <a:chOff x="7983360" y="2233800"/>
                  <a:chExt cx="30600" cy="2088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>
                    <a:off x="7983360" y="2233800"/>
                    <a:ext cx="306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96">
                        <a:moveTo>
                          <a:pt x="96" y="41"/>
                        </a:moveTo>
                        <a:lnTo>
                          <a:pt x="68" y="13"/>
                        </a:lnTo>
                        <a:lnTo>
                          <a:pt x="60" y="8"/>
                        </a:lnTo>
                        <a:lnTo>
                          <a:pt x="48" y="4"/>
                        </a:lnTo>
                        <a:lnTo>
                          <a:pt x="15" y="0"/>
                        </a:lnTo>
                        <a:lnTo>
                          <a:pt x="5" y="1"/>
                        </a:lnTo>
                        <a:lnTo>
                          <a:pt x="0" y="76"/>
                        </a:lnTo>
                        <a:lnTo>
                          <a:pt x="10" y="87"/>
                        </a:lnTo>
                        <a:lnTo>
                          <a:pt x="25" y="93"/>
                        </a:lnTo>
                        <a:lnTo>
                          <a:pt x="52" y="95"/>
                        </a:lnTo>
                        <a:lnTo>
                          <a:pt x="72" y="88"/>
                        </a:lnTo>
                        <a:lnTo>
                          <a:pt x="102" y="60"/>
                        </a:lnTo>
                        <a:lnTo>
                          <a:pt x="105" y="52"/>
                        </a:lnTo>
                        <a:lnTo>
                          <a:pt x="96" y="4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7983360" y="2244960"/>
                    <a:ext cx="30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44">
                        <a:moveTo>
                          <a:pt x="105" y="0"/>
                        </a:moveTo>
                        <a:lnTo>
                          <a:pt x="83" y="7"/>
                        </a:lnTo>
                        <a:lnTo>
                          <a:pt x="62" y="14"/>
                        </a:lnTo>
                        <a:lnTo>
                          <a:pt x="46" y="14"/>
                        </a:lnTo>
                        <a:lnTo>
                          <a:pt x="24" y="17"/>
                        </a:lnTo>
                        <a:lnTo>
                          <a:pt x="8" y="12"/>
                        </a:lnTo>
                        <a:lnTo>
                          <a:pt x="3" y="1"/>
                        </a:lnTo>
                        <a:lnTo>
                          <a:pt x="0" y="25"/>
                        </a:lnTo>
                        <a:lnTo>
                          <a:pt x="8" y="35"/>
                        </a:lnTo>
                        <a:lnTo>
                          <a:pt x="25" y="41"/>
                        </a:lnTo>
                        <a:lnTo>
                          <a:pt x="51" y="43"/>
                        </a:lnTo>
                        <a:lnTo>
                          <a:pt x="73" y="36"/>
                        </a:lnTo>
                        <a:lnTo>
                          <a:pt x="99" y="13"/>
                        </a:lnTo>
                        <a:lnTo>
                          <a:pt x="103" y="8"/>
                        </a:lnTo>
                        <a:lnTo>
                          <a:pt x="105" y="0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187" name="" descr=""/>
          <p:cNvPicPr/>
          <p:nvPr/>
        </p:nvPicPr>
        <p:blipFill>
          <a:blip r:embed="rId10"/>
          <a:stretch/>
        </p:blipFill>
        <p:spPr>
          <a:xfrm>
            <a:off x="7577280" y="2530440"/>
            <a:ext cx="622080" cy="376200"/>
          </a:xfrm>
          <a:prstGeom prst="rect">
            <a:avLst/>
          </a:prstGeom>
          <a:ln w="0">
            <a:noFill/>
          </a:ln>
        </p:spPr>
      </p:pic>
      <p:grpSp>
        <p:nvGrpSpPr>
          <p:cNvPr id="1188" name=""/>
          <p:cNvGrpSpPr/>
          <p:nvPr/>
        </p:nvGrpSpPr>
        <p:grpSpPr>
          <a:xfrm>
            <a:off x="8370720" y="2181240"/>
            <a:ext cx="773280" cy="186840"/>
            <a:chOff x="8370720" y="2181240"/>
            <a:chExt cx="773280" cy="186840"/>
          </a:xfrm>
        </p:grpSpPr>
        <p:grpSp>
          <p:nvGrpSpPr>
            <p:cNvPr id="1189" name=""/>
            <p:cNvGrpSpPr/>
            <p:nvPr/>
          </p:nvGrpSpPr>
          <p:grpSpPr>
            <a:xfrm>
              <a:off x="8465040" y="2256840"/>
              <a:ext cx="640440" cy="111240"/>
              <a:chOff x="8465040" y="2256840"/>
              <a:chExt cx="640440" cy="111240"/>
            </a:xfrm>
          </p:grpSpPr>
          <p:grpSp>
            <p:nvGrpSpPr>
              <p:cNvPr id="1190" name=""/>
              <p:cNvGrpSpPr/>
              <p:nvPr/>
            </p:nvGrpSpPr>
            <p:grpSpPr>
              <a:xfrm>
                <a:off x="8633520" y="2256840"/>
                <a:ext cx="471960" cy="71280"/>
                <a:chOff x="8633520" y="2256840"/>
                <a:chExt cx="471960" cy="7128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9019800" y="2256840"/>
                  <a:ext cx="85680" cy="63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8633520" y="2265120"/>
                  <a:ext cx="145440" cy="63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8465040" y="2258640"/>
                <a:ext cx="636840" cy="109440"/>
                <a:chOff x="8465040" y="2258640"/>
                <a:chExt cx="636840" cy="109440"/>
              </a:xfrm>
            </p:grpSpPr>
            <p:grpSp>
              <p:nvGrpSpPr>
                <p:cNvPr id="1194" name=""/>
                <p:cNvGrpSpPr/>
                <p:nvPr/>
              </p:nvGrpSpPr>
              <p:grpSpPr>
                <a:xfrm>
                  <a:off x="8639280" y="2258640"/>
                  <a:ext cx="462600" cy="109440"/>
                  <a:chOff x="8639280" y="2258640"/>
                  <a:chExt cx="462600" cy="109440"/>
                </a:xfrm>
              </p:grpSpPr>
              <p:grpSp>
                <p:nvGrpSpPr>
                  <p:cNvPr id="1195" name=""/>
                  <p:cNvGrpSpPr/>
                  <p:nvPr/>
                </p:nvGrpSpPr>
                <p:grpSpPr>
                  <a:xfrm>
                    <a:off x="8639280" y="2258640"/>
                    <a:ext cx="133560" cy="109440"/>
                    <a:chOff x="8639280" y="2258640"/>
                    <a:chExt cx="133560" cy="109440"/>
                  </a:xfrm>
                </p:grpSpPr>
                <p:grpSp>
                  <p:nvGrpSpPr>
                    <p:cNvPr id="1196" name=""/>
                    <p:cNvGrpSpPr/>
                    <p:nvPr/>
                  </p:nvGrpSpPr>
                  <p:grpSpPr>
                    <a:xfrm>
                      <a:off x="8639280" y="2258640"/>
                      <a:ext cx="133560" cy="109440"/>
                      <a:chOff x="8639280" y="2258640"/>
                      <a:chExt cx="133560" cy="109440"/>
                    </a:xfrm>
                  </p:grpSpPr>
                  <p:sp>
                    <p:nvSpPr>
                      <p:cNvPr id="1197" name=""/>
                      <p:cNvSpPr/>
                      <p:nvPr/>
                    </p:nvSpPr>
                    <p:spPr>
                      <a:xfrm>
                        <a:off x="8654400" y="2275920"/>
                        <a:ext cx="102960" cy="918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360" bIns="18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8" name=""/>
                      <p:cNvSpPr/>
                      <p:nvPr/>
                    </p:nvSpPr>
                    <p:spPr>
                      <a:xfrm>
                        <a:off x="8640720" y="2258640"/>
                        <a:ext cx="113400" cy="10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2559" y="21456"/>
                            </a:moveTo>
                            <a:arcTo wR="10800" hR="10800" stAng="4837647" swAng="598963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2559" y="21456"/>
                            </a:moveTo>
                            <a:arcTo wR="10800" hR="10800" stAng="4837647" swAng="5989635"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9" name=""/>
                      <p:cNvSpPr/>
                      <p:nvPr/>
                    </p:nvSpPr>
                    <p:spPr>
                      <a:xfrm>
                        <a:off x="8639280" y="2275920"/>
                        <a:ext cx="133560" cy="7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740"/>
                            </a:moveTo>
                            <a:arcTo wR="10800" hR="10800" stAng="-10780795" swAng="536597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740"/>
                            </a:moveTo>
                            <a:arcTo wR="10800" hR="10800" stAng="-10780795" swAng="5365977"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1320" bIns="313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00" name=""/>
                    <p:cNvGrpSpPr/>
                    <p:nvPr/>
                  </p:nvGrpSpPr>
                  <p:grpSpPr>
                    <a:xfrm>
                      <a:off x="8678160" y="2293920"/>
                      <a:ext cx="58320" cy="55080"/>
                      <a:chOff x="8678160" y="2293920"/>
                      <a:chExt cx="58320" cy="55080"/>
                    </a:xfrm>
                  </p:grpSpPr>
                  <p:sp>
                    <p:nvSpPr>
                      <p:cNvPr id="1201" name=""/>
                      <p:cNvSpPr/>
                      <p:nvPr/>
                    </p:nvSpPr>
                    <p:spPr>
                      <a:xfrm>
                        <a:off x="8678160" y="2293920"/>
                        <a:ext cx="58320" cy="550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255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7560" bIns="-7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02" name=""/>
                      <p:cNvGrpSpPr/>
                      <p:nvPr/>
                    </p:nvGrpSpPr>
                    <p:grpSpPr>
                      <a:xfrm>
                        <a:off x="8678880" y="2294640"/>
                        <a:ext cx="56520" cy="52560"/>
                        <a:chOff x="8678880" y="2294640"/>
                        <a:chExt cx="56520" cy="52560"/>
                      </a:xfrm>
                    </p:grpSpPr>
                    <p:sp>
                      <p:nvSpPr>
                        <p:cNvPr id="1203" name=""/>
                        <p:cNvSpPr/>
                        <p:nvPr/>
                      </p:nvSpPr>
                      <p:spPr>
                        <a:xfrm>
                          <a:off x="8678880" y="2294640"/>
                          <a:ext cx="56520" cy="52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5" h="240">
                              <a:moveTo>
                                <a:pt x="122" y="2"/>
                              </a:moveTo>
                              <a:lnTo>
                                <a:pt x="128" y="96"/>
                              </a:lnTo>
                              <a:lnTo>
                                <a:pt x="190" y="85"/>
                              </a:lnTo>
                              <a:lnTo>
                                <a:pt x="193" y="99"/>
                              </a:lnTo>
                              <a:lnTo>
                                <a:pt x="194" y="112"/>
                              </a:lnTo>
                              <a:lnTo>
                                <a:pt x="142" y="143"/>
                              </a:lnTo>
                              <a:lnTo>
                                <a:pt x="162" y="220"/>
                              </a:lnTo>
                              <a:lnTo>
                                <a:pt x="150" y="230"/>
                              </a:lnTo>
                              <a:lnTo>
                                <a:pt x="142" y="239"/>
                              </a:lnTo>
                              <a:lnTo>
                                <a:pt x="107" y="159"/>
                              </a:lnTo>
                              <a:lnTo>
                                <a:pt x="48" y="236"/>
                              </a:lnTo>
                              <a:lnTo>
                                <a:pt x="36" y="227"/>
                              </a:lnTo>
                              <a:lnTo>
                                <a:pt x="26" y="214"/>
                              </a:lnTo>
                              <a:lnTo>
                                <a:pt x="73" y="140"/>
                              </a:lnTo>
                              <a:lnTo>
                                <a:pt x="0" y="93"/>
                              </a:lnTo>
                              <a:lnTo>
                                <a:pt x="7" y="70"/>
                              </a:lnTo>
                              <a:lnTo>
                                <a:pt x="14" y="65"/>
                              </a:lnTo>
                              <a:lnTo>
                                <a:pt x="83" y="94"/>
                              </a:lnTo>
                              <a:lnTo>
                                <a:pt x="94" y="0"/>
                              </a:lnTo>
                              <a:lnTo>
                                <a:pt x="122" y="2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cap="rnd" w="255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204" name=""/>
                        <p:cNvGrpSpPr/>
                        <p:nvPr/>
                      </p:nvGrpSpPr>
                      <p:grpSpPr>
                        <a:xfrm>
                          <a:off x="8715600" y="2317680"/>
                          <a:ext cx="4320" cy="3240"/>
                          <a:chOff x="8715600" y="2317680"/>
                          <a:chExt cx="4320" cy="3240"/>
                        </a:xfrm>
                      </p:grpSpPr>
                      <p:sp>
                        <p:nvSpPr>
                          <p:cNvPr id="1205" name=""/>
                          <p:cNvSpPr/>
                          <p:nvPr/>
                        </p:nvSpPr>
                        <p:spPr>
                          <a:xfrm>
                            <a:off x="8715600" y="231768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6" name=""/>
                          <p:cNvSpPr/>
                          <p:nvPr/>
                        </p:nvSpPr>
                        <p:spPr>
                          <a:xfrm>
                            <a:off x="8717040" y="231876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07" name=""/>
                        <p:cNvGrpSpPr/>
                        <p:nvPr/>
                      </p:nvGrpSpPr>
                      <p:grpSpPr>
                        <a:xfrm>
                          <a:off x="8699040" y="2317320"/>
                          <a:ext cx="4320" cy="3240"/>
                          <a:chOff x="8699040" y="2317320"/>
                          <a:chExt cx="4320" cy="3240"/>
                        </a:xfrm>
                      </p:grpSpPr>
                      <p:sp>
                        <p:nvSpPr>
                          <p:cNvPr id="1208" name=""/>
                          <p:cNvSpPr/>
                          <p:nvPr/>
                        </p:nvSpPr>
                        <p:spPr>
                          <a:xfrm>
                            <a:off x="8699040" y="231732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9" name=""/>
                          <p:cNvSpPr/>
                          <p:nvPr/>
                        </p:nvSpPr>
                        <p:spPr>
                          <a:xfrm>
                            <a:off x="8700120" y="2318400"/>
                            <a:ext cx="180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10" name=""/>
                        <p:cNvGrpSpPr/>
                        <p:nvPr/>
                      </p:nvGrpSpPr>
                      <p:grpSpPr>
                        <a:xfrm>
                          <a:off x="8708400" y="2312640"/>
                          <a:ext cx="4320" cy="3240"/>
                          <a:chOff x="8708400" y="2312640"/>
                          <a:chExt cx="4320" cy="3240"/>
                        </a:xfrm>
                      </p:grpSpPr>
                      <p:sp>
                        <p:nvSpPr>
                          <p:cNvPr id="1211" name=""/>
                          <p:cNvSpPr/>
                          <p:nvPr/>
                        </p:nvSpPr>
                        <p:spPr>
                          <a:xfrm>
                            <a:off x="8708400" y="231264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12" name=""/>
                          <p:cNvSpPr/>
                          <p:nvPr/>
                        </p:nvSpPr>
                        <p:spPr>
                          <a:xfrm>
                            <a:off x="8709480" y="231372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13" name=""/>
                        <p:cNvGrpSpPr/>
                        <p:nvPr/>
                      </p:nvGrpSpPr>
                      <p:grpSpPr>
                        <a:xfrm>
                          <a:off x="8701560" y="2325960"/>
                          <a:ext cx="4320" cy="3240"/>
                          <a:chOff x="8701560" y="2325960"/>
                          <a:chExt cx="4320" cy="3240"/>
                        </a:xfrm>
                      </p:grpSpPr>
                      <p:sp>
                        <p:nvSpPr>
                          <p:cNvPr id="1214" name=""/>
                          <p:cNvSpPr/>
                          <p:nvPr/>
                        </p:nvSpPr>
                        <p:spPr>
                          <a:xfrm>
                            <a:off x="8701560" y="232596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15" name=""/>
                          <p:cNvSpPr/>
                          <p:nvPr/>
                        </p:nvSpPr>
                        <p:spPr>
                          <a:xfrm>
                            <a:off x="8702640" y="232704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216" name=""/>
                        <p:cNvSpPr/>
                        <p:nvPr/>
                      </p:nvSpPr>
                      <p:spPr>
                        <a:xfrm>
                          <a:off x="8704440" y="2317680"/>
                          <a:ext cx="10080" cy="7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41760" bIns="-41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217" name=""/>
                        <p:cNvGrpSpPr/>
                        <p:nvPr/>
                      </p:nvGrpSpPr>
                      <p:grpSpPr>
                        <a:xfrm>
                          <a:off x="8713800" y="2325960"/>
                          <a:ext cx="4680" cy="3240"/>
                          <a:chOff x="8713800" y="2325960"/>
                          <a:chExt cx="4680" cy="3240"/>
                        </a:xfrm>
                      </p:grpSpPr>
                      <p:sp>
                        <p:nvSpPr>
                          <p:cNvPr id="1218" name=""/>
                          <p:cNvSpPr/>
                          <p:nvPr/>
                        </p:nvSpPr>
                        <p:spPr>
                          <a:xfrm>
                            <a:off x="8713800" y="2325960"/>
                            <a:ext cx="468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19" name=""/>
                          <p:cNvSpPr/>
                          <p:nvPr/>
                        </p:nvSpPr>
                        <p:spPr>
                          <a:xfrm>
                            <a:off x="8715600" y="232704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20" name=""/>
                        <p:cNvGrpSpPr/>
                        <p:nvPr/>
                      </p:nvGrpSpPr>
                      <p:grpSpPr>
                        <a:xfrm>
                          <a:off x="8702640" y="2317320"/>
                          <a:ext cx="20880" cy="11160"/>
                          <a:chOff x="8702640" y="2317320"/>
                          <a:chExt cx="20880" cy="11160"/>
                        </a:xfrm>
                      </p:grpSpPr>
                      <p:sp>
                        <p:nvSpPr>
                          <p:cNvPr id="1221" name=""/>
                          <p:cNvSpPr/>
                          <p:nvPr/>
                        </p:nvSpPr>
                        <p:spPr>
                          <a:xfrm flipH="1">
                            <a:off x="8706600" y="2317320"/>
                            <a:ext cx="12600" cy="25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22" name=""/>
                          <p:cNvSpPr/>
                          <p:nvPr/>
                        </p:nvSpPr>
                        <p:spPr>
                          <a:xfrm>
                            <a:off x="8704080" y="2317680"/>
                            <a:ext cx="360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23" name=""/>
                          <p:cNvSpPr/>
                          <p:nvPr/>
                        </p:nvSpPr>
                        <p:spPr>
                          <a:xfrm flipH="1" flipV="1">
                            <a:off x="8706960" y="2319120"/>
                            <a:ext cx="16560" cy="936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24" name=""/>
                          <p:cNvSpPr/>
                          <p:nvPr/>
                        </p:nvSpPr>
                        <p:spPr>
                          <a:xfrm flipV="1">
                            <a:off x="8702640" y="2319120"/>
                            <a:ext cx="1440" cy="79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25" name=""/>
                          <p:cNvSpPr/>
                          <p:nvPr/>
                        </p:nvSpPr>
                        <p:spPr>
                          <a:xfrm flipH="1">
                            <a:off x="8704800" y="2327400"/>
                            <a:ext cx="9360" cy="36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1226" name=""/>
                  <p:cNvGrpSpPr/>
                  <p:nvPr/>
                </p:nvGrpSpPr>
                <p:grpSpPr>
                  <a:xfrm>
                    <a:off x="8994960" y="2269800"/>
                    <a:ext cx="106920" cy="78840"/>
                    <a:chOff x="8994960" y="2269800"/>
                    <a:chExt cx="106920" cy="78840"/>
                  </a:xfrm>
                </p:grpSpPr>
                <p:grpSp>
                  <p:nvGrpSpPr>
                    <p:cNvPr id="1227" name=""/>
                    <p:cNvGrpSpPr/>
                    <p:nvPr/>
                  </p:nvGrpSpPr>
                  <p:grpSpPr>
                    <a:xfrm>
                      <a:off x="8994960" y="2269800"/>
                      <a:ext cx="106920" cy="78840"/>
                      <a:chOff x="8994960" y="2269800"/>
                      <a:chExt cx="106920" cy="78840"/>
                    </a:xfrm>
                  </p:grpSpPr>
                  <p:sp>
                    <p:nvSpPr>
                      <p:cNvPr id="1228" name=""/>
                      <p:cNvSpPr/>
                      <p:nvPr/>
                    </p:nvSpPr>
                    <p:spPr>
                      <a:xfrm>
                        <a:off x="9006480" y="2269800"/>
                        <a:ext cx="89280" cy="788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000" bIns="9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9" name=""/>
                      <p:cNvSpPr/>
                      <p:nvPr/>
                    </p:nvSpPr>
                    <p:spPr>
                      <a:xfrm>
                        <a:off x="8994960" y="2285280"/>
                        <a:ext cx="106920" cy="6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742" y="21600"/>
                            </a:moveTo>
                            <a:arcTo wR="10800" hR="10800" stAng="5418611" swAng="542880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742" y="21600"/>
                            </a:moveTo>
                            <a:arcTo wR="10800" hR="10800" stAng="5418611" swAng="5428803"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6560" bIns="16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30" name=""/>
                    <p:cNvGrpSpPr/>
                    <p:nvPr/>
                  </p:nvGrpSpPr>
                  <p:grpSpPr>
                    <a:xfrm>
                      <a:off x="9016200" y="2286000"/>
                      <a:ext cx="63000" cy="46800"/>
                      <a:chOff x="9016200" y="2286000"/>
                      <a:chExt cx="63000" cy="46800"/>
                    </a:xfrm>
                  </p:grpSpPr>
                  <p:sp>
                    <p:nvSpPr>
                      <p:cNvPr id="1231" name=""/>
                      <p:cNvSpPr/>
                      <p:nvPr/>
                    </p:nvSpPr>
                    <p:spPr>
                      <a:xfrm>
                        <a:off x="9018000" y="2286000"/>
                        <a:ext cx="60840" cy="468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255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2" name=""/>
                      <p:cNvSpPr/>
                      <p:nvPr/>
                    </p:nvSpPr>
                    <p:spPr>
                      <a:xfrm>
                        <a:off x="9016200" y="2286000"/>
                        <a:ext cx="63000" cy="46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212">
                            <a:moveTo>
                              <a:pt x="133" y="0"/>
                            </a:moveTo>
                            <a:lnTo>
                              <a:pt x="134" y="90"/>
                            </a:lnTo>
                            <a:lnTo>
                              <a:pt x="210" y="76"/>
                            </a:lnTo>
                            <a:lnTo>
                              <a:pt x="216" y="86"/>
                            </a:lnTo>
                            <a:lnTo>
                              <a:pt x="217" y="102"/>
                            </a:lnTo>
                            <a:lnTo>
                              <a:pt x="143" y="128"/>
                            </a:lnTo>
                            <a:lnTo>
                              <a:pt x="179" y="195"/>
                            </a:lnTo>
                            <a:lnTo>
                              <a:pt x="165" y="206"/>
                            </a:lnTo>
                            <a:lnTo>
                              <a:pt x="151" y="211"/>
                            </a:lnTo>
                            <a:lnTo>
                              <a:pt x="110" y="156"/>
                            </a:lnTo>
                            <a:lnTo>
                              <a:pt x="58" y="207"/>
                            </a:lnTo>
                            <a:lnTo>
                              <a:pt x="44" y="200"/>
                            </a:lnTo>
                            <a:lnTo>
                              <a:pt x="33" y="187"/>
                            </a:lnTo>
                            <a:lnTo>
                              <a:pt x="82" y="125"/>
                            </a:lnTo>
                            <a:lnTo>
                              <a:pt x="13" y="90"/>
                            </a:lnTo>
                            <a:lnTo>
                              <a:pt x="0" y="86"/>
                            </a:lnTo>
                            <a:lnTo>
                              <a:pt x="6" y="68"/>
                            </a:lnTo>
                            <a:lnTo>
                              <a:pt x="10" y="62"/>
                            </a:lnTo>
                            <a:lnTo>
                              <a:pt x="100" y="90"/>
                            </a:lnTo>
                            <a:lnTo>
                              <a:pt x="103" y="0"/>
                            </a:lnTo>
                            <a:lnTo>
                              <a:pt x="119" y="0"/>
                            </a:lnTo>
                            <a:lnTo>
                              <a:pt x="133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255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" bIns="-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33" name=""/>
                      <p:cNvGrpSpPr/>
                      <p:nvPr/>
                    </p:nvGrpSpPr>
                    <p:grpSpPr>
                      <a:xfrm>
                        <a:off x="9039240" y="2301840"/>
                        <a:ext cx="20880" cy="16920"/>
                        <a:chOff x="9039240" y="2301840"/>
                        <a:chExt cx="20880" cy="16920"/>
                      </a:xfrm>
                    </p:grpSpPr>
                    <p:grpSp>
                      <p:nvGrpSpPr>
                        <p:cNvPr id="1234" name=""/>
                        <p:cNvGrpSpPr/>
                        <p:nvPr/>
                      </p:nvGrpSpPr>
                      <p:grpSpPr>
                        <a:xfrm>
                          <a:off x="9055800" y="2306880"/>
                          <a:ext cx="4320" cy="3240"/>
                          <a:chOff x="9055800" y="2306880"/>
                          <a:chExt cx="4320" cy="3240"/>
                        </a:xfrm>
                      </p:grpSpPr>
                      <p:sp>
                        <p:nvSpPr>
                          <p:cNvPr id="1235" name=""/>
                          <p:cNvSpPr/>
                          <p:nvPr/>
                        </p:nvSpPr>
                        <p:spPr>
                          <a:xfrm>
                            <a:off x="9055800" y="230688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36" name=""/>
                          <p:cNvSpPr/>
                          <p:nvPr/>
                        </p:nvSpPr>
                        <p:spPr>
                          <a:xfrm>
                            <a:off x="9057240" y="230796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37" name=""/>
                        <p:cNvGrpSpPr/>
                        <p:nvPr/>
                      </p:nvGrpSpPr>
                      <p:grpSpPr>
                        <a:xfrm>
                          <a:off x="9039240" y="2306520"/>
                          <a:ext cx="4320" cy="3240"/>
                          <a:chOff x="9039240" y="2306520"/>
                          <a:chExt cx="4320" cy="3240"/>
                        </a:xfrm>
                      </p:grpSpPr>
                      <p:sp>
                        <p:nvSpPr>
                          <p:cNvPr id="1238" name=""/>
                          <p:cNvSpPr/>
                          <p:nvPr/>
                        </p:nvSpPr>
                        <p:spPr>
                          <a:xfrm>
                            <a:off x="9039240" y="230652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39" name=""/>
                          <p:cNvSpPr/>
                          <p:nvPr/>
                        </p:nvSpPr>
                        <p:spPr>
                          <a:xfrm>
                            <a:off x="9040680" y="230760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40" name=""/>
                        <p:cNvGrpSpPr/>
                        <p:nvPr/>
                      </p:nvGrpSpPr>
                      <p:grpSpPr>
                        <a:xfrm>
                          <a:off x="9048240" y="2301840"/>
                          <a:ext cx="4680" cy="3240"/>
                          <a:chOff x="9048240" y="2301840"/>
                          <a:chExt cx="4680" cy="3240"/>
                        </a:xfrm>
                      </p:grpSpPr>
                      <p:sp>
                        <p:nvSpPr>
                          <p:cNvPr id="1241" name=""/>
                          <p:cNvSpPr/>
                          <p:nvPr/>
                        </p:nvSpPr>
                        <p:spPr>
                          <a:xfrm>
                            <a:off x="9048240" y="2301840"/>
                            <a:ext cx="468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42" name=""/>
                          <p:cNvSpPr/>
                          <p:nvPr/>
                        </p:nvSpPr>
                        <p:spPr>
                          <a:xfrm>
                            <a:off x="9050040" y="230292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43" name=""/>
                        <p:cNvGrpSpPr/>
                        <p:nvPr/>
                      </p:nvGrpSpPr>
                      <p:grpSpPr>
                        <a:xfrm>
                          <a:off x="9041400" y="2315160"/>
                          <a:ext cx="4680" cy="3240"/>
                          <a:chOff x="9041400" y="2315160"/>
                          <a:chExt cx="4680" cy="3240"/>
                        </a:xfrm>
                      </p:grpSpPr>
                      <p:sp>
                        <p:nvSpPr>
                          <p:cNvPr id="1244" name=""/>
                          <p:cNvSpPr/>
                          <p:nvPr/>
                        </p:nvSpPr>
                        <p:spPr>
                          <a:xfrm>
                            <a:off x="9041400" y="2315160"/>
                            <a:ext cx="468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45" name=""/>
                          <p:cNvSpPr/>
                          <p:nvPr/>
                        </p:nvSpPr>
                        <p:spPr>
                          <a:xfrm>
                            <a:off x="9043200" y="231624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46" name=""/>
                        <p:cNvGrpSpPr/>
                        <p:nvPr/>
                      </p:nvGrpSpPr>
                      <p:grpSpPr>
                        <a:xfrm>
                          <a:off x="9052200" y="2315520"/>
                          <a:ext cx="4680" cy="3240"/>
                          <a:chOff x="9052200" y="2315520"/>
                          <a:chExt cx="4680" cy="3240"/>
                        </a:xfrm>
                      </p:grpSpPr>
                      <p:sp>
                        <p:nvSpPr>
                          <p:cNvPr id="1247" name=""/>
                          <p:cNvSpPr/>
                          <p:nvPr/>
                        </p:nvSpPr>
                        <p:spPr>
                          <a:xfrm>
                            <a:off x="9052200" y="2315520"/>
                            <a:ext cx="468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48" name=""/>
                          <p:cNvSpPr/>
                          <p:nvPr/>
                        </p:nvSpPr>
                        <p:spPr>
                          <a:xfrm>
                            <a:off x="9053640" y="231660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249" name=""/>
                      <p:cNvGrpSpPr/>
                      <p:nvPr/>
                    </p:nvGrpSpPr>
                    <p:grpSpPr>
                      <a:xfrm>
                        <a:off x="9042480" y="2306880"/>
                        <a:ext cx="17640" cy="11520"/>
                        <a:chOff x="9042480" y="2306880"/>
                        <a:chExt cx="17640" cy="11520"/>
                      </a:xfrm>
                    </p:grpSpPr>
                    <p:grpSp>
                      <p:nvGrpSpPr>
                        <p:cNvPr id="1250" name=""/>
                        <p:cNvGrpSpPr/>
                        <p:nvPr/>
                      </p:nvGrpSpPr>
                      <p:grpSpPr>
                        <a:xfrm>
                          <a:off x="9042480" y="2306880"/>
                          <a:ext cx="17640" cy="10800"/>
                          <a:chOff x="9042480" y="2306880"/>
                          <a:chExt cx="17640" cy="10800"/>
                        </a:xfrm>
                      </p:grpSpPr>
                      <p:sp>
                        <p:nvSpPr>
                          <p:cNvPr id="1251" name=""/>
                          <p:cNvSpPr/>
                          <p:nvPr/>
                        </p:nvSpPr>
                        <p:spPr>
                          <a:xfrm>
                            <a:off x="9045000" y="2307240"/>
                            <a:ext cx="9720" cy="756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1400" bIns="-414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52" name=""/>
                          <p:cNvSpPr/>
                          <p:nvPr/>
                        </p:nvSpPr>
                        <p:spPr>
                          <a:xfrm flipH="1">
                            <a:off x="9046800" y="2306880"/>
                            <a:ext cx="12600" cy="25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53" name=""/>
                          <p:cNvSpPr/>
                          <p:nvPr/>
                        </p:nvSpPr>
                        <p:spPr>
                          <a:xfrm>
                            <a:off x="9044280" y="2307240"/>
                            <a:ext cx="324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54" name=""/>
                          <p:cNvSpPr/>
                          <p:nvPr/>
                        </p:nvSpPr>
                        <p:spPr>
                          <a:xfrm flipH="1" flipV="1">
                            <a:off x="9046800" y="2309040"/>
                            <a:ext cx="13320" cy="864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160" bIns="-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55" name=""/>
                          <p:cNvSpPr/>
                          <p:nvPr/>
                        </p:nvSpPr>
                        <p:spPr>
                          <a:xfrm flipV="1">
                            <a:off x="9042480" y="2308680"/>
                            <a:ext cx="1800" cy="79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256" name=""/>
                        <p:cNvSpPr/>
                        <p:nvPr/>
                      </p:nvSpPr>
                      <p:spPr>
                        <a:xfrm flipH="1">
                          <a:off x="9043560" y="2317320"/>
                          <a:ext cx="10080" cy="108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257" name=""/>
                <p:cNvGrpSpPr/>
                <p:nvPr/>
              </p:nvGrpSpPr>
              <p:grpSpPr>
                <a:xfrm>
                  <a:off x="8465040" y="2261160"/>
                  <a:ext cx="543600" cy="91800"/>
                  <a:chOff x="8465040" y="2261160"/>
                  <a:chExt cx="543600" cy="91800"/>
                </a:xfrm>
              </p:grpSpPr>
              <p:grpSp>
                <p:nvGrpSpPr>
                  <p:cNvPr id="1258" name=""/>
                  <p:cNvGrpSpPr/>
                  <p:nvPr/>
                </p:nvGrpSpPr>
                <p:grpSpPr>
                  <a:xfrm>
                    <a:off x="8465040" y="2261160"/>
                    <a:ext cx="543600" cy="91800"/>
                    <a:chOff x="8465040" y="2261160"/>
                    <a:chExt cx="543600" cy="91800"/>
                  </a:xfrm>
                </p:grpSpPr>
                <p:grpSp>
                  <p:nvGrpSpPr>
                    <p:cNvPr id="1259" name=""/>
                    <p:cNvGrpSpPr/>
                    <p:nvPr/>
                  </p:nvGrpSpPr>
                  <p:grpSpPr>
                    <a:xfrm>
                      <a:off x="8465040" y="2261160"/>
                      <a:ext cx="462960" cy="91800"/>
                      <a:chOff x="8465040" y="2261160"/>
                      <a:chExt cx="462960" cy="91800"/>
                    </a:xfrm>
                  </p:grpSpPr>
                  <p:sp>
                    <p:nvSpPr>
                      <p:cNvPr id="1260" name=""/>
                      <p:cNvSpPr/>
                      <p:nvPr/>
                    </p:nvSpPr>
                    <p:spPr>
                      <a:xfrm>
                        <a:off x="8465040" y="2261160"/>
                        <a:ext cx="102960" cy="918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360" bIns="18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1" name=""/>
                      <p:cNvSpPr/>
                      <p:nvPr/>
                    </p:nvSpPr>
                    <p:spPr>
                      <a:xfrm>
                        <a:off x="8831880" y="2286000"/>
                        <a:ext cx="96120" cy="554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7200" bIns="-7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2" name=""/>
                    <p:cNvSpPr/>
                    <p:nvPr/>
                  </p:nvSpPr>
                  <p:spPr>
                    <a:xfrm>
                      <a:off x="8902800" y="2312640"/>
                      <a:ext cx="10584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6" h="67">
                          <a:moveTo>
                            <a:pt x="353" y="60"/>
                          </a:moveTo>
                          <a:lnTo>
                            <a:pt x="0" y="66"/>
                          </a:lnTo>
                          <a:lnTo>
                            <a:pt x="0" y="0"/>
                          </a:lnTo>
                          <a:lnTo>
                            <a:pt x="365" y="16"/>
                          </a:lnTo>
                          <a:lnTo>
                            <a:pt x="353" y="6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63" name=""/>
                  <p:cNvSpPr/>
                  <p:nvPr/>
                </p:nvSpPr>
                <p:spPr>
                  <a:xfrm>
                    <a:off x="8476560" y="2315160"/>
                    <a:ext cx="1782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99">
                        <a:moveTo>
                          <a:pt x="590" y="98"/>
                        </a:moveTo>
                        <a:lnTo>
                          <a:pt x="37" y="63"/>
                        </a:lnTo>
                        <a:lnTo>
                          <a:pt x="0" y="0"/>
                        </a:lnTo>
                        <a:lnTo>
                          <a:pt x="615" y="34"/>
                        </a:lnTo>
                        <a:lnTo>
                          <a:pt x="590" y="98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64" name=""/>
            <p:cNvGrpSpPr/>
            <p:nvPr/>
          </p:nvGrpSpPr>
          <p:grpSpPr>
            <a:xfrm>
              <a:off x="8370720" y="2181240"/>
              <a:ext cx="773280" cy="156600"/>
              <a:chOff x="8370720" y="2181240"/>
              <a:chExt cx="773280" cy="156600"/>
            </a:xfrm>
          </p:grpSpPr>
          <p:grpSp>
            <p:nvGrpSpPr>
              <p:cNvPr id="1265" name=""/>
              <p:cNvGrpSpPr/>
              <p:nvPr/>
            </p:nvGrpSpPr>
            <p:grpSpPr>
              <a:xfrm>
                <a:off x="8500320" y="2184480"/>
                <a:ext cx="469080" cy="55800"/>
                <a:chOff x="8500320" y="2184480"/>
                <a:chExt cx="469080" cy="5580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8744400" y="2188080"/>
                  <a:ext cx="225000" cy="52200"/>
                </a:xfrm>
                <a:custGeom>
                  <a:avLst/>
                  <a:gdLst/>
                  <a:ahLst/>
                  <a:rect l="l" t="t" r="r" b="b"/>
                  <a:pathLst>
                    <a:path w="778" h="238">
                      <a:moveTo>
                        <a:pt x="745" y="210"/>
                      </a:moveTo>
                      <a:lnTo>
                        <a:pt x="698" y="177"/>
                      </a:lnTo>
                      <a:lnTo>
                        <a:pt x="647" y="146"/>
                      </a:lnTo>
                      <a:lnTo>
                        <a:pt x="596" y="115"/>
                      </a:lnTo>
                      <a:lnTo>
                        <a:pt x="555" y="90"/>
                      </a:lnTo>
                      <a:lnTo>
                        <a:pt x="507" y="60"/>
                      </a:lnTo>
                      <a:lnTo>
                        <a:pt x="481" y="45"/>
                      </a:lnTo>
                      <a:lnTo>
                        <a:pt x="463" y="36"/>
                      </a:lnTo>
                      <a:lnTo>
                        <a:pt x="444" y="29"/>
                      </a:lnTo>
                      <a:lnTo>
                        <a:pt x="432" y="26"/>
                      </a:lnTo>
                      <a:lnTo>
                        <a:pt x="420" y="22"/>
                      </a:lnTo>
                      <a:lnTo>
                        <a:pt x="388" y="16"/>
                      </a:lnTo>
                      <a:lnTo>
                        <a:pt x="282" y="8"/>
                      </a:lnTo>
                      <a:lnTo>
                        <a:pt x="216" y="4"/>
                      </a:lnTo>
                      <a:lnTo>
                        <a:pt x="142" y="0"/>
                      </a:lnTo>
                      <a:lnTo>
                        <a:pt x="98" y="0"/>
                      </a:lnTo>
                      <a:lnTo>
                        <a:pt x="78" y="0"/>
                      </a:lnTo>
                      <a:lnTo>
                        <a:pt x="65" y="2"/>
                      </a:lnTo>
                      <a:lnTo>
                        <a:pt x="54" y="6"/>
                      </a:lnTo>
                      <a:lnTo>
                        <a:pt x="46" y="13"/>
                      </a:lnTo>
                      <a:lnTo>
                        <a:pt x="40" y="19"/>
                      </a:lnTo>
                      <a:lnTo>
                        <a:pt x="35" y="35"/>
                      </a:lnTo>
                      <a:lnTo>
                        <a:pt x="30" y="49"/>
                      </a:lnTo>
                      <a:lnTo>
                        <a:pt x="25" y="70"/>
                      </a:lnTo>
                      <a:lnTo>
                        <a:pt x="8" y="173"/>
                      </a:lnTo>
                      <a:lnTo>
                        <a:pt x="4" y="186"/>
                      </a:lnTo>
                      <a:lnTo>
                        <a:pt x="2" y="193"/>
                      </a:lnTo>
                      <a:lnTo>
                        <a:pt x="0" y="203"/>
                      </a:lnTo>
                      <a:lnTo>
                        <a:pt x="1" y="209"/>
                      </a:lnTo>
                      <a:lnTo>
                        <a:pt x="4" y="215"/>
                      </a:lnTo>
                      <a:lnTo>
                        <a:pt x="11" y="222"/>
                      </a:lnTo>
                      <a:lnTo>
                        <a:pt x="26" y="223"/>
                      </a:lnTo>
                      <a:lnTo>
                        <a:pt x="176" y="226"/>
                      </a:lnTo>
                      <a:lnTo>
                        <a:pt x="391" y="232"/>
                      </a:lnTo>
                      <a:lnTo>
                        <a:pt x="729" y="236"/>
                      </a:lnTo>
                      <a:lnTo>
                        <a:pt x="668" y="214"/>
                      </a:lnTo>
                      <a:lnTo>
                        <a:pt x="243" y="203"/>
                      </a:lnTo>
                      <a:lnTo>
                        <a:pt x="238" y="181"/>
                      </a:lnTo>
                      <a:lnTo>
                        <a:pt x="233" y="162"/>
                      </a:lnTo>
                      <a:lnTo>
                        <a:pt x="225" y="142"/>
                      </a:lnTo>
                      <a:lnTo>
                        <a:pt x="218" y="126"/>
                      </a:lnTo>
                      <a:lnTo>
                        <a:pt x="153" y="135"/>
                      </a:lnTo>
                      <a:lnTo>
                        <a:pt x="111" y="135"/>
                      </a:lnTo>
                      <a:lnTo>
                        <a:pt x="43" y="67"/>
                      </a:lnTo>
                      <a:lnTo>
                        <a:pt x="62" y="65"/>
                      </a:lnTo>
                      <a:lnTo>
                        <a:pt x="124" y="67"/>
                      </a:lnTo>
                      <a:lnTo>
                        <a:pt x="132" y="83"/>
                      </a:lnTo>
                      <a:lnTo>
                        <a:pt x="142" y="104"/>
                      </a:lnTo>
                      <a:lnTo>
                        <a:pt x="147" y="120"/>
                      </a:lnTo>
                      <a:lnTo>
                        <a:pt x="154" y="135"/>
                      </a:lnTo>
                      <a:lnTo>
                        <a:pt x="218" y="126"/>
                      </a:lnTo>
                      <a:lnTo>
                        <a:pt x="209" y="105"/>
                      </a:lnTo>
                      <a:lnTo>
                        <a:pt x="196" y="82"/>
                      </a:lnTo>
                      <a:lnTo>
                        <a:pt x="187" y="64"/>
                      </a:lnTo>
                      <a:lnTo>
                        <a:pt x="388" y="70"/>
                      </a:lnTo>
                      <a:lnTo>
                        <a:pt x="441" y="73"/>
                      </a:lnTo>
                      <a:lnTo>
                        <a:pt x="459" y="75"/>
                      </a:lnTo>
                      <a:lnTo>
                        <a:pt x="486" y="89"/>
                      </a:lnTo>
                      <a:lnTo>
                        <a:pt x="524" y="112"/>
                      </a:lnTo>
                      <a:lnTo>
                        <a:pt x="563" y="139"/>
                      </a:lnTo>
                      <a:lnTo>
                        <a:pt x="600" y="163"/>
                      </a:lnTo>
                      <a:lnTo>
                        <a:pt x="639" y="191"/>
                      </a:lnTo>
                      <a:lnTo>
                        <a:pt x="668" y="213"/>
                      </a:lnTo>
                      <a:lnTo>
                        <a:pt x="732" y="236"/>
                      </a:lnTo>
                      <a:lnTo>
                        <a:pt x="777" y="237"/>
                      </a:lnTo>
                      <a:lnTo>
                        <a:pt x="745" y="2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8500320" y="2184480"/>
                  <a:ext cx="194760" cy="42480"/>
                </a:xfrm>
                <a:custGeom>
                  <a:avLst/>
                  <a:gdLst/>
                  <a:ahLst/>
                  <a:rect l="l" t="t" r="r" b="b"/>
                  <a:pathLst>
                    <a:path w="673" h="193">
                      <a:moveTo>
                        <a:pt x="638" y="2"/>
                      </a:moveTo>
                      <a:lnTo>
                        <a:pt x="649" y="3"/>
                      </a:lnTo>
                      <a:lnTo>
                        <a:pt x="659" y="7"/>
                      </a:lnTo>
                      <a:lnTo>
                        <a:pt x="667" y="12"/>
                      </a:lnTo>
                      <a:lnTo>
                        <a:pt x="671" y="19"/>
                      </a:lnTo>
                      <a:lnTo>
                        <a:pt x="672" y="30"/>
                      </a:lnTo>
                      <a:lnTo>
                        <a:pt x="670" y="39"/>
                      </a:lnTo>
                      <a:lnTo>
                        <a:pt x="664" y="59"/>
                      </a:lnTo>
                      <a:lnTo>
                        <a:pt x="658" y="76"/>
                      </a:lnTo>
                      <a:lnTo>
                        <a:pt x="644" y="72"/>
                      </a:lnTo>
                      <a:lnTo>
                        <a:pt x="625" y="71"/>
                      </a:lnTo>
                      <a:lnTo>
                        <a:pt x="601" y="71"/>
                      </a:lnTo>
                      <a:lnTo>
                        <a:pt x="561" y="71"/>
                      </a:lnTo>
                      <a:lnTo>
                        <a:pt x="552" y="78"/>
                      </a:lnTo>
                      <a:lnTo>
                        <a:pt x="546" y="89"/>
                      </a:lnTo>
                      <a:lnTo>
                        <a:pt x="540" y="101"/>
                      </a:lnTo>
                      <a:lnTo>
                        <a:pt x="535" y="111"/>
                      </a:lnTo>
                      <a:lnTo>
                        <a:pt x="529" y="125"/>
                      </a:lnTo>
                      <a:lnTo>
                        <a:pt x="523" y="140"/>
                      </a:lnTo>
                      <a:lnTo>
                        <a:pt x="519" y="153"/>
                      </a:lnTo>
                      <a:lnTo>
                        <a:pt x="518" y="162"/>
                      </a:lnTo>
                      <a:lnTo>
                        <a:pt x="514" y="188"/>
                      </a:lnTo>
                      <a:lnTo>
                        <a:pt x="456" y="191"/>
                      </a:lnTo>
                      <a:lnTo>
                        <a:pt x="427" y="191"/>
                      </a:lnTo>
                      <a:lnTo>
                        <a:pt x="435" y="156"/>
                      </a:lnTo>
                      <a:lnTo>
                        <a:pt x="440" y="138"/>
                      </a:lnTo>
                      <a:lnTo>
                        <a:pt x="447" y="119"/>
                      </a:lnTo>
                      <a:lnTo>
                        <a:pt x="453" y="103"/>
                      </a:lnTo>
                      <a:lnTo>
                        <a:pt x="464" y="76"/>
                      </a:lnTo>
                      <a:lnTo>
                        <a:pt x="447" y="80"/>
                      </a:lnTo>
                      <a:lnTo>
                        <a:pt x="427" y="85"/>
                      </a:lnTo>
                      <a:lnTo>
                        <a:pt x="408" y="93"/>
                      </a:lnTo>
                      <a:lnTo>
                        <a:pt x="389" y="105"/>
                      </a:lnTo>
                      <a:lnTo>
                        <a:pt x="369" y="119"/>
                      </a:lnTo>
                      <a:lnTo>
                        <a:pt x="352" y="132"/>
                      </a:lnTo>
                      <a:lnTo>
                        <a:pt x="337" y="151"/>
                      </a:lnTo>
                      <a:lnTo>
                        <a:pt x="307" y="192"/>
                      </a:lnTo>
                      <a:lnTo>
                        <a:pt x="152" y="192"/>
                      </a:lnTo>
                      <a:lnTo>
                        <a:pt x="0" y="191"/>
                      </a:lnTo>
                      <a:lnTo>
                        <a:pt x="138" y="106"/>
                      </a:lnTo>
                      <a:lnTo>
                        <a:pt x="213" y="62"/>
                      </a:lnTo>
                      <a:lnTo>
                        <a:pt x="259" y="36"/>
                      </a:lnTo>
                      <a:lnTo>
                        <a:pt x="295" y="21"/>
                      </a:lnTo>
                      <a:lnTo>
                        <a:pt x="313" y="16"/>
                      </a:lnTo>
                      <a:lnTo>
                        <a:pt x="340" y="12"/>
                      </a:lnTo>
                      <a:lnTo>
                        <a:pt x="429" y="9"/>
                      </a:lnTo>
                      <a:lnTo>
                        <a:pt x="566" y="0"/>
                      </a:lnTo>
                      <a:lnTo>
                        <a:pt x="627" y="0"/>
                      </a:lnTo>
                      <a:lnTo>
                        <a:pt x="638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8" name=""/>
              <p:cNvSpPr/>
              <p:nvPr/>
            </p:nvSpPr>
            <p:spPr>
              <a:xfrm>
                <a:off x="8370720" y="2181240"/>
                <a:ext cx="773280" cy="156600"/>
              </a:xfrm>
              <a:custGeom>
                <a:avLst/>
                <a:gdLst/>
                <a:ahLst/>
                <a:rect l="l" t="t" r="r" b="b"/>
                <a:pathLst>
                  <a:path w="2672" h="716">
                    <a:moveTo>
                      <a:pt x="2635" y="463"/>
                    </a:moveTo>
                    <a:lnTo>
                      <a:pt x="2602" y="385"/>
                    </a:lnTo>
                    <a:lnTo>
                      <a:pt x="2593" y="372"/>
                    </a:lnTo>
                    <a:lnTo>
                      <a:pt x="2578" y="359"/>
                    </a:lnTo>
                    <a:lnTo>
                      <a:pt x="2560" y="349"/>
                    </a:lnTo>
                    <a:lnTo>
                      <a:pt x="2494" y="328"/>
                    </a:lnTo>
                    <a:lnTo>
                      <a:pt x="2391" y="305"/>
                    </a:lnTo>
                    <a:lnTo>
                      <a:pt x="2279" y="282"/>
                    </a:lnTo>
                    <a:lnTo>
                      <a:pt x="2176" y="261"/>
                    </a:lnTo>
                    <a:lnTo>
                      <a:pt x="2077" y="243"/>
                    </a:lnTo>
                    <a:lnTo>
                      <a:pt x="2057" y="271"/>
                    </a:lnTo>
                    <a:lnTo>
                      <a:pt x="2025" y="277"/>
                    </a:lnTo>
                    <a:lnTo>
                      <a:pt x="1984" y="277"/>
                    </a:lnTo>
                    <a:lnTo>
                      <a:pt x="1851" y="274"/>
                    </a:lnTo>
                    <a:lnTo>
                      <a:pt x="1647" y="271"/>
                    </a:lnTo>
                    <a:lnTo>
                      <a:pt x="1379" y="264"/>
                    </a:lnTo>
                    <a:lnTo>
                      <a:pt x="1308" y="264"/>
                    </a:lnTo>
                    <a:lnTo>
                      <a:pt x="1295" y="263"/>
                    </a:lnTo>
                    <a:lnTo>
                      <a:pt x="1288" y="255"/>
                    </a:lnTo>
                    <a:lnTo>
                      <a:pt x="1285" y="247"/>
                    </a:lnTo>
                    <a:lnTo>
                      <a:pt x="1285" y="239"/>
                    </a:lnTo>
                    <a:lnTo>
                      <a:pt x="1286" y="232"/>
                    </a:lnTo>
                    <a:lnTo>
                      <a:pt x="1288" y="226"/>
                    </a:lnTo>
                    <a:lnTo>
                      <a:pt x="1290" y="216"/>
                    </a:lnTo>
                    <a:lnTo>
                      <a:pt x="1310" y="102"/>
                    </a:lnTo>
                    <a:lnTo>
                      <a:pt x="1320" y="68"/>
                    </a:lnTo>
                    <a:lnTo>
                      <a:pt x="1326" y="51"/>
                    </a:lnTo>
                    <a:lnTo>
                      <a:pt x="1337" y="40"/>
                    </a:lnTo>
                    <a:lnTo>
                      <a:pt x="1348" y="35"/>
                    </a:lnTo>
                    <a:lnTo>
                      <a:pt x="1364" y="33"/>
                    </a:lnTo>
                    <a:lnTo>
                      <a:pt x="1400" y="33"/>
                    </a:lnTo>
                    <a:lnTo>
                      <a:pt x="1493" y="36"/>
                    </a:lnTo>
                    <a:lnTo>
                      <a:pt x="1572" y="41"/>
                    </a:lnTo>
                    <a:lnTo>
                      <a:pt x="1666" y="49"/>
                    </a:lnTo>
                    <a:lnTo>
                      <a:pt x="1692" y="53"/>
                    </a:lnTo>
                    <a:lnTo>
                      <a:pt x="1714" y="57"/>
                    </a:lnTo>
                    <a:lnTo>
                      <a:pt x="1734" y="63"/>
                    </a:lnTo>
                    <a:lnTo>
                      <a:pt x="1754" y="71"/>
                    </a:lnTo>
                    <a:lnTo>
                      <a:pt x="1776" y="82"/>
                    </a:lnTo>
                    <a:lnTo>
                      <a:pt x="1865" y="138"/>
                    </a:lnTo>
                    <a:lnTo>
                      <a:pt x="2059" y="261"/>
                    </a:lnTo>
                    <a:lnTo>
                      <a:pt x="2070" y="246"/>
                    </a:lnTo>
                    <a:lnTo>
                      <a:pt x="1954" y="171"/>
                    </a:lnTo>
                    <a:lnTo>
                      <a:pt x="1882" y="126"/>
                    </a:lnTo>
                    <a:lnTo>
                      <a:pt x="1775" y="60"/>
                    </a:lnTo>
                    <a:lnTo>
                      <a:pt x="1752" y="49"/>
                    </a:lnTo>
                    <a:lnTo>
                      <a:pt x="1733" y="42"/>
                    </a:lnTo>
                    <a:lnTo>
                      <a:pt x="1715" y="37"/>
                    </a:lnTo>
                    <a:lnTo>
                      <a:pt x="1700" y="33"/>
                    </a:lnTo>
                    <a:lnTo>
                      <a:pt x="1671" y="29"/>
                    </a:lnTo>
                    <a:lnTo>
                      <a:pt x="1626" y="22"/>
                    </a:lnTo>
                    <a:lnTo>
                      <a:pt x="1482" y="7"/>
                    </a:lnTo>
                    <a:lnTo>
                      <a:pt x="1348" y="0"/>
                    </a:lnTo>
                    <a:lnTo>
                      <a:pt x="1221" y="0"/>
                    </a:lnTo>
                    <a:lnTo>
                      <a:pt x="1102" y="0"/>
                    </a:lnTo>
                    <a:lnTo>
                      <a:pt x="1030" y="1"/>
                    </a:lnTo>
                    <a:lnTo>
                      <a:pt x="920" y="8"/>
                    </a:lnTo>
                    <a:lnTo>
                      <a:pt x="850" y="13"/>
                    </a:lnTo>
                    <a:lnTo>
                      <a:pt x="820" y="16"/>
                    </a:lnTo>
                    <a:lnTo>
                      <a:pt x="794" y="21"/>
                    </a:lnTo>
                    <a:lnTo>
                      <a:pt x="772" y="26"/>
                    </a:lnTo>
                    <a:lnTo>
                      <a:pt x="754" y="33"/>
                    </a:lnTo>
                    <a:lnTo>
                      <a:pt x="777" y="29"/>
                    </a:lnTo>
                    <a:lnTo>
                      <a:pt x="800" y="29"/>
                    </a:lnTo>
                    <a:lnTo>
                      <a:pt x="829" y="26"/>
                    </a:lnTo>
                    <a:lnTo>
                      <a:pt x="878" y="23"/>
                    </a:lnTo>
                    <a:lnTo>
                      <a:pt x="943" y="19"/>
                    </a:lnTo>
                    <a:lnTo>
                      <a:pt x="1045" y="15"/>
                    </a:lnTo>
                    <a:lnTo>
                      <a:pt x="1074" y="16"/>
                    </a:lnTo>
                    <a:lnTo>
                      <a:pt x="1094" y="19"/>
                    </a:lnTo>
                    <a:lnTo>
                      <a:pt x="1105" y="22"/>
                    </a:lnTo>
                    <a:lnTo>
                      <a:pt x="1113" y="26"/>
                    </a:lnTo>
                    <a:lnTo>
                      <a:pt x="1118" y="33"/>
                    </a:lnTo>
                    <a:lnTo>
                      <a:pt x="1120" y="39"/>
                    </a:lnTo>
                    <a:lnTo>
                      <a:pt x="1120" y="49"/>
                    </a:lnTo>
                    <a:lnTo>
                      <a:pt x="1118" y="59"/>
                    </a:lnTo>
                    <a:lnTo>
                      <a:pt x="1078" y="167"/>
                    </a:lnTo>
                    <a:lnTo>
                      <a:pt x="1066" y="185"/>
                    </a:lnTo>
                    <a:lnTo>
                      <a:pt x="1061" y="192"/>
                    </a:lnTo>
                    <a:lnTo>
                      <a:pt x="1054" y="199"/>
                    </a:lnTo>
                    <a:lnTo>
                      <a:pt x="1046" y="204"/>
                    </a:lnTo>
                    <a:lnTo>
                      <a:pt x="1036" y="208"/>
                    </a:lnTo>
                    <a:lnTo>
                      <a:pt x="1026" y="212"/>
                    </a:lnTo>
                    <a:lnTo>
                      <a:pt x="1010" y="212"/>
                    </a:lnTo>
                    <a:lnTo>
                      <a:pt x="984" y="214"/>
                    </a:lnTo>
                    <a:lnTo>
                      <a:pt x="930" y="214"/>
                    </a:lnTo>
                    <a:lnTo>
                      <a:pt x="849" y="216"/>
                    </a:lnTo>
                    <a:lnTo>
                      <a:pt x="785" y="216"/>
                    </a:lnTo>
                    <a:lnTo>
                      <a:pt x="703" y="216"/>
                    </a:lnTo>
                    <a:lnTo>
                      <a:pt x="612" y="216"/>
                    </a:lnTo>
                    <a:lnTo>
                      <a:pt x="515" y="216"/>
                    </a:lnTo>
                    <a:lnTo>
                      <a:pt x="464" y="216"/>
                    </a:lnTo>
                    <a:lnTo>
                      <a:pt x="440" y="215"/>
                    </a:lnTo>
                    <a:lnTo>
                      <a:pt x="392" y="218"/>
                    </a:lnTo>
                    <a:lnTo>
                      <a:pt x="332" y="223"/>
                    </a:lnTo>
                    <a:lnTo>
                      <a:pt x="281" y="227"/>
                    </a:lnTo>
                    <a:lnTo>
                      <a:pt x="235" y="232"/>
                    </a:lnTo>
                    <a:lnTo>
                      <a:pt x="150" y="245"/>
                    </a:lnTo>
                    <a:lnTo>
                      <a:pt x="126" y="251"/>
                    </a:lnTo>
                    <a:lnTo>
                      <a:pt x="117" y="254"/>
                    </a:lnTo>
                    <a:lnTo>
                      <a:pt x="105" y="263"/>
                    </a:lnTo>
                    <a:lnTo>
                      <a:pt x="95" y="275"/>
                    </a:lnTo>
                    <a:lnTo>
                      <a:pt x="87" y="286"/>
                    </a:lnTo>
                    <a:lnTo>
                      <a:pt x="81" y="301"/>
                    </a:lnTo>
                    <a:lnTo>
                      <a:pt x="76" y="319"/>
                    </a:lnTo>
                    <a:lnTo>
                      <a:pt x="72" y="339"/>
                    </a:lnTo>
                    <a:lnTo>
                      <a:pt x="80" y="339"/>
                    </a:lnTo>
                    <a:lnTo>
                      <a:pt x="81" y="391"/>
                    </a:lnTo>
                    <a:lnTo>
                      <a:pt x="83" y="421"/>
                    </a:lnTo>
                    <a:lnTo>
                      <a:pt x="85" y="430"/>
                    </a:lnTo>
                    <a:lnTo>
                      <a:pt x="70" y="442"/>
                    </a:lnTo>
                    <a:lnTo>
                      <a:pt x="70" y="457"/>
                    </a:lnTo>
                    <a:lnTo>
                      <a:pt x="76" y="465"/>
                    </a:lnTo>
                    <a:lnTo>
                      <a:pt x="83" y="470"/>
                    </a:lnTo>
                    <a:lnTo>
                      <a:pt x="84" y="475"/>
                    </a:lnTo>
                    <a:lnTo>
                      <a:pt x="54" y="481"/>
                    </a:lnTo>
                    <a:lnTo>
                      <a:pt x="36" y="488"/>
                    </a:lnTo>
                    <a:lnTo>
                      <a:pt x="19" y="495"/>
                    </a:lnTo>
                    <a:lnTo>
                      <a:pt x="4" y="504"/>
                    </a:lnTo>
                    <a:lnTo>
                      <a:pt x="0" y="535"/>
                    </a:lnTo>
                    <a:lnTo>
                      <a:pt x="25" y="609"/>
                    </a:lnTo>
                    <a:lnTo>
                      <a:pt x="32" y="622"/>
                    </a:lnTo>
                    <a:lnTo>
                      <a:pt x="41" y="633"/>
                    </a:lnTo>
                    <a:lnTo>
                      <a:pt x="51" y="640"/>
                    </a:lnTo>
                    <a:lnTo>
                      <a:pt x="67" y="644"/>
                    </a:lnTo>
                    <a:lnTo>
                      <a:pt x="147" y="649"/>
                    </a:lnTo>
                    <a:lnTo>
                      <a:pt x="202" y="651"/>
                    </a:lnTo>
                    <a:lnTo>
                      <a:pt x="278" y="659"/>
                    </a:lnTo>
                    <a:lnTo>
                      <a:pt x="343" y="668"/>
                    </a:lnTo>
                    <a:lnTo>
                      <a:pt x="387" y="677"/>
                    </a:lnTo>
                    <a:lnTo>
                      <a:pt x="450" y="682"/>
                    </a:lnTo>
                    <a:lnTo>
                      <a:pt x="516" y="687"/>
                    </a:lnTo>
                    <a:lnTo>
                      <a:pt x="595" y="691"/>
                    </a:lnTo>
                    <a:lnTo>
                      <a:pt x="729" y="692"/>
                    </a:lnTo>
                    <a:lnTo>
                      <a:pt x="919" y="702"/>
                    </a:lnTo>
                    <a:lnTo>
                      <a:pt x="947" y="581"/>
                    </a:lnTo>
                    <a:lnTo>
                      <a:pt x="968" y="540"/>
                    </a:lnTo>
                    <a:lnTo>
                      <a:pt x="993" y="497"/>
                    </a:lnTo>
                    <a:lnTo>
                      <a:pt x="1018" y="471"/>
                    </a:lnTo>
                    <a:lnTo>
                      <a:pt x="1050" y="450"/>
                    </a:lnTo>
                    <a:lnTo>
                      <a:pt x="1096" y="434"/>
                    </a:lnTo>
                    <a:lnTo>
                      <a:pt x="1149" y="426"/>
                    </a:lnTo>
                    <a:lnTo>
                      <a:pt x="1199" y="428"/>
                    </a:lnTo>
                    <a:lnTo>
                      <a:pt x="1240" y="438"/>
                    </a:lnTo>
                    <a:lnTo>
                      <a:pt x="1274" y="453"/>
                    </a:lnTo>
                    <a:lnTo>
                      <a:pt x="1292" y="467"/>
                    </a:lnTo>
                    <a:lnTo>
                      <a:pt x="1305" y="484"/>
                    </a:lnTo>
                    <a:lnTo>
                      <a:pt x="1324" y="519"/>
                    </a:lnTo>
                    <a:lnTo>
                      <a:pt x="1339" y="559"/>
                    </a:lnTo>
                    <a:lnTo>
                      <a:pt x="1348" y="602"/>
                    </a:lnTo>
                    <a:lnTo>
                      <a:pt x="1348" y="649"/>
                    </a:lnTo>
                    <a:lnTo>
                      <a:pt x="1339" y="715"/>
                    </a:lnTo>
                    <a:lnTo>
                      <a:pt x="2180" y="664"/>
                    </a:lnTo>
                    <a:lnTo>
                      <a:pt x="2194" y="633"/>
                    </a:lnTo>
                    <a:lnTo>
                      <a:pt x="2205" y="602"/>
                    </a:lnTo>
                    <a:lnTo>
                      <a:pt x="2211" y="577"/>
                    </a:lnTo>
                    <a:lnTo>
                      <a:pt x="2218" y="550"/>
                    </a:lnTo>
                    <a:lnTo>
                      <a:pt x="2222" y="522"/>
                    </a:lnTo>
                    <a:lnTo>
                      <a:pt x="2231" y="496"/>
                    </a:lnTo>
                    <a:lnTo>
                      <a:pt x="2241" y="473"/>
                    </a:lnTo>
                    <a:lnTo>
                      <a:pt x="2250" y="458"/>
                    </a:lnTo>
                    <a:lnTo>
                      <a:pt x="2265" y="442"/>
                    </a:lnTo>
                    <a:lnTo>
                      <a:pt x="2278" y="427"/>
                    </a:lnTo>
                    <a:lnTo>
                      <a:pt x="2291" y="416"/>
                    </a:lnTo>
                    <a:lnTo>
                      <a:pt x="2312" y="408"/>
                    </a:lnTo>
                    <a:lnTo>
                      <a:pt x="2342" y="404"/>
                    </a:lnTo>
                    <a:lnTo>
                      <a:pt x="2372" y="404"/>
                    </a:lnTo>
                    <a:lnTo>
                      <a:pt x="2402" y="408"/>
                    </a:lnTo>
                    <a:lnTo>
                      <a:pt x="2421" y="416"/>
                    </a:lnTo>
                    <a:lnTo>
                      <a:pt x="2438" y="431"/>
                    </a:lnTo>
                    <a:lnTo>
                      <a:pt x="2452" y="446"/>
                    </a:lnTo>
                    <a:lnTo>
                      <a:pt x="2466" y="467"/>
                    </a:lnTo>
                    <a:lnTo>
                      <a:pt x="2476" y="492"/>
                    </a:lnTo>
                    <a:lnTo>
                      <a:pt x="2480" y="511"/>
                    </a:lnTo>
                    <a:lnTo>
                      <a:pt x="2481" y="545"/>
                    </a:lnTo>
                    <a:lnTo>
                      <a:pt x="2484" y="568"/>
                    </a:lnTo>
                    <a:lnTo>
                      <a:pt x="2481" y="598"/>
                    </a:lnTo>
                    <a:lnTo>
                      <a:pt x="2483" y="635"/>
                    </a:lnTo>
                    <a:lnTo>
                      <a:pt x="2596" y="632"/>
                    </a:lnTo>
                    <a:lnTo>
                      <a:pt x="2605" y="626"/>
                    </a:lnTo>
                    <a:lnTo>
                      <a:pt x="2612" y="618"/>
                    </a:lnTo>
                    <a:lnTo>
                      <a:pt x="2617" y="595"/>
                    </a:lnTo>
                    <a:lnTo>
                      <a:pt x="2629" y="586"/>
                    </a:lnTo>
                    <a:lnTo>
                      <a:pt x="2643" y="577"/>
                    </a:lnTo>
                    <a:lnTo>
                      <a:pt x="2659" y="558"/>
                    </a:lnTo>
                    <a:lnTo>
                      <a:pt x="2660" y="521"/>
                    </a:lnTo>
                    <a:lnTo>
                      <a:pt x="2671" y="515"/>
                    </a:lnTo>
                    <a:lnTo>
                      <a:pt x="2667" y="485"/>
                    </a:lnTo>
                    <a:lnTo>
                      <a:pt x="2635" y="463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9088920" y="2287080"/>
                <a:ext cx="55080" cy="6840"/>
              </a:xfrm>
              <a:custGeom>
                <a:avLst/>
                <a:gdLst/>
                <a:ahLst/>
                <a:rect l="l" t="t" r="r" b="b"/>
                <a:pathLst>
                  <a:path w="191" h="32">
                    <a:moveTo>
                      <a:pt x="186" y="0"/>
                    </a:moveTo>
                    <a:lnTo>
                      <a:pt x="189" y="12"/>
                    </a:lnTo>
                    <a:lnTo>
                      <a:pt x="190" y="25"/>
                    </a:lnTo>
                    <a:lnTo>
                      <a:pt x="178" y="30"/>
                    </a:lnTo>
                    <a:lnTo>
                      <a:pt x="8" y="31"/>
                    </a:lnTo>
                    <a:lnTo>
                      <a:pt x="4" y="17"/>
                    </a:lnTo>
                    <a:lnTo>
                      <a:pt x="0" y="1"/>
                    </a:lnTo>
                    <a:lnTo>
                      <a:pt x="70" y="2"/>
                    </a:lnTo>
                    <a:lnTo>
                      <a:pt x="159" y="2"/>
                    </a:lnTo>
                    <a:lnTo>
                      <a:pt x="18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0" name=""/>
              <p:cNvGrpSpPr/>
              <p:nvPr/>
            </p:nvGrpSpPr>
            <p:grpSpPr>
              <a:xfrm>
                <a:off x="8395200" y="2182320"/>
                <a:ext cx="746280" cy="149400"/>
                <a:chOff x="8395200" y="2182320"/>
                <a:chExt cx="746280" cy="149400"/>
              </a:xfrm>
            </p:grpSpPr>
            <p:sp>
              <p:nvSpPr>
                <p:cNvPr id="1271" name=""/>
                <p:cNvSpPr/>
                <p:nvPr/>
              </p:nvSpPr>
              <p:spPr>
                <a:xfrm>
                  <a:off x="8561160" y="2251080"/>
                  <a:ext cx="561600" cy="13320"/>
                </a:xfrm>
                <a:custGeom>
                  <a:avLst/>
                  <a:gdLst/>
                  <a:ahLst/>
                  <a:rect l="l" t="t" r="r" b="b"/>
                  <a:pathLst>
                    <a:path w="1940" h="61">
                      <a:moveTo>
                        <a:pt x="1939" y="60"/>
                      </a:moveTo>
                      <a:lnTo>
                        <a:pt x="1882" y="50"/>
                      </a:lnTo>
                      <a:lnTo>
                        <a:pt x="1824" y="40"/>
                      </a:lnTo>
                      <a:lnTo>
                        <a:pt x="1766" y="34"/>
                      </a:lnTo>
                      <a:lnTo>
                        <a:pt x="1606" y="22"/>
                      </a:lnTo>
                      <a:lnTo>
                        <a:pt x="1368" y="13"/>
                      </a:lnTo>
                      <a:lnTo>
                        <a:pt x="673" y="0"/>
                      </a:lnTo>
                      <a:lnTo>
                        <a:pt x="423" y="0"/>
                      </a:lnTo>
                      <a:lnTo>
                        <a:pt x="56" y="6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 flipH="1">
                  <a:off x="9086760" y="2297520"/>
                  <a:ext cx="5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3" name=""/>
                <p:cNvGrpSpPr/>
                <p:nvPr/>
              </p:nvGrpSpPr>
              <p:grpSpPr>
                <a:xfrm>
                  <a:off x="8395200" y="2182320"/>
                  <a:ext cx="619200" cy="149400"/>
                  <a:chOff x="8395200" y="2182320"/>
                  <a:chExt cx="619200" cy="149400"/>
                </a:xfrm>
              </p:grpSpPr>
              <p:sp>
                <p:nvSpPr>
                  <p:cNvPr id="1274" name=""/>
                  <p:cNvSpPr/>
                  <p:nvPr/>
                </p:nvSpPr>
                <p:spPr>
                  <a:xfrm>
                    <a:off x="8486280" y="2182320"/>
                    <a:ext cx="21240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34" h="221">
                        <a:moveTo>
                          <a:pt x="408" y="15"/>
                        </a:moveTo>
                        <a:lnTo>
                          <a:pt x="477" y="10"/>
                        </a:lnTo>
                        <a:lnTo>
                          <a:pt x="556" y="5"/>
                        </a:lnTo>
                        <a:lnTo>
                          <a:pt x="639" y="1"/>
                        </a:lnTo>
                        <a:lnTo>
                          <a:pt x="674" y="0"/>
                        </a:lnTo>
                        <a:lnTo>
                          <a:pt x="694" y="2"/>
                        </a:lnTo>
                        <a:lnTo>
                          <a:pt x="710" y="6"/>
                        </a:lnTo>
                        <a:lnTo>
                          <a:pt x="722" y="12"/>
                        </a:lnTo>
                        <a:lnTo>
                          <a:pt x="729" y="22"/>
                        </a:lnTo>
                        <a:lnTo>
                          <a:pt x="733" y="35"/>
                        </a:lnTo>
                        <a:lnTo>
                          <a:pt x="733" y="47"/>
                        </a:lnTo>
                        <a:lnTo>
                          <a:pt x="691" y="161"/>
                        </a:lnTo>
                        <a:lnTo>
                          <a:pt x="686" y="172"/>
                        </a:lnTo>
                        <a:lnTo>
                          <a:pt x="678" y="185"/>
                        </a:lnTo>
                        <a:lnTo>
                          <a:pt x="671" y="195"/>
                        </a:lnTo>
                        <a:lnTo>
                          <a:pt x="661" y="206"/>
                        </a:lnTo>
                        <a:lnTo>
                          <a:pt x="647" y="213"/>
                        </a:lnTo>
                        <a:lnTo>
                          <a:pt x="632" y="218"/>
                        </a:lnTo>
                        <a:lnTo>
                          <a:pt x="610" y="220"/>
                        </a:lnTo>
                        <a:lnTo>
                          <a:pt x="395" y="218"/>
                        </a:lnTo>
                        <a:lnTo>
                          <a:pt x="282" y="217"/>
                        </a:lnTo>
                        <a:lnTo>
                          <a:pt x="175" y="216"/>
                        </a:lnTo>
                        <a:lnTo>
                          <a:pt x="0" y="21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8797680" y="2234520"/>
                    <a:ext cx="19980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440">
                        <a:moveTo>
                          <a:pt x="595" y="0"/>
                        </a:moveTo>
                        <a:lnTo>
                          <a:pt x="621" y="25"/>
                        </a:lnTo>
                        <a:lnTo>
                          <a:pt x="636" y="40"/>
                        </a:lnTo>
                        <a:lnTo>
                          <a:pt x="647" y="53"/>
                        </a:lnTo>
                        <a:lnTo>
                          <a:pt x="657" y="67"/>
                        </a:lnTo>
                        <a:lnTo>
                          <a:pt x="666" y="81"/>
                        </a:lnTo>
                        <a:lnTo>
                          <a:pt x="671" y="94"/>
                        </a:lnTo>
                        <a:lnTo>
                          <a:pt x="680" y="139"/>
                        </a:lnTo>
                        <a:lnTo>
                          <a:pt x="685" y="184"/>
                        </a:lnTo>
                        <a:lnTo>
                          <a:pt x="689" y="221"/>
                        </a:lnTo>
                        <a:lnTo>
                          <a:pt x="689" y="243"/>
                        </a:lnTo>
                        <a:lnTo>
                          <a:pt x="688" y="281"/>
                        </a:lnTo>
                        <a:lnTo>
                          <a:pt x="684" y="311"/>
                        </a:lnTo>
                        <a:lnTo>
                          <a:pt x="678" y="340"/>
                        </a:lnTo>
                        <a:lnTo>
                          <a:pt x="673" y="363"/>
                        </a:lnTo>
                        <a:lnTo>
                          <a:pt x="666" y="383"/>
                        </a:lnTo>
                        <a:lnTo>
                          <a:pt x="656" y="404"/>
                        </a:lnTo>
                        <a:lnTo>
                          <a:pt x="547" y="411"/>
                        </a:lnTo>
                        <a:lnTo>
                          <a:pt x="0" y="439"/>
                        </a:lnTo>
                        <a:lnTo>
                          <a:pt x="15" y="350"/>
                        </a:lnTo>
                        <a:lnTo>
                          <a:pt x="23" y="259"/>
                        </a:lnTo>
                        <a:lnTo>
                          <a:pt x="28" y="84"/>
                        </a:lnTo>
                        <a:lnTo>
                          <a:pt x="26" y="68"/>
                        </a:lnTo>
                        <a:lnTo>
                          <a:pt x="21" y="50"/>
                        </a:lnTo>
                        <a:lnTo>
                          <a:pt x="15" y="33"/>
                        </a:lnTo>
                        <a:lnTo>
                          <a:pt x="4" y="2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8737560" y="2186280"/>
                    <a:ext cx="23976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828" h="270">
                        <a:moveTo>
                          <a:pt x="469" y="31"/>
                        </a:moveTo>
                        <a:lnTo>
                          <a:pt x="509" y="51"/>
                        </a:lnTo>
                        <a:lnTo>
                          <a:pt x="548" y="73"/>
                        </a:lnTo>
                        <a:lnTo>
                          <a:pt x="586" y="98"/>
                        </a:lnTo>
                        <a:lnTo>
                          <a:pt x="623" y="121"/>
                        </a:lnTo>
                        <a:lnTo>
                          <a:pt x="661" y="145"/>
                        </a:lnTo>
                        <a:lnTo>
                          <a:pt x="699" y="169"/>
                        </a:lnTo>
                        <a:lnTo>
                          <a:pt x="741" y="195"/>
                        </a:lnTo>
                        <a:lnTo>
                          <a:pt x="777" y="221"/>
                        </a:lnTo>
                        <a:lnTo>
                          <a:pt x="802" y="242"/>
                        </a:lnTo>
                        <a:lnTo>
                          <a:pt x="827" y="267"/>
                        </a:lnTo>
                        <a:lnTo>
                          <a:pt x="696" y="269"/>
                        </a:lnTo>
                        <a:lnTo>
                          <a:pt x="227" y="264"/>
                        </a:lnTo>
                        <a:lnTo>
                          <a:pt x="44" y="260"/>
                        </a:lnTo>
                        <a:lnTo>
                          <a:pt x="28" y="259"/>
                        </a:lnTo>
                        <a:lnTo>
                          <a:pt x="15" y="255"/>
                        </a:lnTo>
                        <a:lnTo>
                          <a:pt x="5" y="246"/>
                        </a:lnTo>
                        <a:lnTo>
                          <a:pt x="0" y="233"/>
                        </a:lnTo>
                        <a:lnTo>
                          <a:pt x="0" y="222"/>
                        </a:lnTo>
                        <a:lnTo>
                          <a:pt x="1" y="211"/>
                        </a:lnTo>
                        <a:lnTo>
                          <a:pt x="4" y="200"/>
                        </a:lnTo>
                        <a:lnTo>
                          <a:pt x="36" y="52"/>
                        </a:lnTo>
                        <a:lnTo>
                          <a:pt x="40" y="39"/>
                        </a:lnTo>
                        <a:lnTo>
                          <a:pt x="44" y="29"/>
                        </a:lnTo>
                        <a:lnTo>
                          <a:pt x="50" y="18"/>
                        </a:lnTo>
                        <a:lnTo>
                          <a:pt x="57" y="12"/>
                        </a:lnTo>
                        <a:lnTo>
                          <a:pt x="65" y="5"/>
                        </a:lnTo>
                        <a:lnTo>
                          <a:pt x="73" y="3"/>
                        </a:lnTo>
                        <a:lnTo>
                          <a:pt x="87" y="0"/>
                        </a:lnTo>
                        <a:lnTo>
                          <a:pt x="108" y="0"/>
                        </a:lnTo>
                        <a:lnTo>
                          <a:pt x="14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 flipH="1">
                    <a:off x="8755560" y="2300400"/>
                    <a:ext cx="258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78" name=""/>
                  <p:cNvGrpSpPr/>
                  <p:nvPr/>
                </p:nvGrpSpPr>
                <p:grpSpPr>
                  <a:xfrm>
                    <a:off x="8395200" y="2230200"/>
                    <a:ext cx="266040" cy="101520"/>
                    <a:chOff x="8395200" y="2230200"/>
                    <a:chExt cx="266040" cy="101520"/>
                  </a:xfrm>
                </p:grpSpPr>
                <p:sp>
                  <p:nvSpPr>
                    <p:cNvPr id="1279" name=""/>
                    <p:cNvSpPr/>
                    <p:nvPr/>
                  </p:nvSpPr>
                  <p:spPr>
                    <a:xfrm>
                      <a:off x="8525880" y="2230200"/>
                      <a:ext cx="13536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8" h="120">
                          <a:moveTo>
                            <a:pt x="467" y="0"/>
                          </a:moveTo>
                          <a:lnTo>
                            <a:pt x="290" y="6"/>
                          </a:lnTo>
                          <a:lnTo>
                            <a:pt x="217" y="10"/>
                          </a:lnTo>
                          <a:lnTo>
                            <a:pt x="165" y="13"/>
                          </a:lnTo>
                          <a:lnTo>
                            <a:pt x="120" y="17"/>
                          </a:lnTo>
                          <a:lnTo>
                            <a:pt x="74" y="21"/>
                          </a:lnTo>
                          <a:lnTo>
                            <a:pt x="54" y="25"/>
                          </a:lnTo>
                          <a:lnTo>
                            <a:pt x="39" y="34"/>
                          </a:lnTo>
                          <a:lnTo>
                            <a:pt x="29" y="45"/>
                          </a:lnTo>
                          <a:lnTo>
                            <a:pt x="20" y="55"/>
                          </a:lnTo>
                          <a:lnTo>
                            <a:pt x="13" y="69"/>
                          </a:lnTo>
                          <a:lnTo>
                            <a:pt x="7" y="80"/>
                          </a:lnTo>
                          <a:lnTo>
                            <a:pt x="3" y="96"/>
                          </a:lnTo>
                          <a:lnTo>
                            <a:pt x="0" y="119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0" name=""/>
                    <p:cNvSpPr/>
                    <p:nvPr/>
                  </p:nvSpPr>
                  <p:spPr>
                    <a:xfrm>
                      <a:off x="8568000" y="2302200"/>
                      <a:ext cx="133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135">
                          <a:moveTo>
                            <a:pt x="45" y="0"/>
                          </a:moveTo>
                          <a:lnTo>
                            <a:pt x="44" y="32"/>
                          </a:lnTo>
                          <a:lnTo>
                            <a:pt x="42" y="52"/>
                          </a:lnTo>
                          <a:lnTo>
                            <a:pt x="39" y="73"/>
                          </a:lnTo>
                          <a:lnTo>
                            <a:pt x="36" y="93"/>
                          </a:lnTo>
                          <a:lnTo>
                            <a:pt x="27" y="108"/>
                          </a:lnTo>
                          <a:lnTo>
                            <a:pt x="17" y="122"/>
                          </a:lnTo>
                          <a:lnTo>
                            <a:pt x="0" y="13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1" name=""/>
                    <p:cNvSpPr/>
                    <p:nvPr/>
                  </p:nvSpPr>
                  <p:spPr>
                    <a:xfrm>
                      <a:off x="8465760" y="2302200"/>
                      <a:ext cx="169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124">
                          <a:moveTo>
                            <a:pt x="0" y="0"/>
                          </a:moveTo>
                          <a:lnTo>
                            <a:pt x="0" y="15"/>
                          </a:lnTo>
                          <a:lnTo>
                            <a:pt x="1" y="35"/>
                          </a:lnTo>
                          <a:lnTo>
                            <a:pt x="6" y="54"/>
                          </a:lnTo>
                          <a:lnTo>
                            <a:pt x="11" y="74"/>
                          </a:lnTo>
                          <a:lnTo>
                            <a:pt x="24" y="92"/>
                          </a:lnTo>
                          <a:lnTo>
                            <a:pt x="34" y="105"/>
                          </a:lnTo>
                          <a:lnTo>
                            <a:pt x="44" y="115"/>
                          </a:lnTo>
                          <a:lnTo>
                            <a:pt x="58" y="12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2" name=""/>
                    <p:cNvSpPr/>
                    <p:nvPr/>
                  </p:nvSpPr>
                  <p:spPr>
                    <a:xfrm>
                      <a:off x="8407080" y="2235240"/>
                      <a:ext cx="13536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7" h="17">
                          <a:moveTo>
                            <a:pt x="466" y="0"/>
                          </a:moveTo>
                          <a:lnTo>
                            <a:pt x="265" y="10"/>
                          </a:lnTo>
                          <a:lnTo>
                            <a:pt x="57" y="10"/>
                          </a:lnTo>
                          <a:lnTo>
                            <a:pt x="37" y="10"/>
                          </a:lnTo>
                          <a:lnTo>
                            <a:pt x="17" y="10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3" name=""/>
                    <p:cNvSpPr/>
                    <p:nvPr/>
                  </p:nvSpPr>
                  <p:spPr>
                    <a:xfrm>
                      <a:off x="8465040" y="2303280"/>
                      <a:ext cx="18360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4" h="17">
                          <a:moveTo>
                            <a:pt x="633" y="5"/>
                          </a:moveTo>
                          <a:lnTo>
                            <a:pt x="505" y="8"/>
                          </a:lnTo>
                          <a:lnTo>
                            <a:pt x="459" y="10"/>
                          </a:lnTo>
                          <a:lnTo>
                            <a:pt x="410" y="10"/>
                          </a:lnTo>
                          <a:lnTo>
                            <a:pt x="356" y="11"/>
                          </a:lnTo>
                          <a:lnTo>
                            <a:pt x="307" y="13"/>
                          </a:lnTo>
                          <a:lnTo>
                            <a:pt x="264" y="16"/>
                          </a:lnTo>
                          <a:lnTo>
                            <a:pt x="227" y="1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4" name=""/>
                    <p:cNvSpPr/>
                    <p:nvPr/>
                  </p:nvSpPr>
                  <p:spPr>
                    <a:xfrm>
                      <a:off x="8395200" y="2284920"/>
                      <a:ext cx="18792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9" h="17">
                          <a:moveTo>
                            <a:pt x="648" y="16"/>
                          </a:moveTo>
                          <a:lnTo>
                            <a:pt x="418" y="1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285" name=""/>
              <p:cNvSpPr/>
              <p:nvPr/>
            </p:nvSpPr>
            <p:spPr>
              <a:xfrm>
                <a:off x="8754120" y="2288160"/>
                <a:ext cx="262440" cy="10080"/>
              </a:xfrm>
              <a:custGeom>
                <a:avLst/>
                <a:gdLst/>
                <a:ahLst/>
                <a:rect l="l" t="t" r="r" b="b"/>
                <a:pathLst>
                  <a:path w="907" h="47">
                    <a:moveTo>
                      <a:pt x="906" y="0"/>
                    </a:moveTo>
                    <a:lnTo>
                      <a:pt x="461" y="5"/>
                    </a:lnTo>
                    <a:lnTo>
                      <a:pt x="0" y="14"/>
                    </a:lnTo>
                    <a:lnTo>
                      <a:pt x="10" y="31"/>
                    </a:lnTo>
                    <a:lnTo>
                      <a:pt x="17" y="46"/>
                    </a:lnTo>
                    <a:lnTo>
                      <a:pt x="423" y="41"/>
                    </a:lnTo>
                    <a:lnTo>
                      <a:pt x="893" y="32"/>
                    </a:lnTo>
                    <a:lnTo>
                      <a:pt x="90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8373600" y="2286360"/>
                <a:ext cx="283680" cy="17280"/>
              </a:xfrm>
              <a:custGeom>
                <a:avLst/>
                <a:gdLst/>
                <a:ahLst/>
                <a:rect l="l" t="t" r="r" b="b"/>
                <a:pathLst>
                  <a:path w="980" h="80">
                    <a:moveTo>
                      <a:pt x="979" y="23"/>
                    </a:moveTo>
                    <a:lnTo>
                      <a:pt x="743" y="31"/>
                    </a:lnTo>
                    <a:lnTo>
                      <a:pt x="615" y="35"/>
                    </a:lnTo>
                    <a:lnTo>
                      <a:pt x="367" y="35"/>
                    </a:lnTo>
                    <a:lnTo>
                      <a:pt x="61" y="19"/>
                    </a:lnTo>
                    <a:lnTo>
                      <a:pt x="54" y="18"/>
                    </a:lnTo>
                    <a:lnTo>
                      <a:pt x="48" y="16"/>
                    </a:lnTo>
                    <a:lnTo>
                      <a:pt x="42" y="13"/>
                    </a:lnTo>
                    <a:lnTo>
                      <a:pt x="46" y="7"/>
                    </a:lnTo>
                    <a:lnTo>
                      <a:pt x="61" y="0"/>
                    </a:lnTo>
                    <a:lnTo>
                      <a:pt x="52" y="0"/>
                    </a:lnTo>
                    <a:lnTo>
                      <a:pt x="16" y="13"/>
                    </a:lnTo>
                    <a:lnTo>
                      <a:pt x="2" y="21"/>
                    </a:lnTo>
                    <a:lnTo>
                      <a:pt x="0" y="31"/>
                    </a:lnTo>
                    <a:lnTo>
                      <a:pt x="9" y="42"/>
                    </a:lnTo>
                    <a:lnTo>
                      <a:pt x="18" y="47"/>
                    </a:lnTo>
                    <a:lnTo>
                      <a:pt x="30" y="51"/>
                    </a:lnTo>
                    <a:lnTo>
                      <a:pt x="46" y="54"/>
                    </a:lnTo>
                    <a:lnTo>
                      <a:pt x="541" y="79"/>
                    </a:lnTo>
                    <a:lnTo>
                      <a:pt x="948" y="68"/>
                    </a:lnTo>
                    <a:lnTo>
                      <a:pt x="979" y="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7" name=""/>
              <p:cNvGrpSpPr/>
              <p:nvPr/>
            </p:nvGrpSpPr>
            <p:grpSpPr>
              <a:xfrm>
                <a:off x="8390880" y="2255400"/>
                <a:ext cx="188640" cy="30960"/>
                <a:chOff x="8390880" y="2255400"/>
                <a:chExt cx="188640" cy="3096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8391240" y="2255400"/>
                  <a:ext cx="188280" cy="30960"/>
                </a:xfrm>
                <a:custGeom>
                  <a:avLst/>
                  <a:gdLst/>
                  <a:ahLst/>
                  <a:rect l="l" t="t" r="r" b="b"/>
                  <a:pathLst>
                    <a:path w="651" h="142">
                      <a:moveTo>
                        <a:pt x="650" y="136"/>
                      </a:moveTo>
                      <a:lnTo>
                        <a:pt x="619" y="56"/>
                      </a:lnTo>
                      <a:lnTo>
                        <a:pt x="607" y="0"/>
                      </a:lnTo>
                      <a:lnTo>
                        <a:pt x="9" y="0"/>
                      </a:lnTo>
                      <a:lnTo>
                        <a:pt x="12" y="72"/>
                      </a:lnTo>
                      <a:lnTo>
                        <a:pt x="12" y="83"/>
                      </a:lnTo>
                      <a:lnTo>
                        <a:pt x="12" y="93"/>
                      </a:lnTo>
                      <a:lnTo>
                        <a:pt x="0" y="103"/>
                      </a:lnTo>
                      <a:lnTo>
                        <a:pt x="0" y="122"/>
                      </a:lnTo>
                      <a:lnTo>
                        <a:pt x="276" y="134"/>
                      </a:lnTo>
                      <a:lnTo>
                        <a:pt x="468" y="141"/>
                      </a:lnTo>
                      <a:lnTo>
                        <a:pt x="650" y="136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9" name=""/>
                <p:cNvGrpSpPr/>
                <p:nvPr/>
              </p:nvGrpSpPr>
              <p:grpSpPr>
                <a:xfrm>
                  <a:off x="8390880" y="2257560"/>
                  <a:ext cx="182160" cy="17280"/>
                  <a:chOff x="8390880" y="2257560"/>
                  <a:chExt cx="182160" cy="17280"/>
                </a:xfrm>
              </p:grpSpPr>
              <p:sp>
                <p:nvSpPr>
                  <p:cNvPr id="1290" name=""/>
                  <p:cNvSpPr/>
                  <p:nvPr/>
                </p:nvSpPr>
                <p:spPr>
                  <a:xfrm flipH="1">
                    <a:off x="8390880" y="2257560"/>
                    <a:ext cx="178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 flipH="1">
                    <a:off x="8392680" y="2259000"/>
                    <a:ext cx="177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 flipH="1">
                    <a:off x="8391960" y="2261880"/>
                    <a:ext cx="178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 flipH="1" flipV="1">
                    <a:off x="8392320" y="2262240"/>
                    <a:ext cx="178920" cy="3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 flipH="1">
                    <a:off x="8391600" y="2266560"/>
                    <a:ext cx="180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8394480" y="2268720"/>
                    <a:ext cx="1771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11" h="17">
                        <a:moveTo>
                          <a:pt x="610" y="0"/>
                        </a:moveTo>
                        <a:lnTo>
                          <a:pt x="497" y="16"/>
                        </a:lnTo>
                        <a:lnTo>
                          <a:pt x="459" y="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8394120" y="2271240"/>
                    <a:ext cx="1789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18" h="17">
                        <a:moveTo>
                          <a:pt x="617" y="4"/>
                        </a:moveTo>
                        <a:lnTo>
                          <a:pt x="513" y="16"/>
                        </a:lnTo>
                        <a:lnTo>
                          <a:pt x="456" y="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97" name=""/>
              <p:cNvGrpSpPr/>
              <p:nvPr/>
            </p:nvGrpSpPr>
            <p:grpSpPr>
              <a:xfrm>
                <a:off x="8393400" y="2242080"/>
                <a:ext cx="104040" cy="79920"/>
                <a:chOff x="8393400" y="2242080"/>
                <a:chExt cx="104040" cy="7992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8412480" y="2300040"/>
                  <a:ext cx="11880" cy="21960"/>
                </a:xfrm>
                <a:custGeom>
                  <a:avLst/>
                  <a:gdLst/>
                  <a:ahLst/>
                  <a:rect l="l" t="t" r="r" b="b"/>
                  <a:pathLst>
                    <a:path w="41" h="101">
                      <a:moveTo>
                        <a:pt x="1" y="0"/>
                      </a:moveTo>
                      <a:lnTo>
                        <a:pt x="0" y="17"/>
                      </a:lnTo>
                      <a:lnTo>
                        <a:pt x="3" y="42"/>
                      </a:lnTo>
                      <a:lnTo>
                        <a:pt x="9" y="61"/>
                      </a:lnTo>
                      <a:lnTo>
                        <a:pt x="15" y="76"/>
                      </a:lnTo>
                      <a:lnTo>
                        <a:pt x="26" y="90"/>
                      </a:lnTo>
                      <a:lnTo>
                        <a:pt x="40" y="100"/>
                      </a:lnTo>
                      <a:lnTo>
                        <a:pt x="40" y="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9" name=""/>
                <p:cNvGrpSpPr/>
                <p:nvPr/>
              </p:nvGrpSpPr>
              <p:grpSpPr>
                <a:xfrm>
                  <a:off x="8393400" y="2242080"/>
                  <a:ext cx="104040" cy="77400"/>
                  <a:chOff x="8393400" y="2242080"/>
                  <a:chExt cx="104040" cy="77400"/>
                </a:xfrm>
              </p:grpSpPr>
              <p:sp>
                <p:nvSpPr>
                  <p:cNvPr id="1300" name=""/>
                  <p:cNvSpPr/>
                  <p:nvPr/>
                </p:nvSpPr>
                <p:spPr>
                  <a:xfrm>
                    <a:off x="8473680" y="2306160"/>
                    <a:ext cx="23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61">
                        <a:moveTo>
                          <a:pt x="64" y="4"/>
                        </a:moveTo>
                        <a:lnTo>
                          <a:pt x="65" y="20"/>
                        </a:lnTo>
                        <a:lnTo>
                          <a:pt x="67" y="33"/>
                        </a:lnTo>
                        <a:lnTo>
                          <a:pt x="74" y="46"/>
                        </a:lnTo>
                        <a:lnTo>
                          <a:pt x="82" y="60"/>
                        </a:lnTo>
                        <a:lnTo>
                          <a:pt x="15" y="55"/>
                        </a:lnTo>
                        <a:lnTo>
                          <a:pt x="7" y="48"/>
                        </a:lnTo>
                        <a:lnTo>
                          <a:pt x="4" y="35"/>
                        </a:lnTo>
                        <a:lnTo>
                          <a:pt x="0" y="21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64" y="4"/>
                        </a:lnTo>
                      </a:path>
                    </a:pathLst>
                  </a:custGeom>
                  <a:solidFill>
                    <a:srgbClr val="ffa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8393400" y="2302200"/>
                    <a:ext cx="162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9">
                        <a:moveTo>
                          <a:pt x="46" y="3"/>
                        </a:moveTo>
                        <a:lnTo>
                          <a:pt x="46" y="12"/>
                        </a:lnTo>
                        <a:lnTo>
                          <a:pt x="46" y="22"/>
                        </a:lnTo>
                        <a:lnTo>
                          <a:pt x="50" y="36"/>
                        </a:lnTo>
                        <a:lnTo>
                          <a:pt x="56" y="48"/>
                        </a:lnTo>
                        <a:lnTo>
                          <a:pt x="11" y="45"/>
                        </a:lnTo>
                        <a:lnTo>
                          <a:pt x="4" y="36"/>
                        </a:lnTo>
                        <a:lnTo>
                          <a:pt x="1" y="27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46" y="3"/>
                        </a:lnTo>
                      </a:path>
                    </a:pathLst>
                  </a:custGeom>
                  <a:solidFill>
                    <a:srgbClr val="ffa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8448480" y="2242080"/>
                    <a:ext cx="11160" cy="756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03" name=""/>
              <p:cNvGrpSpPr/>
              <p:nvPr/>
            </p:nvGrpSpPr>
            <p:grpSpPr>
              <a:xfrm>
                <a:off x="8768520" y="2188440"/>
                <a:ext cx="47160" cy="51480"/>
                <a:chOff x="8768520" y="2188440"/>
                <a:chExt cx="47160" cy="51480"/>
              </a:xfrm>
            </p:grpSpPr>
            <p:sp>
              <p:nvSpPr>
                <p:cNvPr id="1304" name=""/>
                <p:cNvSpPr/>
                <p:nvPr/>
              </p:nvSpPr>
              <p:spPr>
                <a:xfrm>
                  <a:off x="8768520" y="2188440"/>
                  <a:ext cx="47160" cy="51480"/>
                </a:xfrm>
                <a:custGeom>
                  <a:avLst/>
                  <a:gdLst/>
                  <a:ahLst/>
                  <a:rect l="l" t="t" r="r" b="b"/>
                  <a:pathLst>
                    <a:path w="164" h="236">
                      <a:moveTo>
                        <a:pt x="61" y="0"/>
                      </a:moveTo>
                      <a:lnTo>
                        <a:pt x="77" y="28"/>
                      </a:lnTo>
                      <a:lnTo>
                        <a:pt x="93" y="58"/>
                      </a:lnTo>
                      <a:lnTo>
                        <a:pt x="107" y="86"/>
                      </a:lnTo>
                      <a:lnTo>
                        <a:pt x="123" y="116"/>
                      </a:lnTo>
                      <a:lnTo>
                        <a:pt x="136" y="144"/>
                      </a:lnTo>
                      <a:lnTo>
                        <a:pt x="143" y="159"/>
                      </a:lnTo>
                      <a:lnTo>
                        <a:pt x="149" y="178"/>
                      </a:lnTo>
                      <a:lnTo>
                        <a:pt x="158" y="209"/>
                      </a:lnTo>
                      <a:lnTo>
                        <a:pt x="163" y="235"/>
                      </a:lnTo>
                      <a:lnTo>
                        <a:pt x="124" y="234"/>
                      </a:lnTo>
                      <a:lnTo>
                        <a:pt x="93" y="233"/>
                      </a:lnTo>
                      <a:lnTo>
                        <a:pt x="87" y="202"/>
                      </a:lnTo>
                      <a:lnTo>
                        <a:pt x="76" y="166"/>
                      </a:lnTo>
                      <a:lnTo>
                        <a:pt x="66" y="140"/>
                      </a:lnTo>
                      <a:lnTo>
                        <a:pt x="52" y="107"/>
                      </a:lnTo>
                      <a:lnTo>
                        <a:pt x="34" y="67"/>
                      </a:lnTo>
                      <a:lnTo>
                        <a:pt x="0" y="0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8787600" y="2191320"/>
                  <a:ext cx="20160" cy="46440"/>
                </a:xfrm>
                <a:custGeom>
                  <a:avLst/>
                  <a:gdLst/>
                  <a:ahLst/>
                  <a:rect l="l" t="t" r="r" b="b"/>
                  <a:pathLst>
                    <a:path w="70" h="213">
                      <a:moveTo>
                        <a:pt x="0" y="0"/>
                      </a:moveTo>
                      <a:lnTo>
                        <a:pt x="18" y="37"/>
                      </a:lnTo>
                      <a:lnTo>
                        <a:pt x="29" y="62"/>
                      </a:lnTo>
                      <a:lnTo>
                        <a:pt x="41" y="92"/>
                      </a:lnTo>
                      <a:lnTo>
                        <a:pt x="50" y="110"/>
                      </a:lnTo>
                      <a:lnTo>
                        <a:pt x="57" y="129"/>
                      </a:lnTo>
                      <a:lnTo>
                        <a:pt x="63" y="146"/>
                      </a:lnTo>
                      <a:lnTo>
                        <a:pt x="67" y="163"/>
                      </a:lnTo>
                      <a:lnTo>
                        <a:pt x="68" y="178"/>
                      </a:lnTo>
                      <a:lnTo>
                        <a:pt x="69" y="197"/>
                      </a:lnTo>
                      <a:lnTo>
                        <a:pt x="68" y="212"/>
                      </a:lnTo>
                      <a:lnTo>
                        <a:pt x="58" y="211"/>
                      </a:lnTo>
                      <a:lnTo>
                        <a:pt x="63" y="192"/>
                      </a:lnTo>
                      <a:lnTo>
                        <a:pt x="63" y="178"/>
                      </a:lnTo>
                      <a:lnTo>
                        <a:pt x="61" y="158"/>
                      </a:lnTo>
                      <a:lnTo>
                        <a:pt x="56" y="138"/>
                      </a:lnTo>
                      <a:lnTo>
                        <a:pt x="50" y="117"/>
                      </a:lnTo>
                      <a:lnTo>
                        <a:pt x="25" y="59"/>
                      </a:lnTo>
                      <a:lnTo>
                        <a:pt x="4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6" name=""/>
              <p:cNvGrpSpPr/>
              <p:nvPr/>
            </p:nvGrpSpPr>
            <p:grpSpPr>
              <a:xfrm>
                <a:off x="8814960" y="2227320"/>
                <a:ext cx="160920" cy="33840"/>
                <a:chOff x="8814960" y="2227320"/>
                <a:chExt cx="160920" cy="33840"/>
              </a:xfrm>
            </p:grpSpPr>
            <p:grpSp>
              <p:nvGrpSpPr>
                <p:cNvPr id="1307" name=""/>
                <p:cNvGrpSpPr/>
                <p:nvPr/>
              </p:nvGrpSpPr>
              <p:grpSpPr>
                <a:xfrm>
                  <a:off x="8814960" y="2257200"/>
                  <a:ext cx="15840" cy="3960"/>
                  <a:chOff x="8814960" y="2257200"/>
                  <a:chExt cx="15840" cy="3960"/>
                </a:xfrm>
              </p:grpSpPr>
              <p:sp>
                <p:nvSpPr>
                  <p:cNvPr id="1308" name=""/>
                  <p:cNvSpPr/>
                  <p:nvPr/>
                </p:nvSpPr>
                <p:spPr>
                  <a:xfrm>
                    <a:off x="8814960" y="2257200"/>
                    <a:ext cx="158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7">
                        <a:moveTo>
                          <a:pt x="52" y="1"/>
                        </a:moveTo>
                        <a:lnTo>
                          <a:pt x="54" y="9"/>
                        </a:lnTo>
                        <a:lnTo>
                          <a:pt x="54" y="16"/>
                        </a:lnTo>
                        <a:lnTo>
                          <a:pt x="0" y="16"/>
                        </a:lnTo>
                        <a:lnTo>
                          <a:pt x="1" y="6"/>
                        </a:lnTo>
                        <a:lnTo>
                          <a:pt x="0" y="0"/>
                        </a:lnTo>
                        <a:lnTo>
                          <a:pt x="52" y="1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8814960" y="2257560"/>
                    <a:ext cx="158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7">
                        <a:moveTo>
                          <a:pt x="54" y="0"/>
                        </a:moveTo>
                        <a:lnTo>
                          <a:pt x="54" y="5"/>
                        </a:lnTo>
                        <a:lnTo>
                          <a:pt x="54" y="16"/>
                        </a:lnTo>
                        <a:lnTo>
                          <a:pt x="0" y="16"/>
                        </a:lnTo>
                        <a:lnTo>
                          <a:pt x="1" y="5"/>
                        </a:lnTo>
                        <a:lnTo>
                          <a:pt x="0" y="0"/>
                        </a:lnTo>
                        <a:lnTo>
                          <a:pt x="54" y="0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0" name=""/>
                <p:cNvGrpSpPr/>
                <p:nvPr/>
              </p:nvGrpSpPr>
              <p:grpSpPr>
                <a:xfrm>
                  <a:off x="8945280" y="2227320"/>
                  <a:ext cx="30600" cy="20880"/>
                  <a:chOff x="8945280" y="2227320"/>
                  <a:chExt cx="30600" cy="20880"/>
                </a:xfrm>
              </p:grpSpPr>
              <p:sp>
                <p:nvSpPr>
                  <p:cNvPr id="1311" name=""/>
                  <p:cNvSpPr/>
                  <p:nvPr/>
                </p:nvSpPr>
                <p:spPr>
                  <a:xfrm>
                    <a:off x="8945280" y="2227320"/>
                    <a:ext cx="306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96">
                        <a:moveTo>
                          <a:pt x="96" y="41"/>
                        </a:moveTo>
                        <a:lnTo>
                          <a:pt x="68" y="13"/>
                        </a:lnTo>
                        <a:lnTo>
                          <a:pt x="60" y="8"/>
                        </a:lnTo>
                        <a:lnTo>
                          <a:pt x="48" y="4"/>
                        </a:lnTo>
                        <a:lnTo>
                          <a:pt x="15" y="0"/>
                        </a:lnTo>
                        <a:lnTo>
                          <a:pt x="5" y="1"/>
                        </a:lnTo>
                        <a:lnTo>
                          <a:pt x="0" y="76"/>
                        </a:lnTo>
                        <a:lnTo>
                          <a:pt x="10" y="87"/>
                        </a:lnTo>
                        <a:lnTo>
                          <a:pt x="25" y="93"/>
                        </a:lnTo>
                        <a:lnTo>
                          <a:pt x="52" y="95"/>
                        </a:lnTo>
                        <a:lnTo>
                          <a:pt x="72" y="88"/>
                        </a:lnTo>
                        <a:lnTo>
                          <a:pt x="102" y="60"/>
                        </a:lnTo>
                        <a:lnTo>
                          <a:pt x="105" y="52"/>
                        </a:lnTo>
                        <a:lnTo>
                          <a:pt x="96" y="4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8945280" y="2238480"/>
                    <a:ext cx="30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44">
                        <a:moveTo>
                          <a:pt x="105" y="0"/>
                        </a:moveTo>
                        <a:lnTo>
                          <a:pt x="83" y="7"/>
                        </a:lnTo>
                        <a:lnTo>
                          <a:pt x="62" y="14"/>
                        </a:lnTo>
                        <a:lnTo>
                          <a:pt x="46" y="14"/>
                        </a:lnTo>
                        <a:lnTo>
                          <a:pt x="24" y="17"/>
                        </a:lnTo>
                        <a:lnTo>
                          <a:pt x="8" y="12"/>
                        </a:lnTo>
                        <a:lnTo>
                          <a:pt x="3" y="1"/>
                        </a:lnTo>
                        <a:lnTo>
                          <a:pt x="0" y="25"/>
                        </a:lnTo>
                        <a:lnTo>
                          <a:pt x="8" y="35"/>
                        </a:lnTo>
                        <a:lnTo>
                          <a:pt x="25" y="41"/>
                        </a:lnTo>
                        <a:lnTo>
                          <a:pt x="51" y="43"/>
                        </a:lnTo>
                        <a:lnTo>
                          <a:pt x="73" y="36"/>
                        </a:lnTo>
                        <a:lnTo>
                          <a:pt x="99" y="13"/>
                        </a:lnTo>
                        <a:lnTo>
                          <a:pt x="103" y="8"/>
                        </a:lnTo>
                        <a:lnTo>
                          <a:pt x="105" y="0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313" name="" descr=""/>
          <p:cNvPicPr/>
          <p:nvPr/>
        </p:nvPicPr>
        <p:blipFill>
          <a:blip r:embed="rId11"/>
          <a:stretch/>
        </p:blipFill>
        <p:spPr>
          <a:xfrm>
            <a:off x="8240760" y="2571840"/>
            <a:ext cx="622080" cy="376200"/>
          </a:xfrm>
          <a:prstGeom prst="rect">
            <a:avLst/>
          </a:prstGeom>
          <a:ln w="0">
            <a:noFill/>
          </a:ln>
        </p:spPr>
      </p:pic>
      <p:sp>
        <p:nvSpPr>
          <p:cNvPr id="1314" name=""/>
          <p:cNvSpPr/>
          <p:nvPr/>
        </p:nvSpPr>
        <p:spPr>
          <a:xfrm>
            <a:off x="851040" y="3478320"/>
            <a:ext cx="1728720" cy="8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rot="19478400">
            <a:off x="3128760" y="2352240"/>
            <a:ext cx="454716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14" y="1118"/>
                </a:moveTo>
                <a:arcTo wR="10800" hR="10800" stAng="-6978187" swAng="3212118"/>
                <a:lnTo>
                  <a:pt x="10800" y="10800"/>
                </a:lnTo>
                <a:close/>
              </a:path>
              <a:path fill="none" w="21600" h="21600">
                <a:moveTo>
                  <a:pt x="6014" y="1118"/>
                </a:moveTo>
                <a:arcTo wR="10800" hR="10800" stAng="-6978187" swAng="3212118"/>
              </a:path>
            </a:pathLst>
          </a:custGeom>
          <a:noFill/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rot="19478400">
            <a:off x="3098160" y="2369520"/>
            <a:ext cx="45471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14" y="1118"/>
                </a:moveTo>
                <a:arcTo wR="10800" hR="10800" stAng="-6978187" swAng="3212118"/>
                <a:lnTo>
                  <a:pt x="10800" y="10800"/>
                </a:lnTo>
                <a:close/>
              </a:path>
              <a:path fill="none" w="21600" h="21600">
                <a:moveTo>
                  <a:pt x="6014" y="1118"/>
                </a:moveTo>
                <a:arcTo wR="10800" hR="10800" stAng="-6978187" swAng="3212118"/>
              </a:path>
            </a:pathLst>
          </a:custGeom>
          <a:noFill/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1234800" y="552600"/>
            <a:ext cx="6926040" cy="5156640"/>
            <a:chOff x="1234800" y="552600"/>
            <a:chExt cx="6926040" cy="5156640"/>
          </a:xfrm>
        </p:grpSpPr>
        <p:sp>
          <p:nvSpPr>
            <p:cNvPr id="1318" name=""/>
            <p:cNvSpPr/>
            <p:nvPr/>
          </p:nvSpPr>
          <p:spPr>
            <a:xfrm rot="19489200">
              <a:off x="4991400" y="2105280"/>
              <a:ext cx="250920" cy="8096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rot="19470000">
              <a:off x="636840" y="2860200"/>
              <a:ext cx="8121960" cy="54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06" y="152"/>
                  </a:moveTo>
                  <a:arcTo wR="10800" hR="10800" stAng="-4822265" swAng="4059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06" y="152"/>
                  </a:moveTo>
                  <a:arcTo wR="10800" hR="10800" stAng="-4822265" swAng="405909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12800" y="566640"/>
            <a:ext cx="7923240" cy="4965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5573880"/>
            <a:ext cx="86104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so. d’énergie primaire hors biomasse en tep par habitant. Une tep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≈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42 GJ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≈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11.600 kW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ilation de l’auteur (Sources diver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76320" y="0"/>
            <a:ext cx="2932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is vint l’é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900680" y="1218960"/>
            <a:ext cx="1981080" cy="2361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1676520"/>
            <a:ext cx="3581640" cy="824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0 Glorieuses = énergie par personne x 3 en 30 ans ! Le coup est-il rejouabl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893880" y="0"/>
            <a:ext cx="5508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noblesse prend le carbone de très ha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57320" y="612720"/>
            <a:ext cx="868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ous avons tous appris P = F(K,W). Les ressources naturelles ne sont pas dans la formation des prix : seuls y figurent le co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ût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u travail humain, et le consentement - humain - à se défaire de sa pro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é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35000" y="2293920"/>
            <a:ext cx="79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fait P = F(K,W,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Il faut « corriger » les prix d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85640" y="2843280"/>
            <a:ext cx="83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la « dotation aux amortissements » pour diminution des stocks de toute sorte, et notamment d’hydrocarb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4" name=""/>
          <p:cNvGrpSpPr/>
          <p:nvPr/>
        </p:nvGrpSpPr>
        <p:grpSpPr>
          <a:xfrm>
            <a:off x="3843360" y="463680"/>
            <a:ext cx="1515960" cy="806400"/>
            <a:chOff x="3843360" y="463680"/>
            <a:chExt cx="1515960" cy="806400"/>
          </a:xfrm>
        </p:grpSpPr>
        <p:sp>
          <p:nvSpPr>
            <p:cNvPr id="1325" name=""/>
            <p:cNvSpPr/>
            <p:nvPr/>
          </p:nvSpPr>
          <p:spPr>
            <a:xfrm>
              <a:off x="3870360" y="549360"/>
              <a:ext cx="1488960" cy="72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3843360" y="463680"/>
              <a:ext cx="1419120" cy="798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7" name=""/>
          <p:cNvSpPr/>
          <p:nvPr/>
        </p:nvSpPr>
        <p:spPr>
          <a:xfrm>
            <a:off x="504720" y="3578400"/>
            <a:ext cx="83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la « provision pour risques » pour changement climatique futu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Rapport Ster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7360" y="4462560"/>
            <a:ext cx="83836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ant que le carbone ne sera pas dans la formation des prix, l’économie ne permettra pas de voir venir « toute seule » les risques présentés plus haut… et la solution arrivera quand m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ême, mais subie et non choi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9" name="" descr=""/>
          <p:cNvPicPr/>
          <p:nvPr/>
        </p:nvPicPr>
        <p:blipFill>
          <a:blip r:embed="rId1"/>
          <a:stretch/>
        </p:blipFill>
        <p:spPr>
          <a:xfrm>
            <a:off x="4430880" y="3108240"/>
            <a:ext cx="1036440" cy="1414440"/>
          </a:xfrm>
          <a:prstGeom prst="rect">
            <a:avLst/>
          </a:prstGeom>
          <a:ln w="0">
            <a:noFill/>
          </a:ln>
        </p:spPr>
      </p:pic>
      <p:sp>
        <p:nvSpPr>
          <p:cNvPr id="1330" name=""/>
          <p:cNvSpPr/>
          <p:nvPr/>
        </p:nvSpPr>
        <p:spPr>
          <a:xfrm flipV="1">
            <a:off x="398520" y="1857240"/>
            <a:ext cx="0" cy="345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901440" y="5318280"/>
            <a:ext cx="289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éri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ns énergies foss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217920" y="5329080"/>
            <a:ext cx="289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éri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ns énergies foss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083440" y="1992240"/>
            <a:ext cx="95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660033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4430880" y="2170080"/>
            <a:ext cx="1036440" cy="1152720"/>
          </a:xfrm>
          <a:prstGeom prst="rect">
            <a:avLst/>
          </a:prstGeom>
          <a:ln w="0">
            <a:noFill/>
          </a:ln>
        </p:spPr>
      </p:pic>
      <p:sp>
        <p:nvSpPr>
          <p:cNvPr id="1335" name=""/>
          <p:cNvSpPr/>
          <p:nvPr/>
        </p:nvSpPr>
        <p:spPr>
          <a:xfrm>
            <a:off x="395280" y="2147760"/>
            <a:ext cx="4394160" cy="3241800"/>
          </a:xfrm>
          <a:custGeom>
            <a:avLst/>
            <a:gdLst/>
            <a:ahLst/>
            <a:rect l="l" t="t" r="r" b="b"/>
            <a:pathLst>
              <a:path w="2768" h="2042">
                <a:moveTo>
                  <a:pt x="0" y="2034"/>
                </a:moveTo>
                <a:cubicBezTo>
                  <a:pt x="143" y="2038"/>
                  <a:pt x="287" y="2042"/>
                  <a:pt x="408" y="2034"/>
                </a:cubicBezTo>
                <a:cubicBezTo>
                  <a:pt x="529" y="2026"/>
                  <a:pt x="597" y="1996"/>
                  <a:pt x="725" y="1988"/>
                </a:cubicBezTo>
                <a:cubicBezTo>
                  <a:pt x="853" y="1980"/>
                  <a:pt x="1043" y="1995"/>
                  <a:pt x="1179" y="1988"/>
                </a:cubicBezTo>
                <a:cubicBezTo>
                  <a:pt x="1315" y="1981"/>
                  <a:pt x="1391" y="1966"/>
                  <a:pt x="1542" y="1943"/>
                </a:cubicBezTo>
                <a:cubicBezTo>
                  <a:pt x="1693" y="1920"/>
                  <a:pt x="1965" y="1935"/>
                  <a:pt x="2086" y="1852"/>
                </a:cubicBezTo>
                <a:cubicBezTo>
                  <a:pt x="2207" y="1769"/>
                  <a:pt x="2207" y="1690"/>
                  <a:pt x="2267" y="1444"/>
                </a:cubicBezTo>
                <a:cubicBezTo>
                  <a:pt x="2327" y="1198"/>
                  <a:pt x="2385" y="602"/>
                  <a:pt x="2443" y="373"/>
                </a:cubicBezTo>
                <a:cubicBezTo>
                  <a:pt x="2501" y="144"/>
                  <a:pt x="2561" y="134"/>
                  <a:pt x="2615" y="72"/>
                </a:cubicBezTo>
                <a:cubicBezTo>
                  <a:pt x="2669" y="10"/>
                  <a:pt x="2736" y="15"/>
                  <a:pt x="2768" y="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3"/>
          <a:stretch/>
        </p:blipFill>
        <p:spPr>
          <a:xfrm>
            <a:off x="254160" y="3514680"/>
            <a:ext cx="852480" cy="1744560"/>
          </a:xfrm>
          <a:prstGeom prst="rect">
            <a:avLst/>
          </a:prstGeom>
          <a:ln w="0">
            <a:noFill/>
          </a:ln>
        </p:spPr>
      </p:pic>
      <p:sp>
        <p:nvSpPr>
          <p:cNvPr id="1337" name=""/>
          <p:cNvSpPr/>
          <p:nvPr/>
        </p:nvSpPr>
        <p:spPr>
          <a:xfrm>
            <a:off x="4862520" y="2146320"/>
            <a:ext cx="4119480" cy="3186000"/>
          </a:xfrm>
          <a:custGeom>
            <a:avLst/>
            <a:gdLst/>
            <a:ahLst/>
            <a:rect l="l" t="t" r="r" b="b"/>
            <a:pathLst>
              <a:path w="2595" h="2007">
                <a:moveTo>
                  <a:pt x="0" y="0"/>
                </a:moveTo>
                <a:cubicBezTo>
                  <a:pt x="47" y="22"/>
                  <a:pt x="204" y="58"/>
                  <a:pt x="284" y="134"/>
                </a:cubicBezTo>
                <a:cubicBezTo>
                  <a:pt x="364" y="210"/>
                  <a:pt x="397" y="224"/>
                  <a:pt x="479" y="456"/>
                </a:cubicBezTo>
                <a:cubicBezTo>
                  <a:pt x="561" y="688"/>
                  <a:pt x="634" y="1292"/>
                  <a:pt x="778" y="1526"/>
                </a:cubicBezTo>
                <a:cubicBezTo>
                  <a:pt x="922" y="1760"/>
                  <a:pt x="1136" y="1785"/>
                  <a:pt x="1342" y="1861"/>
                </a:cubicBezTo>
                <a:cubicBezTo>
                  <a:pt x="1548" y="1937"/>
                  <a:pt x="1808" y="1956"/>
                  <a:pt x="2017" y="1980"/>
                </a:cubicBezTo>
                <a:cubicBezTo>
                  <a:pt x="2226" y="2004"/>
                  <a:pt x="2475" y="2001"/>
                  <a:pt x="2595" y="2007"/>
                </a:cubicBezTo>
              </a:path>
            </a:pathLst>
          </a:custGeom>
          <a:noFill/>
          <a:ln w="63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843440" y="849240"/>
            <a:ext cx="4303800" cy="1266840"/>
          </a:xfrm>
          <a:custGeom>
            <a:avLst/>
            <a:gdLst/>
            <a:ahLst/>
            <a:rect l="l" t="t" r="r" b="b"/>
            <a:pathLst>
              <a:path w="2711" h="798">
                <a:moveTo>
                  <a:pt x="0" y="798"/>
                </a:moveTo>
                <a:cubicBezTo>
                  <a:pt x="47" y="773"/>
                  <a:pt x="148" y="735"/>
                  <a:pt x="280" y="660"/>
                </a:cubicBezTo>
                <a:cubicBezTo>
                  <a:pt x="412" y="585"/>
                  <a:pt x="591" y="435"/>
                  <a:pt x="793" y="344"/>
                </a:cubicBezTo>
                <a:cubicBezTo>
                  <a:pt x="996" y="252"/>
                  <a:pt x="1222" y="166"/>
                  <a:pt x="1493" y="118"/>
                </a:cubicBezTo>
                <a:cubicBezTo>
                  <a:pt x="1764" y="70"/>
                  <a:pt x="2214" y="74"/>
                  <a:pt x="2417" y="54"/>
                </a:cubicBezTo>
                <a:cubicBezTo>
                  <a:pt x="2620" y="34"/>
                  <a:pt x="2662" y="9"/>
                  <a:pt x="2711" y="0"/>
                </a:cubicBezTo>
              </a:path>
            </a:pathLst>
          </a:custGeom>
          <a:noFill/>
          <a:ln w="63360">
            <a:solidFill>
              <a:srgbClr val="800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9" name="" descr=""/>
          <p:cNvPicPr/>
          <p:nvPr/>
        </p:nvPicPr>
        <p:blipFill>
          <a:blip r:embed="rId4"/>
          <a:stretch/>
        </p:blipFill>
        <p:spPr>
          <a:xfrm>
            <a:off x="8128080" y="3586320"/>
            <a:ext cx="984240" cy="1645920"/>
          </a:xfrm>
          <a:prstGeom prst="rect">
            <a:avLst/>
          </a:prstGeom>
          <a:ln w="0">
            <a:noFill/>
          </a:ln>
        </p:spPr>
      </p:pic>
      <p:sp>
        <p:nvSpPr>
          <p:cNvPr id="1340" name=""/>
          <p:cNvSpPr/>
          <p:nvPr/>
        </p:nvSpPr>
        <p:spPr>
          <a:xfrm>
            <a:off x="2030400" y="1327320"/>
            <a:ext cx="40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esclaves / habi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J.M Jancovici 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1" name="" descr=""/>
          <p:cNvPicPr/>
          <p:nvPr/>
        </p:nvPicPr>
        <p:blipFill>
          <a:blip r:embed="rId5"/>
          <a:stretch/>
        </p:blipFill>
        <p:spPr>
          <a:xfrm>
            <a:off x="7594560" y="1055520"/>
            <a:ext cx="1295280" cy="863640"/>
          </a:xfrm>
          <a:prstGeom prst="rect">
            <a:avLst/>
          </a:prstGeom>
          <a:ln w="0">
            <a:noFill/>
          </a:ln>
        </p:spPr>
      </p:pic>
      <p:sp>
        <p:nvSpPr>
          <p:cNvPr id="1342" name=""/>
          <p:cNvSpPr/>
          <p:nvPr/>
        </p:nvSpPr>
        <p:spPr>
          <a:xfrm>
            <a:off x="1080" y="1209600"/>
            <a:ext cx="19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som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n éner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ss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862520" y="2145960"/>
            <a:ext cx="4284720" cy="71280"/>
          </a:xfrm>
          <a:custGeom>
            <a:avLst/>
            <a:gdLst/>
            <a:ahLst/>
            <a:rect l="l" t="t" r="r" b="b"/>
            <a:pathLst>
              <a:path w="2711" h="798">
                <a:moveTo>
                  <a:pt x="0" y="798"/>
                </a:moveTo>
                <a:cubicBezTo>
                  <a:pt x="47" y="773"/>
                  <a:pt x="148" y="735"/>
                  <a:pt x="280" y="660"/>
                </a:cubicBezTo>
                <a:cubicBezTo>
                  <a:pt x="412" y="585"/>
                  <a:pt x="591" y="435"/>
                  <a:pt x="793" y="344"/>
                </a:cubicBezTo>
                <a:cubicBezTo>
                  <a:pt x="996" y="252"/>
                  <a:pt x="1222" y="166"/>
                  <a:pt x="1493" y="118"/>
                </a:cubicBezTo>
                <a:cubicBezTo>
                  <a:pt x="1764" y="70"/>
                  <a:pt x="2214" y="74"/>
                  <a:pt x="2417" y="54"/>
                </a:cubicBezTo>
                <a:cubicBezTo>
                  <a:pt x="2620" y="34"/>
                  <a:pt x="2662" y="9"/>
                  <a:pt x="2711" y="0"/>
                </a:cubicBezTo>
              </a:path>
            </a:pathLst>
          </a:custGeom>
          <a:noFill/>
          <a:ln w="63360">
            <a:solidFill>
              <a:srgbClr val="800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4" name="" descr=""/>
          <p:cNvPicPr/>
          <p:nvPr/>
        </p:nvPicPr>
        <p:blipFill>
          <a:blip r:embed="rId6"/>
          <a:stretch/>
        </p:blipFill>
        <p:spPr>
          <a:xfrm>
            <a:off x="4070520" y="4378320"/>
            <a:ext cx="1944360" cy="1338120"/>
          </a:xfrm>
          <a:prstGeom prst="rect">
            <a:avLst/>
          </a:prstGeom>
          <a:ln w="0">
            <a:noFill/>
          </a:ln>
        </p:spPr>
      </p:pic>
      <p:sp>
        <p:nvSpPr>
          <p:cNvPr id="1345" name=""/>
          <p:cNvSpPr/>
          <p:nvPr/>
        </p:nvSpPr>
        <p:spPr>
          <a:xfrm>
            <a:off x="3922560" y="4449600"/>
            <a:ext cx="21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850–2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éri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vec éner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ss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712960" y="5900760"/>
            <a:ext cx="40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i à Yves Mathieu ! (IF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893880" y="0"/>
            <a:ext cx="5508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 passé vers quel aveni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1640" y="0"/>
            <a:ext cx="7664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 x 1000 + énergie x 10 = un sacré changement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218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sion de l’homme sur son environnement depuis le néolithique, figurée avec des su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529320" y="380880"/>
            <a:ext cx="63360" cy="5776560"/>
            <a:chOff x="6529320" y="380880"/>
            <a:chExt cx="63360" cy="5776560"/>
          </a:xfrm>
        </p:grpSpPr>
        <p:sp>
          <p:nvSpPr>
            <p:cNvPr id="78" name=""/>
            <p:cNvSpPr/>
            <p:nvPr/>
          </p:nvSpPr>
          <p:spPr>
            <a:xfrm>
              <a:off x="6530040" y="1568520"/>
              <a:ext cx="62640" cy="4588920"/>
            </a:xfrm>
            <a:prstGeom prst="rect">
              <a:avLst/>
            </a:prstGeom>
            <a:solidFill>
              <a:srgbClr val="a51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529320" y="380880"/>
              <a:ext cx="61560" cy="1202040"/>
            </a:xfrm>
            <a:custGeom>
              <a:avLst/>
              <a:gdLst/>
              <a:ahLst/>
              <a:rect l="l" t="t" r="r" b="b"/>
              <a:pathLst>
                <a:path w="69" h="756">
                  <a:moveTo>
                    <a:pt x="0" y="750"/>
                  </a:moveTo>
                  <a:lnTo>
                    <a:pt x="6" y="453"/>
                  </a:lnTo>
                  <a:lnTo>
                    <a:pt x="44" y="88"/>
                  </a:lnTo>
                  <a:lnTo>
                    <a:pt x="69" y="0"/>
                  </a:lnTo>
                  <a:lnTo>
                    <a:pt x="69" y="756"/>
                  </a:lnTo>
                </a:path>
              </a:pathLst>
            </a:custGeom>
            <a:solidFill>
              <a:srgbClr val="a51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077840" y="3189240"/>
            <a:ext cx="350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 « taille de la bo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te » (l’environnement)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n’est pas vraiment un problè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32280" y="4113360"/>
            <a:ext cx="2292480" cy="186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81200" y="1293840"/>
            <a:ext cx="269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 « taille de la bo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te » (l’environnement)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est en train de devenir un problème maj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245120" y="455760"/>
            <a:ext cx="2301840" cy="96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5392800"/>
            <a:ext cx="6319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23800" y="509760"/>
            <a:ext cx="8163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ie fournie par un organisme humai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2920" y="1077840"/>
            <a:ext cx="8305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étabolisme de base d’un individu au repos : 2,5 kWh par jour (correspond à 2000 Calories d’aliment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2920" y="1849320"/>
            <a:ext cx="82436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.000 mètres de dénivelée pour une personne de 65 kg (facile !) : 0,5 kWh d’énergie mécanique (rappel pour les sceptiques : E = mgh ; ici E = 50 x 9,81 x 3500 ≈ 1,9  MJ ≈ 0,5 kW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2920" y="3051000"/>
            <a:ext cx="82404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 grand trou pour les géraniums, soit 18 tonnes de terre remontée de 1 mètre : 0,05 kWh d’énergie mécanique (pour les m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êm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ceptiques : E vaut toujours mgh ; ici E = 18000 x 9,81 x 1 ≈ 0,18  MJ = 0,05 kW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920" y="4433760"/>
            <a:ext cx="847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litre d’essence, c’est (roulement de tambour)… 10 k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9840" y="0"/>
            <a:ext cx="73915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’énergie ne vaut rien : elle a fait du smicard un nab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2920" y="5192640"/>
            <a:ext cx="84722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l y a autant d’énergie mécanique dans un 1 litre d’essence que dans 10 paires de jambes ou 100 paires de bras sur une journé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8360" y="770040"/>
            <a:ext cx="8721720" cy="5164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88920" y="0"/>
            <a:ext cx="6532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etzsche voulait des surhommes : nous vo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21280"/>
            <a:ext cx="9144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Equivalent esclave » à la disposition de chaque Français de l’an 2000. Qui est modeste ?!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 de l’auteur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11160" y="1027080"/>
            <a:ext cx="706320" cy="676080"/>
            <a:chOff x="911160" y="1027080"/>
            <a:chExt cx="706320" cy="676080"/>
          </a:xfrm>
        </p:grpSpPr>
        <p:sp>
          <p:nvSpPr>
            <p:cNvPr id="96" name=""/>
            <p:cNvSpPr/>
            <p:nvPr/>
          </p:nvSpPr>
          <p:spPr>
            <a:xfrm>
              <a:off x="1184760" y="1223280"/>
              <a:ext cx="220320" cy="265320"/>
            </a:xfrm>
            <a:custGeom>
              <a:avLst/>
              <a:gdLst/>
              <a:ahLst/>
              <a:rect l="l" t="t" r="r" b="b"/>
              <a:pathLst>
                <a:path w="264" h="374">
                  <a:moveTo>
                    <a:pt x="64" y="374"/>
                  </a:moveTo>
                  <a:lnTo>
                    <a:pt x="49" y="372"/>
                  </a:lnTo>
                  <a:lnTo>
                    <a:pt x="36" y="366"/>
                  </a:lnTo>
                  <a:lnTo>
                    <a:pt x="25" y="358"/>
                  </a:lnTo>
                  <a:lnTo>
                    <a:pt x="16" y="349"/>
                  </a:lnTo>
                  <a:lnTo>
                    <a:pt x="9" y="338"/>
                  </a:lnTo>
                  <a:lnTo>
                    <a:pt x="3" y="327"/>
                  </a:lnTo>
                  <a:lnTo>
                    <a:pt x="1" y="318"/>
                  </a:lnTo>
                  <a:lnTo>
                    <a:pt x="0" y="310"/>
                  </a:lnTo>
                  <a:lnTo>
                    <a:pt x="0" y="284"/>
                  </a:lnTo>
                  <a:lnTo>
                    <a:pt x="0" y="238"/>
                  </a:lnTo>
                  <a:lnTo>
                    <a:pt x="0" y="180"/>
                  </a:lnTo>
                  <a:lnTo>
                    <a:pt x="0" y="113"/>
                  </a:lnTo>
                  <a:lnTo>
                    <a:pt x="3" y="82"/>
                  </a:lnTo>
                  <a:lnTo>
                    <a:pt x="13" y="56"/>
                  </a:lnTo>
                  <a:lnTo>
                    <a:pt x="26" y="37"/>
                  </a:lnTo>
                  <a:lnTo>
                    <a:pt x="44" y="22"/>
                  </a:lnTo>
                  <a:lnTo>
                    <a:pt x="62" y="12"/>
                  </a:lnTo>
                  <a:lnTo>
                    <a:pt x="81" y="5"/>
                  </a:lnTo>
                  <a:lnTo>
                    <a:pt x="98" y="1"/>
                  </a:lnTo>
                  <a:lnTo>
                    <a:pt x="113" y="0"/>
                  </a:lnTo>
                  <a:lnTo>
                    <a:pt x="150" y="0"/>
                  </a:lnTo>
                  <a:lnTo>
                    <a:pt x="165" y="1"/>
                  </a:lnTo>
                  <a:lnTo>
                    <a:pt x="182" y="5"/>
                  </a:lnTo>
                  <a:lnTo>
                    <a:pt x="201" y="12"/>
                  </a:lnTo>
                  <a:lnTo>
                    <a:pt x="220" y="22"/>
                  </a:lnTo>
                  <a:lnTo>
                    <a:pt x="237" y="37"/>
                  </a:lnTo>
                  <a:lnTo>
                    <a:pt x="251" y="56"/>
                  </a:lnTo>
                  <a:lnTo>
                    <a:pt x="260" y="82"/>
                  </a:lnTo>
                  <a:lnTo>
                    <a:pt x="264" y="113"/>
                  </a:lnTo>
                  <a:lnTo>
                    <a:pt x="264" y="180"/>
                  </a:lnTo>
                  <a:lnTo>
                    <a:pt x="264" y="238"/>
                  </a:lnTo>
                  <a:lnTo>
                    <a:pt x="264" y="284"/>
                  </a:lnTo>
                  <a:lnTo>
                    <a:pt x="264" y="310"/>
                  </a:lnTo>
                  <a:lnTo>
                    <a:pt x="262" y="318"/>
                  </a:lnTo>
                  <a:lnTo>
                    <a:pt x="260" y="327"/>
                  </a:lnTo>
                  <a:lnTo>
                    <a:pt x="254" y="338"/>
                  </a:lnTo>
                  <a:lnTo>
                    <a:pt x="247" y="349"/>
                  </a:lnTo>
                  <a:lnTo>
                    <a:pt x="238" y="358"/>
                  </a:lnTo>
                  <a:lnTo>
                    <a:pt x="228" y="366"/>
                  </a:lnTo>
                  <a:lnTo>
                    <a:pt x="214" y="372"/>
                  </a:lnTo>
                  <a:lnTo>
                    <a:pt x="199" y="374"/>
                  </a:lnTo>
                  <a:lnTo>
                    <a:pt x="64" y="374"/>
                  </a:lnTo>
                  <a:close/>
                </a:path>
              </a:pathLst>
            </a:custGeom>
            <a:solidFill>
              <a:srgbClr val="99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84760" y="1223280"/>
              <a:ext cx="220320" cy="265320"/>
            </a:xfrm>
            <a:custGeom>
              <a:avLst/>
              <a:gdLst/>
              <a:ahLst/>
              <a:rect l="l" t="t" r="r" b="b"/>
              <a:pathLst>
                <a:path w="264" h="374">
                  <a:moveTo>
                    <a:pt x="64" y="374"/>
                  </a:moveTo>
                  <a:lnTo>
                    <a:pt x="64" y="374"/>
                  </a:lnTo>
                  <a:lnTo>
                    <a:pt x="49" y="372"/>
                  </a:lnTo>
                  <a:lnTo>
                    <a:pt x="36" y="366"/>
                  </a:lnTo>
                  <a:lnTo>
                    <a:pt x="25" y="358"/>
                  </a:lnTo>
                  <a:lnTo>
                    <a:pt x="16" y="349"/>
                  </a:lnTo>
                  <a:lnTo>
                    <a:pt x="9" y="338"/>
                  </a:lnTo>
                  <a:lnTo>
                    <a:pt x="3" y="327"/>
                  </a:lnTo>
                  <a:lnTo>
                    <a:pt x="1" y="318"/>
                  </a:lnTo>
                  <a:lnTo>
                    <a:pt x="0" y="310"/>
                  </a:lnTo>
                  <a:lnTo>
                    <a:pt x="0" y="310"/>
                  </a:lnTo>
                  <a:lnTo>
                    <a:pt x="0" y="284"/>
                  </a:lnTo>
                  <a:lnTo>
                    <a:pt x="0" y="238"/>
                  </a:lnTo>
                  <a:lnTo>
                    <a:pt x="0" y="180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3" y="82"/>
                  </a:lnTo>
                  <a:lnTo>
                    <a:pt x="13" y="56"/>
                  </a:lnTo>
                  <a:lnTo>
                    <a:pt x="26" y="37"/>
                  </a:lnTo>
                  <a:lnTo>
                    <a:pt x="44" y="22"/>
                  </a:lnTo>
                  <a:lnTo>
                    <a:pt x="62" y="12"/>
                  </a:lnTo>
                  <a:lnTo>
                    <a:pt x="81" y="5"/>
                  </a:lnTo>
                  <a:lnTo>
                    <a:pt x="98" y="1"/>
                  </a:lnTo>
                  <a:lnTo>
                    <a:pt x="113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65" y="1"/>
                  </a:lnTo>
                  <a:lnTo>
                    <a:pt x="182" y="5"/>
                  </a:lnTo>
                  <a:lnTo>
                    <a:pt x="201" y="12"/>
                  </a:lnTo>
                  <a:lnTo>
                    <a:pt x="220" y="22"/>
                  </a:lnTo>
                  <a:lnTo>
                    <a:pt x="237" y="37"/>
                  </a:lnTo>
                  <a:lnTo>
                    <a:pt x="251" y="56"/>
                  </a:lnTo>
                  <a:lnTo>
                    <a:pt x="260" y="82"/>
                  </a:lnTo>
                  <a:lnTo>
                    <a:pt x="264" y="113"/>
                  </a:lnTo>
                  <a:lnTo>
                    <a:pt x="264" y="113"/>
                  </a:lnTo>
                  <a:lnTo>
                    <a:pt x="264" y="180"/>
                  </a:lnTo>
                  <a:lnTo>
                    <a:pt x="264" y="238"/>
                  </a:lnTo>
                  <a:lnTo>
                    <a:pt x="264" y="284"/>
                  </a:lnTo>
                  <a:lnTo>
                    <a:pt x="264" y="310"/>
                  </a:lnTo>
                  <a:lnTo>
                    <a:pt x="264" y="310"/>
                  </a:lnTo>
                  <a:lnTo>
                    <a:pt x="262" y="318"/>
                  </a:lnTo>
                  <a:lnTo>
                    <a:pt x="260" y="327"/>
                  </a:lnTo>
                  <a:lnTo>
                    <a:pt x="254" y="338"/>
                  </a:lnTo>
                  <a:lnTo>
                    <a:pt x="247" y="349"/>
                  </a:lnTo>
                  <a:lnTo>
                    <a:pt x="238" y="358"/>
                  </a:lnTo>
                  <a:lnTo>
                    <a:pt x="228" y="366"/>
                  </a:lnTo>
                  <a:lnTo>
                    <a:pt x="214" y="372"/>
                  </a:lnTo>
                  <a:lnTo>
                    <a:pt x="199" y="374"/>
                  </a:lnTo>
                  <a:lnTo>
                    <a:pt x="64" y="3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11160" y="1270080"/>
              <a:ext cx="215280" cy="394920"/>
            </a:xfrm>
            <a:custGeom>
              <a:avLst/>
              <a:gdLst/>
              <a:ahLst/>
              <a:rect l="l" t="t" r="r" b="b"/>
              <a:pathLst>
                <a:path w="257" h="555">
                  <a:moveTo>
                    <a:pt x="104" y="0"/>
                  </a:moveTo>
                  <a:lnTo>
                    <a:pt x="89" y="2"/>
                  </a:lnTo>
                  <a:lnTo>
                    <a:pt x="73" y="7"/>
                  </a:lnTo>
                  <a:lnTo>
                    <a:pt x="56" y="16"/>
                  </a:lnTo>
                  <a:lnTo>
                    <a:pt x="40" y="31"/>
                  </a:lnTo>
                  <a:lnTo>
                    <a:pt x="26" y="52"/>
                  </a:lnTo>
                  <a:lnTo>
                    <a:pt x="14" y="79"/>
                  </a:lnTo>
                  <a:lnTo>
                    <a:pt x="6" y="116"/>
                  </a:lnTo>
                  <a:lnTo>
                    <a:pt x="1" y="162"/>
                  </a:lnTo>
                  <a:lnTo>
                    <a:pt x="0" y="212"/>
                  </a:lnTo>
                  <a:lnTo>
                    <a:pt x="1" y="259"/>
                  </a:lnTo>
                  <a:lnTo>
                    <a:pt x="5" y="301"/>
                  </a:lnTo>
                  <a:lnTo>
                    <a:pt x="8" y="342"/>
                  </a:lnTo>
                  <a:lnTo>
                    <a:pt x="13" y="377"/>
                  </a:lnTo>
                  <a:lnTo>
                    <a:pt x="18" y="410"/>
                  </a:lnTo>
                  <a:lnTo>
                    <a:pt x="25" y="437"/>
                  </a:lnTo>
                  <a:lnTo>
                    <a:pt x="32" y="461"/>
                  </a:lnTo>
                  <a:lnTo>
                    <a:pt x="40" y="482"/>
                  </a:lnTo>
                  <a:lnTo>
                    <a:pt x="51" y="500"/>
                  </a:lnTo>
                  <a:lnTo>
                    <a:pt x="62" y="517"/>
                  </a:lnTo>
                  <a:lnTo>
                    <a:pt x="77" y="530"/>
                  </a:lnTo>
                  <a:lnTo>
                    <a:pt x="93" y="542"/>
                  </a:lnTo>
                  <a:lnTo>
                    <a:pt x="111" y="550"/>
                  </a:lnTo>
                  <a:lnTo>
                    <a:pt x="131" y="553"/>
                  </a:lnTo>
                  <a:lnTo>
                    <a:pt x="153" y="555"/>
                  </a:lnTo>
                  <a:lnTo>
                    <a:pt x="175" y="551"/>
                  </a:lnTo>
                  <a:lnTo>
                    <a:pt x="195" y="543"/>
                  </a:lnTo>
                  <a:lnTo>
                    <a:pt x="213" y="530"/>
                  </a:lnTo>
                  <a:lnTo>
                    <a:pt x="228" y="514"/>
                  </a:lnTo>
                  <a:lnTo>
                    <a:pt x="239" y="492"/>
                  </a:lnTo>
                  <a:lnTo>
                    <a:pt x="249" y="467"/>
                  </a:lnTo>
                  <a:lnTo>
                    <a:pt x="254" y="437"/>
                  </a:lnTo>
                  <a:lnTo>
                    <a:pt x="257" y="403"/>
                  </a:lnTo>
                  <a:lnTo>
                    <a:pt x="254" y="325"/>
                  </a:lnTo>
                  <a:lnTo>
                    <a:pt x="249" y="244"/>
                  </a:lnTo>
                  <a:lnTo>
                    <a:pt x="238" y="168"/>
                  </a:lnTo>
                  <a:lnTo>
                    <a:pt x="226" y="103"/>
                  </a:lnTo>
                  <a:lnTo>
                    <a:pt x="219" y="77"/>
                  </a:lnTo>
                  <a:lnTo>
                    <a:pt x="211" y="55"/>
                  </a:lnTo>
                  <a:lnTo>
                    <a:pt x="200" y="37"/>
                  </a:lnTo>
                  <a:lnTo>
                    <a:pt x="188" y="22"/>
                  </a:lnTo>
                  <a:lnTo>
                    <a:pt x="172" y="10"/>
                  </a:lnTo>
                  <a:lnTo>
                    <a:pt x="153" y="3"/>
                  </a:lnTo>
                  <a:lnTo>
                    <a:pt x="130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3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11160" y="1270080"/>
              <a:ext cx="215280" cy="394920"/>
            </a:xfrm>
            <a:custGeom>
              <a:avLst/>
              <a:gdLst/>
              <a:ahLst/>
              <a:rect l="l" t="t" r="r" b="b"/>
              <a:pathLst>
                <a:path w="257" h="555">
                  <a:moveTo>
                    <a:pt x="104" y="0"/>
                  </a:moveTo>
                  <a:lnTo>
                    <a:pt x="104" y="0"/>
                  </a:lnTo>
                  <a:lnTo>
                    <a:pt x="89" y="2"/>
                  </a:lnTo>
                  <a:lnTo>
                    <a:pt x="73" y="7"/>
                  </a:lnTo>
                  <a:lnTo>
                    <a:pt x="56" y="16"/>
                  </a:lnTo>
                  <a:lnTo>
                    <a:pt x="40" y="31"/>
                  </a:lnTo>
                  <a:lnTo>
                    <a:pt x="26" y="52"/>
                  </a:lnTo>
                  <a:lnTo>
                    <a:pt x="14" y="79"/>
                  </a:lnTo>
                  <a:lnTo>
                    <a:pt x="6" y="116"/>
                  </a:lnTo>
                  <a:lnTo>
                    <a:pt x="1" y="162"/>
                  </a:lnTo>
                  <a:lnTo>
                    <a:pt x="1" y="162"/>
                  </a:lnTo>
                  <a:lnTo>
                    <a:pt x="0" y="212"/>
                  </a:lnTo>
                  <a:lnTo>
                    <a:pt x="1" y="259"/>
                  </a:lnTo>
                  <a:lnTo>
                    <a:pt x="5" y="301"/>
                  </a:lnTo>
                  <a:lnTo>
                    <a:pt x="8" y="342"/>
                  </a:lnTo>
                  <a:lnTo>
                    <a:pt x="13" y="377"/>
                  </a:lnTo>
                  <a:lnTo>
                    <a:pt x="18" y="410"/>
                  </a:lnTo>
                  <a:lnTo>
                    <a:pt x="25" y="437"/>
                  </a:lnTo>
                  <a:lnTo>
                    <a:pt x="32" y="461"/>
                  </a:lnTo>
                  <a:lnTo>
                    <a:pt x="32" y="461"/>
                  </a:lnTo>
                  <a:lnTo>
                    <a:pt x="40" y="482"/>
                  </a:lnTo>
                  <a:lnTo>
                    <a:pt x="51" y="500"/>
                  </a:lnTo>
                  <a:lnTo>
                    <a:pt x="62" y="517"/>
                  </a:lnTo>
                  <a:lnTo>
                    <a:pt x="77" y="530"/>
                  </a:lnTo>
                  <a:lnTo>
                    <a:pt x="93" y="542"/>
                  </a:lnTo>
                  <a:lnTo>
                    <a:pt x="111" y="550"/>
                  </a:lnTo>
                  <a:lnTo>
                    <a:pt x="131" y="553"/>
                  </a:lnTo>
                  <a:lnTo>
                    <a:pt x="153" y="555"/>
                  </a:lnTo>
                  <a:lnTo>
                    <a:pt x="153" y="555"/>
                  </a:lnTo>
                  <a:lnTo>
                    <a:pt x="175" y="551"/>
                  </a:lnTo>
                  <a:lnTo>
                    <a:pt x="195" y="543"/>
                  </a:lnTo>
                  <a:lnTo>
                    <a:pt x="213" y="530"/>
                  </a:lnTo>
                  <a:lnTo>
                    <a:pt x="228" y="514"/>
                  </a:lnTo>
                  <a:lnTo>
                    <a:pt x="239" y="492"/>
                  </a:lnTo>
                  <a:lnTo>
                    <a:pt x="249" y="467"/>
                  </a:lnTo>
                  <a:lnTo>
                    <a:pt x="254" y="437"/>
                  </a:lnTo>
                  <a:lnTo>
                    <a:pt x="257" y="403"/>
                  </a:lnTo>
                  <a:lnTo>
                    <a:pt x="257" y="403"/>
                  </a:lnTo>
                  <a:lnTo>
                    <a:pt x="254" y="325"/>
                  </a:lnTo>
                  <a:lnTo>
                    <a:pt x="249" y="244"/>
                  </a:lnTo>
                  <a:lnTo>
                    <a:pt x="238" y="168"/>
                  </a:lnTo>
                  <a:lnTo>
                    <a:pt x="226" y="103"/>
                  </a:lnTo>
                  <a:lnTo>
                    <a:pt x="226" y="103"/>
                  </a:lnTo>
                  <a:lnTo>
                    <a:pt x="219" y="77"/>
                  </a:lnTo>
                  <a:lnTo>
                    <a:pt x="211" y="55"/>
                  </a:lnTo>
                  <a:lnTo>
                    <a:pt x="200" y="37"/>
                  </a:lnTo>
                  <a:lnTo>
                    <a:pt x="188" y="22"/>
                  </a:lnTo>
                  <a:lnTo>
                    <a:pt x="172" y="10"/>
                  </a:lnTo>
                  <a:lnTo>
                    <a:pt x="153" y="3"/>
                  </a:lnTo>
                  <a:lnTo>
                    <a:pt x="130" y="0"/>
                  </a:lnTo>
                  <a:lnTo>
                    <a:pt x="10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10400" y="1223280"/>
              <a:ext cx="278640" cy="265320"/>
            </a:xfrm>
            <a:custGeom>
              <a:avLst/>
              <a:gdLst/>
              <a:ahLst/>
              <a:rect l="l" t="t" r="r" b="b"/>
              <a:pathLst>
                <a:path w="333" h="374">
                  <a:moveTo>
                    <a:pt x="49" y="374"/>
                  </a:moveTo>
                  <a:lnTo>
                    <a:pt x="64" y="372"/>
                  </a:lnTo>
                  <a:lnTo>
                    <a:pt x="78" y="366"/>
                  </a:lnTo>
                  <a:lnTo>
                    <a:pt x="88" y="358"/>
                  </a:lnTo>
                  <a:lnTo>
                    <a:pt x="97" y="349"/>
                  </a:lnTo>
                  <a:lnTo>
                    <a:pt x="104" y="338"/>
                  </a:lnTo>
                  <a:lnTo>
                    <a:pt x="110" y="327"/>
                  </a:lnTo>
                  <a:lnTo>
                    <a:pt x="112" y="318"/>
                  </a:lnTo>
                  <a:lnTo>
                    <a:pt x="114" y="310"/>
                  </a:lnTo>
                  <a:lnTo>
                    <a:pt x="114" y="284"/>
                  </a:lnTo>
                  <a:lnTo>
                    <a:pt x="114" y="238"/>
                  </a:lnTo>
                  <a:lnTo>
                    <a:pt x="114" y="180"/>
                  </a:lnTo>
                  <a:lnTo>
                    <a:pt x="114" y="113"/>
                  </a:lnTo>
                  <a:lnTo>
                    <a:pt x="110" y="82"/>
                  </a:lnTo>
                  <a:lnTo>
                    <a:pt x="101" y="56"/>
                  </a:lnTo>
                  <a:lnTo>
                    <a:pt x="87" y="37"/>
                  </a:lnTo>
                  <a:lnTo>
                    <a:pt x="70" y="22"/>
                  </a:lnTo>
                  <a:lnTo>
                    <a:pt x="51" y="12"/>
                  </a:lnTo>
                  <a:lnTo>
                    <a:pt x="32" y="5"/>
                  </a:lnTo>
                  <a:lnTo>
                    <a:pt x="15" y="1"/>
                  </a:lnTo>
                  <a:lnTo>
                    <a:pt x="0" y="0"/>
                  </a:lnTo>
                  <a:lnTo>
                    <a:pt x="221" y="0"/>
                  </a:lnTo>
                  <a:lnTo>
                    <a:pt x="236" y="1"/>
                  </a:lnTo>
                  <a:lnTo>
                    <a:pt x="253" y="5"/>
                  </a:lnTo>
                  <a:lnTo>
                    <a:pt x="271" y="12"/>
                  </a:lnTo>
                  <a:lnTo>
                    <a:pt x="290" y="22"/>
                  </a:lnTo>
                  <a:lnTo>
                    <a:pt x="307" y="37"/>
                  </a:lnTo>
                  <a:lnTo>
                    <a:pt x="321" y="56"/>
                  </a:lnTo>
                  <a:lnTo>
                    <a:pt x="330" y="82"/>
                  </a:lnTo>
                  <a:lnTo>
                    <a:pt x="333" y="113"/>
                  </a:lnTo>
                  <a:lnTo>
                    <a:pt x="333" y="180"/>
                  </a:lnTo>
                  <a:lnTo>
                    <a:pt x="333" y="238"/>
                  </a:lnTo>
                  <a:lnTo>
                    <a:pt x="333" y="284"/>
                  </a:lnTo>
                  <a:lnTo>
                    <a:pt x="333" y="310"/>
                  </a:lnTo>
                  <a:lnTo>
                    <a:pt x="332" y="318"/>
                  </a:lnTo>
                  <a:lnTo>
                    <a:pt x="330" y="327"/>
                  </a:lnTo>
                  <a:lnTo>
                    <a:pt x="324" y="338"/>
                  </a:lnTo>
                  <a:lnTo>
                    <a:pt x="317" y="349"/>
                  </a:lnTo>
                  <a:lnTo>
                    <a:pt x="308" y="358"/>
                  </a:lnTo>
                  <a:lnTo>
                    <a:pt x="298" y="366"/>
                  </a:lnTo>
                  <a:lnTo>
                    <a:pt x="284" y="372"/>
                  </a:lnTo>
                  <a:lnTo>
                    <a:pt x="269" y="374"/>
                  </a:lnTo>
                  <a:lnTo>
                    <a:pt x="49" y="37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10400" y="1223280"/>
              <a:ext cx="278640" cy="265320"/>
            </a:xfrm>
            <a:custGeom>
              <a:avLst/>
              <a:gdLst/>
              <a:ahLst/>
              <a:rect l="l" t="t" r="r" b="b"/>
              <a:pathLst>
                <a:path w="333" h="374">
                  <a:moveTo>
                    <a:pt x="49" y="374"/>
                  </a:moveTo>
                  <a:lnTo>
                    <a:pt x="49" y="374"/>
                  </a:lnTo>
                  <a:lnTo>
                    <a:pt x="64" y="372"/>
                  </a:lnTo>
                  <a:lnTo>
                    <a:pt x="78" y="366"/>
                  </a:lnTo>
                  <a:lnTo>
                    <a:pt x="88" y="358"/>
                  </a:lnTo>
                  <a:lnTo>
                    <a:pt x="97" y="349"/>
                  </a:lnTo>
                  <a:lnTo>
                    <a:pt x="104" y="338"/>
                  </a:lnTo>
                  <a:lnTo>
                    <a:pt x="110" y="327"/>
                  </a:lnTo>
                  <a:lnTo>
                    <a:pt x="112" y="318"/>
                  </a:lnTo>
                  <a:lnTo>
                    <a:pt x="114" y="310"/>
                  </a:lnTo>
                  <a:lnTo>
                    <a:pt x="114" y="310"/>
                  </a:lnTo>
                  <a:lnTo>
                    <a:pt x="114" y="284"/>
                  </a:lnTo>
                  <a:lnTo>
                    <a:pt x="114" y="238"/>
                  </a:lnTo>
                  <a:lnTo>
                    <a:pt x="114" y="180"/>
                  </a:lnTo>
                  <a:lnTo>
                    <a:pt x="114" y="113"/>
                  </a:lnTo>
                  <a:lnTo>
                    <a:pt x="114" y="113"/>
                  </a:lnTo>
                  <a:lnTo>
                    <a:pt x="110" y="82"/>
                  </a:lnTo>
                  <a:lnTo>
                    <a:pt x="101" y="56"/>
                  </a:lnTo>
                  <a:lnTo>
                    <a:pt x="87" y="37"/>
                  </a:lnTo>
                  <a:lnTo>
                    <a:pt x="70" y="22"/>
                  </a:lnTo>
                  <a:lnTo>
                    <a:pt x="51" y="12"/>
                  </a:lnTo>
                  <a:lnTo>
                    <a:pt x="32" y="5"/>
                  </a:lnTo>
                  <a:lnTo>
                    <a:pt x="15" y="1"/>
                  </a:lnTo>
                  <a:lnTo>
                    <a:pt x="0" y="0"/>
                  </a:lnTo>
                  <a:lnTo>
                    <a:pt x="221" y="0"/>
                  </a:lnTo>
                  <a:lnTo>
                    <a:pt x="221" y="0"/>
                  </a:lnTo>
                  <a:lnTo>
                    <a:pt x="236" y="1"/>
                  </a:lnTo>
                  <a:lnTo>
                    <a:pt x="253" y="5"/>
                  </a:lnTo>
                  <a:lnTo>
                    <a:pt x="271" y="12"/>
                  </a:lnTo>
                  <a:lnTo>
                    <a:pt x="290" y="22"/>
                  </a:lnTo>
                  <a:lnTo>
                    <a:pt x="307" y="37"/>
                  </a:lnTo>
                  <a:lnTo>
                    <a:pt x="321" y="56"/>
                  </a:lnTo>
                  <a:lnTo>
                    <a:pt x="330" y="82"/>
                  </a:lnTo>
                  <a:lnTo>
                    <a:pt x="333" y="113"/>
                  </a:lnTo>
                  <a:lnTo>
                    <a:pt x="333" y="113"/>
                  </a:lnTo>
                  <a:lnTo>
                    <a:pt x="333" y="180"/>
                  </a:lnTo>
                  <a:lnTo>
                    <a:pt x="333" y="238"/>
                  </a:lnTo>
                  <a:lnTo>
                    <a:pt x="333" y="284"/>
                  </a:lnTo>
                  <a:lnTo>
                    <a:pt x="333" y="310"/>
                  </a:lnTo>
                  <a:lnTo>
                    <a:pt x="333" y="310"/>
                  </a:lnTo>
                  <a:lnTo>
                    <a:pt x="332" y="318"/>
                  </a:lnTo>
                  <a:lnTo>
                    <a:pt x="330" y="327"/>
                  </a:lnTo>
                  <a:lnTo>
                    <a:pt x="324" y="338"/>
                  </a:lnTo>
                  <a:lnTo>
                    <a:pt x="317" y="349"/>
                  </a:lnTo>
                  <a:lnTo>
                    <a:pt x="308" y="358"/>
                  </a:lnTo>
                  <a:lnTo>
                    <a:pt x="298" y="366"/>
                  </a:lnTo>
                  <a:lnTo>
                    <a:pt x="284" y="372"/>
                  </a:lnTo>
                  <a:lnTo>
                    <a:pt x="269" y="374"/>
                  </a:lnTo>
                  <a:lnTo>
                    <a:pt x="49" y="3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87160" y="1275840"/>
              <a:ext cx="70200" cy="66600"/>
            </a:xfrm>
            <a:custGeom>
              <a:avLst/>
              <a:gdLst/>
              <a:ahLst/>
              <a:rect l="l" t="t" r="r" b="b"/>
              <a:pathLst>
                <a:path w="84" h="93">
                  <a:moveTo>
                    <a:pt x="84" y="21"/>
                  </a:moveTo>
                  <a:lnTo>
                    <a:pt x="82" y="15"/>
                  </a:lnTo>
                  <a:lnTo>
                    <a:pt x="79" y="8"/>
                  </a:lnTo>
                  <a:lnTo>
                    <a:pt x="72" y="2"/>
                  </a:lnTo>
                  <a:lnTo>
                    <a:pt x="63" y="0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5" y="85"/>
                  </a:lnTo>
                  <a:lnTo>
                    <a:pt x="11" y="91"/>
                  </a:lnTo>
                  <a:lnTo>
                    <a:pt x="20" y="93"/>
                  </a:lnTo>
                  <a:lnTo>
                    <a:pt x="63" y="93"/>
                  </a:lnTo>
                  <a:lnTo>
                    <a:pt x="72" y="91"/>
                  </a:lnTo>
                  <a:lnTo>
                    <a:pt x="79" y="85"/>
                  </a:lnTo>
                  <a:lnTo>
                    <a:pt x="82" y="78"/>
                  </a:lnTo>
                  <a:lnTo>
                    <a:pt x="84" y="72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87160" y="1275840"/>
              <a:ext cx="70200" cy="66600"/>
            </a:xfrm>
            <a:custGeom>
              <a:avLst/>
              <a:gdLst/>
              <a:ahLst/>
              <a:rect l="l" t="t" r="r" b="b"/>
              <a:pathLst>
                <a:path w="84" h="93">
                  <a:moveTo>
                    <a:pt x="84" y="21"/>
                  </a:moveTo>
                  <a:lnTo>
                    <a:pt x="84" y="21"/>
                  </a:lnTo>
                  <a:lnTo>
                    <a:pt x="82" y="15"/>
                  </a:lnTo>
                  <a:lnTo>
                    <a:pt x="79" y="8"/>
                  </a:lnTo>
                  <a:lnTo>
                    <a:pt x="72" y="2"/>
                  </a:lnTo>
                  <a:lnTo>
                    <a:pt x="63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5" y="85"/>
                  </a:lnTo>
                  <a:lnTo>
                    <a:pt x="11" y="91"/>
                  </a:lnTo>
                  <a:lnTo>
                    <a:pt x="20" y="93"/>
                  </a:lnTo>
                  <a:lnTo>
                    <a:pt x="63" y="93"/>
                  </a:lnTo>
                  <a:lnTo>
                    <a:pt x="63" y="93"/>
                  </a:lnTo>
                  <a:lnTo>
                    <a:pt x="72" y="91"/>
                  </a:lnTo>
                  <a:lnTo>
                    <a:pt x="79" y="85"/>
                  </a:lnTo>
                  <a:lnTo>
                    <a:pt x="82" y="78"/>
                  </a:lnTo>
                  <a:lnTo>
                    <a:pt x="84" y="72"/>
                  </a:lnTo>
                  <a:lnTo>
                    <a:pt x="84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93400" y="1202040"/>
              <a:ext cx="110160" cy="9900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22" y="130"/>
                  </a:moveTo>
                  <a:lnTo>
                    <a:pt x="32" y="136"/>
                  </a:lnTo>
                  <a:lnTo>
                    <a:pt x="44" y="139"/>
                  </a:lnTo>
                  <a:lnTo>
                    <a:pt x="57" y="139"/>
                  </a:lnTo>
                  <a:lnTo>
                    <a:pt x="69" y="138"/>
                  </a:lnTo>
                  <a:lnTo>
                    <a:pt x="82" y="134"/>
                  </a:lnTo>
                  <a:lnTo>
                    <a:pt x="95" y="127"/>
                  </a:lnTo>
                  <a:lnTo>
                    <a:pt x="105" y="117"/>
                  </a:lnTo>
                  <a:lnTo>
                    <a:pt x="115" y="106"/>
                  </a:lnTo>
                  <a:lnTo>
                    <a:pt x="129" y="81"/>
                  </a:lnTo>
                  <a:lnTo>
                    <a:pt x="133" y="53"/>
                  </a:lnTo>
                  <a:lnTo>
                    <a:pt x="127" y="29"/>
                  </a:lnTo>
                  <a:lnTo>
                    <a:pt x="111" y="9"/>
                  </a:lnTo>
                  <a:lnTo>
                    <a:pt x="99" y="4"/>
                  </a:lnTo>
                  <a:lnTo>
                    <a:pt x="88" y="0"/>
                  </a:lnTo>
                  <a:lnTo>
                    <a:pt x="75" y="0"/>
                  </a:lnTo>
                  <a:lnTo>
                    <a:pt x="62" y="1"/>
                  </a:lnTo>
                  <a:lnTo>
                    <a:pt x="50" y="6"/>
                  </a:lnTo>
                  <a:lnTo>
                    <a:pt x="38" y="13"/>
                  </a:lnTo>
                  <a:lnTo>
                    <a:pt x="27" y="22"/>
                  </a:lnTo>
                  <a:lnTo>
                    <a:pt x="16" y="33"/>
                  </a:lnTo>
                  <a:lnTo>
                    <a:pt x="4" y="59"/>
                  </a:lnTo>
                  <a:lnTo>
                    <a:pt x="0" y="86"/>
                  </a:lnTo>
                  <a:lnTo>
                    <a:pt x="6" y="111"/>
                  </a:lnTo>
                  <a:lnTo>
                    <a:pt x="22" y="1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93400" y="1202040"/>
              <a:ext cx="110160" cy="9900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22" y="130"/>
                  </a:moveTo>
                  <a:lnTo>
                    <a:pt x="22" y="130"/>
                  </a:lnTo>
                  <a:lnTo>
                    <a:pt x="32" y="136"/>
                  </a:lnTo>
                  <a:lnTo>
                    <a:pt x="44" y="139"/>
                  </a:lnTo>
                  <a:lnTo>
                    <a:pt x="57" y="139"/>
                  </a:lnTo>
                  <a:lnTo>
                    <a:pt x="69" y="138"/>
                  </a:lnTo>
                  <a:lnTo>
                    <a:pt x="82" y="134"/>
                  </a:lnTo>
                  <a:lnTo>
                    <a:pt x="95" y="127"/>
                  </a:lnTo>
                  <a:lnTo>
                    <a:pt x="105" y="117"/>
                  </a:lnTo>
                  <a:lnTo>
                    <a:pt x="115" y="106"/>
                  </a:lnTo>
                  <a:lnTo>
                    <a:pt x="115" y="106"/>
                  </a:lnTo>
                  <a:lnTo>
                    <a:pt x="129" y="81"/>
                  </a:lnTo>
                  <a:lnTo>
                    <a:pt x="133" y="53"/>
                  </a:lnTo>
                  <a:lnTo>
                    <a:pt x="127" y="29"/>
                  </a:lnTo>
                  <a:lnTo>
                    <a:pt x="111" y="9"/>
                  </a:lnTo>
                  <a:lnTo>
                    <a:pt x="111" y="9"/>
                  </a:lnTo>
                  <a:lnTo>
                    <a:pt x="99" y="4"/>
                  </a:lnTo>
                  <a:lnTo>
                    <a:pt x="88" y="0"/>
                  </a:lnTo>
                  <a:lnTo>
                    <a:pt x="75" y="0"/>
                  </a:lnTo>
                  <a:lnTo>
                    <a:pt x="62" y="1"/>
                  </a:lnTo>
                  <a:lnTo>
                    <a:pt x="50" y="6"/>
                  </a:lnTo>
                  <a:lnTo>
                    <a:pt x="38" y="13"/>
                  </a:lnTo>
                  <a:lnTo>
                    <a:pt x="27" y="22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4" y="59"/>
                  </a:lnTo>
                  <a:lnTo>
                    <a:pt x="0" y="86"/>
                  </a:lnTo>
                  <a:lnTo>
                    <a:pt x="6" y="111"/>
                  </a:lnTo>
                  <a:lnTo>
                    <a:pt x="22" y="1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63240" y="1291320"/>
              <a:ext cx="82080" cy="150480"/>
            </a:xfrm>
            <a:custGeom>
              <a:avLst/>
              <a:gdLst/>
              <a:ahLst/>
              <a:rect l="l" t="t" r="r" b="b"/>
              <a:pathLst>
                <a:path w="98" h="211">
                  <a:moveTo>
                    <a:pt x="63" y="0"/>
                  </a:moveTo>
                  <a:lnTo>
                    <a:pt x="98" y="8"/>
                  </a:lnTo>
                  <a:lnTo>
                    <a:pt x="38" y="211"/>
                  </a:lnTo>
                  <a:lnTo>
                    <a:pt x="0" y="211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63240" y="1291320"/>
              <a:ext cx="82080" cy="150480"/>
            </a:xfrm>
            <a:custGeom>
              <a:avLst/>
              <a:gdLst/>
              <a:ahLst/>
              <a:rect l="l" t="t" r="r" b="b"/>
              <a:pathLst>
                <a:path w="98" h="211">
                  <a:moveTo>
                    <a:pt x="63" y="0"/>
                  </a:moveTo>
                  <a:lnTo>
                    <a:pt x="98" y="8"/>
                  </a:lnTo>
                  <a:lnTo>
                    <a:pt x="38" y="211"/>
                  </a:lnTo>
                  <a:lnTo>
                    <a:pt x="0" y="211"/>
                  </a:lnTo>
                  <a:lnTo>
                    <a:pt x="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34640" y="1324080"/>
              <a:ext cx="66960" cy="276840"/>
            </a:xfrm>
            <a:custGeom>
              <a:avLst/>
              <a:gdLst/>
              <a:ahLst/>
              <a:rect l="l" t="t" r="r" b="b"/>
              <a:pathLst>
                <a:path w="81" h="390">
                  <a:moveTo>
                    <a:pt x="12" y="277"/>
                  </a:moveTo>
                  <a:lnTo>
                    <a:pt x="9" y="253"/>
                  </a:lnTo>
                  <a:lnTo>
                    <a:pt x="7" y="229"/>
                  </a:lnTo>
                  <a:lnTo>
                    <a:pt x="4" y="208"/>
                  </a:lnTo>
                  <a:lnTo>
                    <a:pt x="1" y="188"/>
                  </a:lnTo>
                  <a:lnTo>
                    <a:pt x="1" y="180"/>
                  </a:lnTo>
                  <a:lnTo>
                    <a:pt x="1" y="168"/>
                  </a:lnTo>
                  <a:lnTo>
                    <a:pt x="0" y="153"/>
                  </a:lnTo>
                  <a:lnTo>
                    <a:pt x="0" y="134"/>
                  </a:lnTo>
                  <a:lnTo>
                    <a:pt x="2" y="89"/>
                  </a:lnTo>
                  <a:lnTo>
                    <a:pt x="7" y="46"/>
                  </a:lnTo>
                  <a:lnTo>
                    <a:pt x="16" y="12"/>
                  </a:lnTo>
                  <a:lnTo>
                    <a:pt x="30" y="0"/>
                  </a:lnTo>
                  <a:lnTo>
                    <a:pt x="42" y="5"/>
                  </a:lnTo>
                  <a:lnTo>
                    <a:pt x="50" y="23"/>
                  </a:lnTo>
                  <a:lnTo>
                    <a:pt x="58" y="48"/>
                  </a:lnTo>
                  <a:lnTo>
                    <a:pt x="64" y="78"/>
                  </a:lnTo>
                  <a:lnTo>
                    <a:pt x="68" y="110"/>
                  </a:lnTo>
                  <a:lnTo>
                    <a:pt x="72" y="142"/>
                  </a:lnTo>
                  <a:lnTo>
                    <a:pt x="74" y="170"/>
                  </a:lnTo>
                  <a:lnTo>
                    <a:pt x="76" y="192"/>
                  </a:lnTo>
                  <a:lnTo>
                    <a:pt x="78" y="214"/>
                  </a:lnTo>
                  <a:lnTo>
                    <a:pt x="80" y="242"/>
                  </a:lnTo>
                  <a:lnTo>
                    <a:pt x="81" y="275"/>
                  </a:lnTo>
                  <a:lnTo>
                    <a:pt x="80" y="308"/>
                  </a:lnTo>
                  <a:lnTo>
                    <a:pt x="77" y="339"/>
                  </a:lnTo>
                  <a:lnTo>
                    <a:pt x="72" y="366"/>
                  </a:lnTo>
                  <a:lnTo>
                    <a:pt x="65" y="383"/>
                  </a:lnTo>
                  <a:lnTo>
                    <a:pt x="53" y="390"/>
                  </a:lnTo>
                  <a:lnTo>
                    <a:pt x="45" y="387"/>
                  </a:lnTo>
                  <a:lnTo>
                    <a:pt x="38" y="381"/>
                  </a:lnTo>
                  <a:lnTo>
                    <a:pt x="32" y="369"/>
                  </a:lnTo>
                  <a:lnTo>
                    <a:pt x="27" y="355"/>
                  </a:lnTo>
                  <a:lnTo>
                    <a:pt x="22" y="338"/>
                  </a:lnTo>
                  <a:lnTo>
                    <a:pt x="19" y="318"/>
                  </a:lnTo>
                  <a:lnTo>
                    <a:pt x="15" y="299"/>
                  </a:lnTo>
                  <a:lnTo>
                    <a:pt x="12" y="277"/>
                  </a:lnTo>
                  <a:close/>
                </a:path>
              </a:pathLst>
            </a:custGeom>
            <a:solidFill>
              <a:srgbClr val="99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34640" y="1324080"/>
              <a:ext cx="66960" cy="276840"/>
            </a:xfrm>
            <a:custGeom>
              <a:avLst/>
              <a:gdLst/>
              <a:ahLst/>
              <a:rect l="l" t="t" r="r" b="b"/>
              <a:pathLst>
                <a:path w="81" h="390">
                  <a:moveTo>
                    <a:pt x="12" y="277"/>
                  </a:moveTo>
                  <a:lnTo>
                    <a:pt x="12" y="277"/>
                  </a:lnTo>
                  <a:lnTo>
                    <a:pt x="9" y="253"/>
                  </a:lnTo>
                  <a:lnTo>
                    <a:pt x="7" y="229"/>
                  </a:lnTo>
                  <a:lnTo>
                    <a:pt x="4" y="208"/>
                  </a:lnTo>
                  <a:lnTo>
                    <a:pt x="1" y="188"/>
                  </a:lnTo>
                  <a:lnTo>
                    <a:pt x="1" y="188"/>
                  </a:lnTo>
                  <a:lnTo>
                    <a:pt x="1" y="180"/>
                  </a:lnTo>
                  <a:lnTo>
                    <a:pt x="1" y="168"/>
                  </a:lnTo>
                  <a:lnTo>
                    <a:pt x="0" y="153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2" y="89"/>
                  </a:lnTo>
                  <a:lnTo>
                    <a:pt x="7" y="46"/>
                  </a:lnTo>
                  <a:lnTo>
                    <a:pt x="16" y="1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5"/>
                  </a:lnTo>
                  <a:lnTo>
                    <a:pt x="50" y="23"/>
                  </a:lnTo>
                  <a:lnTo>
                    <a:pt x="58" y="48"/>
                  </a:lnTo>
                  <a:lnTo>
                    <a:pt x="64" y="78"/>
                  </a:lnTo>
                  <a:lnTo>
                    <a:pt x="68" y="110"/>
                  </a:lnTo>
                  <a:lnTo>
                    <a:pt x="72" y="142"/>
                  </a:lnTo>
                  <a:lnTo>
                    <a:pt x="74" y="170"/>
                  </a:lnTo>
                  <a:lnTo>
                    <a:pt x="76" y="192"/>
                  </a:lnTo>
                  <a:lnTo>
                    <a:pt x="76" y="192"/>
                  </a:lnTo>
                  <a:lnTo>
                    <a:pt x="78" y="214"/>
                  </a:lnTo>
                  <a:lnTo>
                    <a:pt x="80" y="242"/>
                  </a:lnTo>
                  <a:lnTo>
                    <a:pt x="81" y="275"/>
                  </a:lnTo>
                  <a:lnTo>
                    <a:pt x="80" y="308"/>
                  </a:lnTo>
                  <a:lnTo>
                    <a:pt x="77" y="339"/>
                  </a:lnTo>
                  <a:lnTo>
                    <a:pt x="72" y="366"/>
                  </a:lnTo>
                  <a:lnTo>
                    <a:pt x="65" y="383"/>
                  </a:lnTo>
                  <a:lnTo>
                    <a:pt x="53" y="390"/>
                  </a:lnTo>
                  <a:lnTo>
                    <a:pt x="53" y="390"/>
                  </a:lnTo>
                  <a:lnTo>
                    <a:pt x="45" y="387"/>
                  </a:lnTo>
                  <a:lnTo>
                    <a:pt x="38" y="381"/>
                  </a:lnTo>
                  <a:lnTo>
                    <a:pt x="32" y="369"/>
                  </a:lnTo>
                  <a:lnTo>
                    <a:pt x="27" y="355"/>
                  </a:lnTo>
                  <a:lnTo>
                    <a:pt x="22" y="338"/>
                  </a:lnTo>
                  <a:lnTo>
                    <a:pt x="19" y="318"/>
                  </a:lnTo>
                  <a:lnTo>
                    <a:pt x="15" y="299"/>
                  </a:lnTo>
                  <a:lnTo>
                    <a:pt x="12" y="2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00840" y="1488600"/>
              <a:ext cx="47880" cy="5112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1" y="0"/>
                  </a:moveTo>
                  <a:lnTo>
                    <a:pt x="30" y="1"/>
                  </a:lnTo>
                  <a:lnTo>
                    <a:pt x="30" y="43"/>
                  </a:lnTo>
                  <a:lnTo>
                    <a:pt x="56" y="46"/>
                  </a:lnTo>
                  <a:lnTo>
                    <a:pt x="52" y="73"/>
                  </a:lnTo>
                  <a:lnTo>
                    <a:pt x="0" y="6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00840" y="1488600"/>
              <a:ext cx="47880" cy="5112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1" y="0"/>
                  </a:moveTo>
                  <a:lnTo>
                    <a:pt x="30" y="1"/>
                  </a:lnTo>
                  <a:lnTo>
                    <a:pt x="30" y="43"/>
                  </a:lnTo>
                  <a:lnTo>
                    <a:pt x="56" y="46"/>
                  </a:lnTo>
                  <a:lnTo>
                    <a:pt x="52" y="73"/>
                  </a:lnTo>
                  <a:lnTo>
                    <a:pt x="0" y="66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34640" y="1442160"/>
              <a:ext cx="293760" cy="75240"/>
            </a:xfrm>
            <a:custGeom>
              <a:avLst/>
              <a:gdLst/>
              <a:ahLst/>
              <a:rect l="l" t="t" r="r" b="b"/>
              <a:pathLst>
                <a:path w="354" h="105">
                  <a:moveTo>
                    <a:pt x="354" y="105"/>
                  </a:moveTo>
                  <a:lnTo>
                    <a:pt x="354" y="0"/>
                  </a:lnTo>
                  <a:lnTo>
                    <a:pt x="0" y="0"/>
                  </a:lnTo>
                  <a:lnTo>
                    <a:pt x="9" y="105"/>
                  </a:lnTo>
                  <a:lnTo>
                    <a:pt x="38" y="105"/>
                  </a:lnTo>
                  <a:lnTo>
                    <a:pt x="38" y="51"/>
                  </a:lnTo>
                  <a:lnTo>
                    <a:pt x="237" y="51"/>
                  </a:lnTo>
                  <a:lnTo>
                    <a:pt x="237" y="105"/>
                  </a:lnTo>
                  <a:lnTo>
                    <a:pt x="354" y="105"/>
                  </a:lnTo>
                  <a:close/>
                </a:path>
              </a:pathLst>
            </a:custGeom>
            <a:solidFill>
              <a:srgbClr val="99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34640" y="1442160"/>
              <a:ext cx="293760" cy="75240"/>
            </a:xfrm>
            <a:custGeom>
              <a:avLst/>
              <a:gdLst/>
              <a:ahLst/>
              <a:rect l="l" t="t" r="r" b="b"/>
              <a:pathLst>
                <a:path w="354" h="105">
                  <a:moveTo>
                    <a:pt x="354" y="105"/>
                  </a:moveTo>
                  <a:lnTo>
                    <a:pt x="354" y="0"/>
                  </a:lnTo>
                  <a:lnTo>
                    <a:pt x="0" y="0"/>
                  </a:lnTo>
                  <a:lnTo>
                    <a:pt x="9" y="105"/>
                  </a:lnTo>
                  <a:lnTo>
                    <a:pt x="38" y="105"/>
                  </a:lnTo>
                  <a:lnTo>
                    <a:pt x="38" y="51"/>
                  </a:lnTo>
                  <a:lnTo>
                    <a:pt x="237" y="51"/>
                  </a:lnTo>
                  <a:lnTo>
                    <a:pt x="237" y="105"/>
                  </a:lnTo>
                  <a:lnTo>
                    <a:pt x="354" y="1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6320" y="1479240"/>
              <a:ext cx="135000" cy="77760"/>
            </a:xfrm>
            <a:prstGeom prst="rect">
              <a:avLst/>
            </a:prstGeom>
            <a:solidFill>
              <a:srgbClr val="99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66320" y="1479240"/>
              <a:ext cx="135000" cy="77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01600" y="1389600"/>
              <a:ext cx="91440" cy="5220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3" y="3"/>
                  </a:moveTo>
                  <a:lnTo>
                    <a:pt x="100" y="3"/>
                  </a:lnTo>
                  <a:lnTo>
                    <a:pt x="90" y="3"/>
                  </a:lnTo>
                  <a:lnTo>
                    <a:pt x="75" y="2"/>
                  </a:lnTo>
                  <a:lnTo>
                    <a:pt x="58" y="1"/>
                  </a:lnTo>
                  <a:lnTo>
                    <a:pt x="40" y="1"/>
                  </a:lnTo>
                  <a:lnTo>
                    <a:pt x="23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6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109" y="74"/>
                  </a:lnTo>
                  <a:lnTo>
                    <a:pt x="103" y="3"/>
                  </a:lnTo>
                  <a:close/>
                </a:path>
              </a:pathLst>
            </a:custGeom>
            <a:solidFill>
              <a:srgbClr val="99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01600" y="1389600"/>
              <a:ext cx="91440" cy="5220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3" y="3"/>
                  </a:moveTo>
                  <a:lnTo>
                    <a:pt x="103" y="3"/>
                  </a:lnTo>
                  <a:lnTo>
                    <a:pt x="100" y="3"/>
                  </a:lnTo>
                  <a:lnTo>
                    <a:pt x="90" y="3"/>
                  </a:lnTo>
                  <a:lnTo>
                    <a:pt x="75" y="2"/>
                  </a:lnTo>
                  <a:lnTo>
                    <a:pt x="58" y="1"/>
                  </a:lnTo>
                  <a:lnTo>
                    <a:pt x="40" y="1"/>
                  </a:lnTo>
                  <a:lnTo>
                    <a:pt x="23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6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109" y="74"/>
                  </a:lnTo>
                  <a:lnTo>
                    <a:pt x="103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88800" y="1311120"/>
              <a:ext cx="228600" cy="392040"/>
            </a:xfrm>
            <a:custGeom>
              <a:avLst/>
              <a:gdLst/>
              <a:ahLst/>
              <a:rect l="l" t="t" r="r" b="b"/>
              <a:pathLst>
                <a:path w="273" h="554">
                  <a:moveTo>
                    <a:pt x="178" y="1"/>
                  </a:moveTo>
                  <a:lnTo>
                    <a:pt x="163" y="0"/>
                  </a:lnTo>
                  <a:lnTo>
                    <a:pt x="145" y="1"/>
                  </a:lnTo>
                  <a:lnTo>
                    <a:pt x="127" y="7"/>
                  </a:lnTo>
                  <a:lnTo>
                    <a:pt x="108" y="17"/>
                  </a:lnTo>
                  <a:lnTo>
                    <a:pt x="90" y="35"/>
                  </a:lnTo>
                  <a:lnTo>
                    <a:pt x="72" y="59"/>
                  </a:lnTo>
                  <a:lnTo>
                    <a:pt x="56" y="92"/>
                  </a:lnTo>
                  <a:lnTo>
                    <a:pt x="41" y="136"/>
                  </a:lnTo>
                  <a:lnTo>
                    <a:pt x="28" y="184"/>
                  </a:lnTo>
                  <a:lnTo>
                    <a:pt x="18" y="230"/>
                  </a:lnTo>
                  <a:lnTo>
                    <a:pt x="11" y="273"/>
                  </a:lnTo>
                  <a:lnTo>
                    <a:pt x="5" y="312"/>
                  </a:lnTo>
                  <a:lnTo>
                    <a:pt x="1" y="348"/>
                  </a:lnTo>
                  <a:lnTo>
                    <a:pt x="0" y="380"/>
                  </a:lnTo>
                  <a:lnTo>
                    <a:pt x="0" y="409"/>
                  </a:lnTo>
                  <a:lnTo>
                    <a:pt x="1" y="434"/>
                  </a:lnTo>
                  <a:lnTo>
                    <a:pt x="4" y="456"/>
                  </a:lnTo>
                  <a:lnTo>
                    <a:pt x="9" y="477"/>
                  </a:lnTo>
                  <a:lnTo>
                    <a:pt x="18" y="496"/>
                  </a:lnTo>
                  <a:lnTo>
                    <a:pt x="28" y="512"/>
                  </a:lnTo>
                  <a:lnTo>
                    <a:pt x="41" y="526"/>
                  </a:lnTo>
                  <a:lnTo>
                    <a:pt x="56" y="539"/>
                  </a:lnTo>
                  <a:lnTo>
                    <a:pt x="74" y="547"/>
                  </a:lnTo>
                  <a:lnTo>
                    <a:pt x="96" y="553"/>
                  </a:lnTo>
                  <a:lnTo>
                    <a:pt x="119" y="554"/>
                  </a:lnTo>
                  <a:lnTo>
                    <a:pt x="140" y="551"/>
                  </a:lnTo>
                  <a:lnTo>
                    <a:pt x="160" y="543"/>
                  </a:lnTo>
                  <a:lnTo>
                    <a:pt x="179" y="531"/>
                  </a:lnTo>
                  <a:lnTo>
                    <a:pt x="196" y="512"/>
                  </a:lnTo>
                  <a:lnTo>
                    <a:pt x="210" y="490"/>
                  </a:lnTo>
                  <a:lnTo>
                    <a:pt x="222" y="463"/>
                  </a:lnTo>
                  <a:lnTo>
                    <a:pt x="233" y="429"/>
                  </a:lnTo>
                  <a:lnTo>
                    <a:pt x="242" y="393"/>
                  </a:lnTo>
                  <a:lnTo>
                    <a:pt x="249" y="354"/>
                  </a:lnTo>
                  <a:lnTo>
                    <a:pt x="256" y="313"/>
                  </a:lnTo>
                  <a:lnTo>
                    <a:pt x="262" y="273"/>
                  </a:lnTo>
                  <a:lnTo>
                    <a:pt x="266" y="234"/>
                  </a:lnTo>
                  <a:lnTo>
                    <a:pt x="270" y="197"/>
                  </a:lnTo>
                  <a:lnTo>
                    <a:pt x="272" y="162"/>
                  </a:lnTo>
                  <a:lnTo>
                    <a:pt x="273" y="131"/>
                  </a:lnTo>
                  <a:lnTo>
                    <a:pt x="272" y="104"/>
                  </a:lnTo>
                  <a:lnTo>
                    <a:pt x="269" y="81"/>
                  </a:lnTo>
                  <a:lnTo>
                    <a:pt x="263" y="60"/>
                  </a:lnTo>
                  <a:lnTo>
                    <a:pt x="255" y="43"/>
                  </a:lnTo>
                  <a:lnTo>
                    <a:pt x="242" y="28"/>
                  </a:lnTo>
                  <a:lnTo>
                    <a:pt x="225" y="16"/>
                  </a:lnTo>
                  <a:lnTo>
                    <a:pt x="204" y="8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88800" y="1311120"/>
              <a:ext cx="228600" cy="392040"/>
            </a:xfrm>
            <a:custGeom>
              <a:avLst/>
              <a:gdLst/>
              <a:ahLst/>
              <a:rect l="l" t="t" r="r" b="b"/>
              <a:pathLst>
                <a:path w="273" h="554">
                  <a:moveTo>
                    <a:pt x="178" y="1"/>
                  </a:moveTo>
                  <a:lnTo>
                    <a:pt x="178" y="1"/>
                  </a:lnTo>
                  <a:lnTo>
                    <a:pt x="163" y="0"/>
                  </a:lnTo>
                  <a:lnTo>
                    <a:pt x="145" y="1"/>
                  </a:lnTo>
                  <a:lnTo>
                    <a:pt x="127" y="7"/>
                  </a:lnTo>
                  <a:lnTo>
                    <a:pt x="108" y="17"/>
                  </a:lnTo>
                  <a:lnTo>
                    <a:pt x="90" y="35"/>
                  </a:lnTo>
                  <a:lnTo>
                    <a:pt x="72" y="59"/>
                  </a:lnTo>
                  <a:lnTo>
                    <a:pt x="56" y="92"/>
                  </a:lnTo>
                  <a:lnTo>
                    <a:pt x="41" y="136"/>
                  </a:lnTo>
                  <a:lnTo>
                    <a:pt x="41" y="136"/>
                  </a:lnTo>
                  <a:lnTo>
                    <a:pt x="28" y="184"/>
                  </a:lnTo>
                  <a:lnTo>
                    <a:pt x="18" y="230"/>
                  </a:lnTo>
                  <a:lnTo>
                    <a:pt x="11" y="273"/>
                  </a:lnTo>
                  <a:lnTo>
                    <a:pt x="5" y="312"/>
                  </a:lnTo>
                  <a:lnTo>
                    <a:pt x="1" y="348"/>
                  </a:lnTo>
                  <a:lnTo>
                    <a:pt x="0" y="380"/>
                  </a:lnTo>
                  <a:lnTo>
                    <a:pt x="0" y="409"/>
                  </a:lnTo>
                  <a:lnTo>
                    <a:pt x="1" y="434"/>
                  </a:lnTo>
                  <a:lnTo>
                    <a:pt x="1" y="434"/>
                  </a:lnTo>
                  <a:lnTo>
                    <a:pt x="4" y="456"/>
                  </a:lnTo>
                  <a:lnTo>
                    <a:pt x="9" y="477"/>
                  </a:lnTo>
                  <a:lnTo>
                    <a:pt x="18" y="496"/>
                  </a:lnTo>
                  <a:lnTo>
                    <a:pt x="28" y="512"/>
                  </a:lnTo>
                  <a:lnTo>
                    <a:pt x="41" y="526"/>
                  </a:lnTo>
                  <a:lnTo>
                    <a:pt x="56" y="539"/>
                  </a:lnTo>
                  <a:lnTo>
                    <a:pt x="74" y="547"/>
                  </a:lnTo>
                  <a:lnTo>
                    <a:pt x="96" y="553"/>
                  </a:lnTo>
                  <a:lnTo>
                    <a:pt x="96" y="553"/>
                  </a:lnTo>
                  <a:lnTo>
                    <a:pt x="119" y="554"/>
                  </a:lnTo>
                  <a:lnTo>
                    <a:pt x="140" y="551"/>
                  </a:lnTo>
                  <a:lnTo>
                    <a:pt x="160" y="543"/>
                  </a:lnTo>
                  <a:lnTo>
                    <a:pt x="179" y="531"/>
                  </a:lnTo>
                  <a:lnTo>
                    <a:pt x="196" y="512"/>
                  </a:lnTo>
                  <a:lnTo>
                    <a:pt x="210" y="490"/>
                  </a:lnTo>
                  <a:lnTo>
                    <a:pt x="222" y="463"/>
                  </a:lnTo>
                  <a:lnTo>
                    <a:pt x="233" y="429"/>
                  </a:lnTo>
                  <a:lnTo>
                    <a:pt x="233" y="429"/>
                  </a:lnTo>
                  <a:lnTo>
                    <a:pt x="242" y="393"/>
                  </a:lnTo>
                  <a:lnTo>
                    <a:pt x="249" y="354"/>
                  </a:lnTo>
                  <a:lnTo>
                    <a:pt x="256" y="313"/>
                  </a:lnTo>
                  <a:lnTo>
                    <a:pt x="262" y="273"/>
                  </a:lnTo>
                  <a:lnTo>
                    <a:pt x="266" y="234"/>
                  </a:lnTo>
                  <a:lnTo>
                    <a:pt x="270" y="197"/>
                  </a:lnTo>
                  <a:lnTo>
                    <a:pt x="272" y="162"/>
                  </a:lnTo>
                  <a:lnTo>
                    <a:pt x="273" y="131"/>
                  </a:lnTo>
                  <a:lnTo>
                    <a:pt x="273" y="131"/>
                  </a:lnTo>
                  <a:lnTo>
                    <a:pt x="272" y="104"/>
                  </a:lnTo>
                  <a:lnTo>
                    <a:pt x="269" y="81"/>
                  </a:lnTo>
                  <a:lnTo>
                    <a:pt x="263" y="60"/>
                  </a:lnTo>
                  <a:lnTo>
                    <a:pt x="255" y="43"/>
                  </a:lnTo>
                  <a:lnTo>
                    <a:pt x="242" y="28"/>
                  </a:lnTo>
                  <a:lnTo>
                    <a:pt x="225" y="16"/>
                  </a:lnTo>
                  <a:lnTo>
                    <a:pt x="204" y="8"/>
                  </a:lnTo>
                  <a:lnTo>
                    <a:pt x="178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34320" y="1459080"/>
              <a:ext cx="83160" cy="144720"/>
            </a:xfrm>
            <a:custGeom>
              <a:avLst/>
              <a:gdLst/>
              <a:ahLst/>
              <a:rect l="l" t="t" r="r" b="b"/>
              <a:pathLst>
                <a:path w="100" h="202">
                  <a:moveTo>
                    <a:pt x="65" y="0"/>
                  </a:moveTo>
                  <a:lnTo>
                    <a:pt x="60" y="0"/>
                  </a:lnTo>
                  <a:lnTo>
                    <a:pt x="54" y="0"/>
                  </a:lnTo>
                  <a:lnTo>
                    <a:pt x="47" y="2"/>
                  </a:lnTo>
                  <a:lnTo>
                    <a:pt x="40" y="5"/>
                  </a:lnTo>
                  <a:lnTo>
                    <a:pt x="33" y="11"/>
                  </a:lnTo>
                  <a:lnTo>
                    <a:pt x="26" y="20"/>
                  </a:lnTo>
                  <a:lnTo>
                    <a:pt x="21" y="33"/>
                  </a:lnTo>
                  <a:lnTo>
                    <a:pt x="15" y="49"/>
                  </a:lnTo>
                  <a:lnTo>
                    <a:pt x="7" y="84"/>
                  </a:lnTo>
                  <a:lnTo>
                    <a:pt x="2" y="114"/>
                  </a:lnTo>
                  <a:lnTo>
                    <a:pt x="0" y="139"/>
                  </a:lnTo>
                  <a:lnTo>
                    <a:pt x="1" y="158"/>
                  </a:lnTo>
                  <a:lnTo>
                    <a:pt x="2" y="167"/>
                  </a:lnTo>
                  <a:lnTo>
                    <a:pt x="3" y="175"/>
                  </a:lnTo>
                  <a:lnTo>
                    <a:pt x="7" y="181"/>
                  </a:lnTo>
                  <a:lnTo>
                    <a:pt x="10" y="187"/>
                  </a:lnTo>
                  <a:lnTo>
                    <a:pt x="15" y="193"/>
                  </a:lnTo>
                  <a:lnTo>
                    <a:pt x="21" y="198"/>
                  </a:lnTo>
                  <a:lnTo>
                    <a:pt x="27" y="200"/>
                  </a:lnTo>
                  <a:lnTo>
                    <a:pt x="36" y="202"/>
                  </a:lnTo>
                  <a:lnTo>
                    <a:pt x="44" y="202"/>
                  </a:lnTo>
                  <a:lnTo>
                    <a:pt x="52" y="201"/>
                  </a:lnTo>
                  <a:lnTo>
                    <a:pt x="59" y="199"/>
                  </a:lnTo>
                  <a:lnTo>
                    <a:pt x="65" y="194"/>
                  </a:lnTo>
                  <a:lnTo>
                    <a:pt x="72" y="187"/>
                  </a:lnTo>
                  <a:lnTo>
                    <a:pt x="77" y="179"/>
                  </a:lnTo>
                  <a:lnTo>
                    <a:pt x="83" y="169"/>
                  </a:lnTo>
                  <a:lnTo>
                    <a:pt x="86" y="157"/>
                  </a:lnTo>
                  <a:lnTo>
                    <a:pt x="92" y="129"/>
                  </a:lnTo>
                  <a:lnTo>
                    <a:pt x="97" y="100"/>
                  </a:lnTo>
                  <a:lnTo>
                    <a:pt x="99" y="71"/>
                  </a:lnTo>
                  <a:lnTo>
                    <a:pt x="100" y="47"/>
                  </a:lnTo>
                  <a:lnTo>
                    <a:pt x="100" y="38"/>
                  </a:lnTo>
                  <a:lnTo>
                    <a:pt x="99" y="28"/>
                  </a:lnTo>
                  <a:lnTo>
                    <a:pt x="97" y="22"/>
                  </a:lnTo>
                  <a:lnTo>
                    <a:pt x="93" y="15"/>
                  </a:lnTo>
                  <a:lnTo>
                    <a:pt x="88" y="9"/>
                  </a:lnTo>
                  <a:lnTo>
                    <a:pt x="83" y="5"/>
                  </a:lnTo>
                  <a:lnTo>
                    <a:pt x="75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3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34320" y="1459080"/>
              <a:ext cx="83160" cy="144720"/>
            </a:xfrm>
            <a:custGeom>
              <a:avLst/>
              <a:gdLst/>
              <a:ahLst/>
              <a:rect l="l" t="t" r="r" b="b"/>
              <a:pathLst>
                <a:path w="100" h="202">
                  <a:moveTo>
                    <a:pt x="65" y="0"/>
                  </a:moveTo>
                  <a:lnTo>
                    <a:pt x="65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7" y="2"/>
                  </a:lnTo>
                  <a:lnTo>
                    <a:pt x="40" y="5"/>
                  </a:lnTo>
                  <a:lnTo>
                    <a:pt x="33" y="11"/>
                  </a:lnTo>
                  <a:lnTo>
                    <a:pt x="26" y="20"/>
                  </a:lnTo>
                  <a:lnTo>
                    <a:pt x="21" y="33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7" y="84"/>
                  </a:lnTo>
                  <a:lnTo>
                    <a:pt x="2" y="114"/>
                  </a:lnTo>
                  <a:lnTo>
                    <a:pt x="0" y="139"/>
                  </a:lnTo>
                  <a:lnTo>
                    <a:pt x="1" y="158"/>
                  </a:lnTo>
                  <a:lnTo>
                    <a:pt x="1" y="158"/>
                  </a:lnTo>
                  <a:lnTo>
                    <a:pt x="2" y="167"/>
                  </a:lnTo>
                  <a:lnTo>
                    <a:pt x="3" y="175"/>
                  </a:lnTo>
                  <a:lnTo>
                    <a:pt x="7" y="181"/>
                  </a:lnTo>
                  <a:lnTo>
                    <a:pt x="10" y="187"/>
                  </a:lnTo>
                  <a:lnTo>
                    <a:pt x="15" y="193"/>
                  </a:lnTo>
                  <a:lnTo>
                    <a:pt x="21" y="198"/>
                  </a:lnTo>
                  <a:lnTo>
                    <a:pt x="27" y="200"/>
                  </a:lnTo>
                  <a:lnTo>
                    <a:pt x="36" y="202"/>
                  </a:lnTo>
                  <a:lnTo>
                    <a:pt x="36" y="202"/>
                  </a:lnTo>
                  <a:lnTo>
                    <a:pt x="44" y="202"/>
                  </a:lnTo>
                  <a:lnTo>
                    <a:pt x="52" y="201"/>
                  </a:lnTo>
                  <a:lnTo>
                    <a:pt x="59" y="199"/>
                  </a:lnTo>
                  <a:lnTo>
                    <a:pt x="65" y="194"/>
                  </a:lnTo>
                  <a:lnTo>
                    <a:pt x="72" y="187"/>
                  </a:lnTo>
                  <a:lnTo>
                    <a:pt x="77" y="179"/>
                  </a:lnTo>
                  <a:lnTo>
                    <a:pt x="83" y="169"/>
                  </a:lnTo>
                  <a:lnTo>
                    <a:pt x="86" y="157"/>
                  </a:lnTo>
                  <a:lnTo>
                    <a:pt x="86" y="157"/>
                  </a:lnTo>
                  <a:lnTo>
                    <a:pt x="92" y="129"/>
                  </a:lnTo>
                  <a:lnTo>
                    <a:pt x="97" y="100"/>
                  </a:lnTo>
                  <a:lnTo>
                    <a:pt x="99" y="71"/>
                  </a:lnTo>
                  <a:lnTo>
                    <a:pt x="100" y="47"/>
                  </a:lnTo>
                  <a:lnTo>
                    <a:pt x="100" y="47"/>
                  </a:lnTo>
                  <a:lnTo>
                    <a:pt x="100" y="38"/>
                  </a:lnTo>
                  <a:lnTo>
                    <a:pt x="99" y="28"/>
                  </a:lnTo>
                  <a:lnTo>
                    <a:pt x="97" y="22"/>
                  </a:lnTo>
                  <a:lnTo>
                    <a:pt x="93" y="15"/>
                  </a:lnTo>
                  <a:lnTo>
                    <a:pt x="88" y="9"/>
                  </a:lnTo>
                  <a:lnTo>
                    <a:pt x="83" y="5"/>
                  </a:lnTo>
                  <a:lnTo>
                    <a:pt x="75" y="2"/>
                  </a:lnTo>
                  <a:lnTo>
                    <a:pt x="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01680" y="1479240"/>
              <a:ext cx="58680" cy="77760"/>
            </a:xfrm>
            <a:custGeom>
              <a:avLst/>
              <a:gdLst/>
              <a:ahLst/>
              <a:rect l="l" t="t" r="r" b="b"/>
              <a:pathLst>
                <a:path w="70" h="112">
                  <a:moveTo>
                    <a:pt x="0" y="112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54"/>
                  </a:lnTo>
                  <a:lnTo>
                    <a:pt x="70" y="54"/>
                  </a:lnTo>
                  <a:lnTo>
                    <a:pt x="70" y="63"/>
                  </a:lnTo>
                  <a:lnTo>
                    <a:pt x="68" y="73"/>
                  </a:lnTo>
                  <a:lnTo>
                    <a:pt x="64" y="82"/>
                  </a:lnTo>
                  <a:lnTo>
                    <a:pt x="58" y="90"/>
                  </a:lnTo>
                  <a:lnTo>
                    <a:pt x="49" y="98"/>
                  </a:lnTo>
                  <a:lnTo>
                    <a:pt x="37" y="104"/>
                  </a:lnTo>
                  <a:lnTo>
                    <a:pt x="20" y="108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01680" y="1479240"/>
              <a:ext cx="58680" cy="77760"/>
            </a:xfrm>
            <a:custGeom>
              <a:avLst/>
              <a:gdLst/>
              <a:ahLst/>
              <a:rect l="l" t="t" r="r" b="b"/>
              <a:pathLst>
                <a:path w="70" h="112">
                  <a:moveTo>
                    <a:pt x="0" y="112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54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63"/>
                  </a:lnTo>
                  <a:lnTo>
                    <a:pt x="68" y="73"/>
                  </a:lnTo>
                  <a:lnTo>
                    <a:pt x="64" y="82"/>
                  </a:lnTo>
                  <a:lnTo>
                    <a:pt x="58" y="90"/>
                  </a:lnTo>
                  <a:lnTo>
                    <a:pt x="49" y="98"/>
                  </a:lnTo>
                  <a:lnTo>
                    <a:pt x="37" y="104"/>
                  </a:lnTo>
                  <a:lnTo>
                    <a:pt x="20" y="108"/>
                  </a:lnTo>
                  <a:lnTo>
                    <a:pt x="0" y="1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09040" y="1375200"/>
              <a:ext cx="83520" cy="273960"/>
            </a:xfrm>
            <a:custGeom>
              <a:avLst/>
              <a:gdLst/>
              <a:ahLst/>
              <a:rect l="l" t="t" r="r" b="b"/>
              <a:pathLst>
                <a:path w="100" h="386">
                  <a:moveTo>
                    <a:pt x="54" y="193"/>
                  </a:moveTo>
                  <a:lnTo>
                    <a:pt x="55" y="162"/>
                  </a:lnTo>
                  <a:lnTo>
                    <a:pt x="51" y="139"/>
                  </a:lnTo>
                  <a:lnTo>
                    <a:pt x="42" y="127"/>
                  </a:lnTo>
                  <a:lnTo>
                    <a:pt x="27" y="124"/>
                  </a:lnTo>
                  <a:lnTo>
                    <a:pt x="32" y="104"/>
                  </a:lnTo>
                  <a:lnTo>
                    <a:pt x="39" y="82"/>
                  </a:lnTo>
                  <a:lnTo>
                    <a:pt x="46" y="60"/>
                  </a:lnTo>
                  <a:lnTo>
                    <a:pt x="53" y="40"/>
                  </a:lnTo>
                  <a:lnTo>
                    <a:pt x="61" y="23"/>
                  </a:lnTo>
                  <a:lnTo>
                    <a:pt x="70" y="10"/>
                  </a:lnTo>
                  <a:lnTo>
                    <a:pt x="78" y="2"/>
                  </a:lnTo>
                  <a:lnTo>
                    <a:pt x="87" y="0"/>
                  </a:lnTo>
                  <a:lnTo>
                    <a:pt x="100" y="28"/>
                  </a:lnTo>
                  <a:lnTo>
                    <a:pt x="100" y="84"/>
                  </a:lnTo>
                  <a:lnTo>
                    <a:pt x="93" y="149"/>
                  </a:lnTo>
                  <a:lnTo>
                    <a:pt x="87" y="198"/>
                  </a:lnTo>
                  <a:lnTo>
                    <a:pt x="83" y="220"/>
                  </a:lnTo>
                  <a:lnTo>
                    <a:pt x="78" y="249"/>
                  </a:lnTo>
                  <a:lnTo>
                    <a:pt x="72" y="280"/>
                  </a:lnTo>
                  <a:lnTo>
                    <a:pt x="62" y="312"/>
                  </a:lnTo>
                  <a:lnTo>
                    <a:pt x="53" y="342"/>
                  </a:lnTo>
                  <a:lnTo>
                    <a:pt x="42" y="366"/>
                  </a:lnTo>
                  <a:lnTo>
                    <a:pt x="30" y="382"/>
                  </a:lnTo>
                  <a:lnTo>
                    <a:pt x="17" y="386"/>
                  </a:lnTo>
                  <a:lnTo>
                    <a:pt x="5" y="373"/>
                  </a:lnTo>
                  <a:lnTo>
                    <a:pt x="0" y="345"/>
                  </a:lnTo>
                  <a:lnTo>
                    <a:pt x="0" y="309"/>
                  </a:lnTo>
                  <a:lnTo>
                    <a:pt x="4" y="266"/>
                  </a:lnTo>
                  <a:lnTo>
                    <a:pt x="13" y="269"/>
                  </a:lnTo>
                  <a:lnTo>
                    <a:pt x="21" y="269"/>
                  </a:lnTo>
                  <a:lnTo>
                    <a:pt x="29" y="266"/>
                  </a:lnTo>
                  <a:lnTo>
                    <a:pt x="36" y="259"/>
                  </a:lnTo>
                  <a:lnTo>
                    <a:pt x="42" y="249"/>
                  </a:lnTo>
                  <a:lnTo>
                    <a:pt x="47" y="235"/>
                  </a:lnTo>
                  <a:lnTo>
                    <a:pt x="51" y="216"/>
                  </a:lnTo>
                  <a:lnTo>
                    <a:pt x="54" y="19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09040" y="1375200"/>
              <a:ext cx="83520" cy="273960"/>
            </a:xfrm>
            <a:custGeom>
              <a:avLst/>
              <a:gdLst/>
              <a:ahLst/>
              <a:rect l="l" t="t" r="r" b="b"/>
              <a:pathLst>
                <a:path w="100" h="386">
                  <a:moveTo>
                    <a:pt x="54" y="193"/>
                  </a:moveTo>
                  <a:lnTo>
                    <a:pt x="54" y="193"/>
                  </a:lnTo>
                  <a:lnTo>
                    <a:pt x="55" y="162"/>
                  </a:lnTo>
                  <a:lnTo>
                    <a:pt x="51" y="139"/>
                  </a:lnTo>
                  <a:lnTo>
                    <a:pt x="42" y="127"/>
                  </a:lnTo>
                  <a:lnTo>
                    <a:pt x="27" y="124"/>
                  </a:lnTo>
                  <a:lnTo>
                    <a:pt x="27" y="124"/>
                  </a:lnTo>
                  <a:lnTo>
                    <a:pt x="32" y="104"/>
                  </a:lnTo>
                  <a:lnTo>
                    <a:pt x="39" y="82"/>
                  </a:lnTo>
                  <a:lnTo>
                    <a:pt x="46" y="60"/>
                  </a:lnTo>
                  <a:lnTo>
                    <a:pt x="53" y="40"/>
                  </a:lnTo>
                  <a:lnTo>
                    <a:pt x="61" y="23"/>
                  </a:lnTo>
                  <a:lnTo>
                    <a:pt x="70" y="10"/>
                  </a:lnTo>
                  <a:lnTo>
                    <a:pt x="78" y="2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100" y="28"/>
                  </a:lnTo>
                  <a:lnTo>
                    <a:pt x="100" y="84"/>
                  </a:lnTo>
                  <a:lnTo>
                    <a:pt x="93" y="149"/>
                  </a:lnTo>
                  <a:lnTo>
                    <a:pt x="87" y="198"/>
                  </a:lnTo>
                  <a:lnTo>
                    <a:pt x="87" y="198"/>
                  </a:lnTo>
                  <a:lnTo>
                    <a:pt x="83" y="220"/>
                  </a:lnTo>
                  <a:lnTo>
                    <a:pt x="78" y="249"/>
                  </a:lnTo>
                  <a:lnTo>
                    <a:pt x="72" y="280"/>
                  </a:lnTo>
                  <a:lnTo>
                    <a:pt x="62" y="312"/>
                  </a:lnTo>
                  <a:lnTo>
                    <a:pt x="53" y="342"/>
                  </a:lnTo>
                  <a:lnTo>
                    <a:pt x="42" y="366"/>
                  </a:lnTo>
                  <a:lnTo>
                    <a:pt x="30" y="382"/>
                  </a:lnTo>
                  <a:lnTo>
                    <a:pt x="17" y="386"/>
                  </a:lnTo>
                  <a:lnTo>
                    <a:pt x="17" y="386"/>
                  </a:lnTo>
                  <a:lnTo>
                    <a:pt x="5" y="373"/>
                  </a:lnTo>
                  <a:lnTo>
                    <a:pt x="0" y="345"/>
                  </a:lnTo>
                  <a:lnTo>
                    <a:pt x="0" y="309"/>
                  </a:lnTo>
                  <a:lnTo>
                    <a:pt x="4" y="266"/>
                  </a:lnTo>
                  <a:lnTo>
                    <a:pt x="4" y="266"/>
                  </a:lnTo>
                  <a:lnTo>
                    <a:pt x="13" y="269"/>
                  </a:lnTo>
                  <a:lnTo>
                    <a:pt x="21" y="269"/>
                  </a:lnTo>
                  <a:lnTo>
                    <a:pt x="29" y="266"/>
                  </a:lnTo>
                  <a:lnTo>
                    <a:pt x="36" y="259"/>
                  </a:lnTo>
                  <a:lnTo>
                    <a:pt x="42" y="249"/>
                  </a:lnTo>
                  <a:lnTo>
                    <a:pt x="47" y="235"/>
                  </a:lnTo>
                  <a:lnTo>
                    <a:pt x="51" y="216"/>
                  </a:lnTo>
                  <a:lnTo>
                    <a:pt x="54" y="1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71360" y="1299960"/>
              <a:ext cx="172080" cy="92160"/>
            </a:xfrm>
            <a:custGeom>
              <a:avLst/>
              <a:gdLst/>
              <a:ahLst/>
              <a:rect l="l" t="t" r="r" b="b"/>
              <a:pathLst>
                <a:path w="206" h="129">
                  <a:moveTo>
                    <a:pt x="2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30" y="0"/>
                  </a:lnTo>
                  <a:lnTo>
                    <a:pt x="47" y="0"/>
                  </a:lnTo>
                  <a:lnTo>
                    <a:pt x="65" y="0"/>
                  </a:lnTo>
                  <a:lnTo>
                    <a:pt x="81" y="0"/>
                  </a:lnTo>
                  <a:lnTo>
                    <a:pt x="92" y="0"/>
                  </a:lnTo>
                  <a:lnTo>
                    <a:pt x="100" y="0"/>
                  </a:lnTo>
                  <a:lnTo>
                    <a:pt x="105" y="1"/>
                  </a:lnTo>
                  <a:lnTo>
                    <a:pt x="111" y="4"/>
                  </a:lnTo>
                  <a:lnTo>
                    <a:pt x="116" y="8"/>
                  </a:lnTo>
                  <a:lnTo>
                    <a:pt x="122" y="14"/>
                  </a:lnTo>
                  <a:lnTo>
                    <a:pt x="127" y="22"/>
                  </a:lnTo>
                  <a:lnTo>
                    <a:pt x="131" y="31"/>
                  </a:lnTo>
                  <a:lnTo>
                    <a:pt x="135" y="43"/>
                  </a:lnTo>
                  <a:lnTo>
                    <a:pt x="136" y="55"/>
                  </a:lnTo>
                  <a:lnTo>
                    <a:pt x="136" y="77"/>
                  </a:lnTo>
                  <a:lnTo>
                    <a:pt x="136" y="89"/>
                  </a:lnTo>
                  <a:lnTo>
                    <a:pt x="136" y="93"/>
                  </a:lnTo>
                  <a:lnTo>
                    <a:pt x="136" y="95"/>
                  </a:lnTo>
                  <a:lnTo>
                    <a:pt x="142" y="95"/>
                  </a:lnTo>
                  <a:lnTo>
                    <a:pt x="149" y="95"/>
                  </a:lnTo>
                  <a:lnTo>
                    <a:pt x="157" y="93"/>
                  </a:lnTo>
                  <a:lnTo>
                    <a:pt x="166" y="93"/>
                  </a:lnTo>
                  <a:lnTo>
                    <a:pt x="175" y="93"/>
                  </a:lnTo>
                  <a:lnTo>
                    <a:pt x="183" y="92"/>
                  </a:lnTo>
                  <a:lnTo>
                    <a:pt x="191" y="92"/>
                  </a:lnTo>
                  <a:lnTo>
                    <a:pt x="196" y="92"/>
                  </a:lnTo>
                  <a:lnTo>
                    <a:pt x="203" y="97"/>
                  </a:lnTo>
                  <a:lnTo>
                    <a:pt x="206" y="107"/>
                  </a:lnTo>
                  <a:lnTo>
                    <a:pt x="203" y="118"/>
                  </a:lnTo>
                  <a:lnTo>
                    <a:pt x="194" y="122"/>
                  </a:lnTo>
                  <a:lnTo>
                    <a:pt x="185" y="122"/>
                  </a:lnTo>
                  <a:lnTo>
                    <a:pt x="177" y="123"/>
                  </a:lnTo>
                  <a:lnTo>
                    <a:pt x="168" y="125"/>
                  </a:lnTo>
                  <a:lnTo>
                    <a:pt x="160" y="126"/>
                  </a:lnTo>
                  <a:lnTo>
                    <a:pt x="152" y="127"/>
                  </a:lnTo>
                  <a:lnTo>
                    <a:pt x="145" y="128"/>
                  </a:lnTo>
                  <a:lnTo>
                    <a:pt x="141" y="129"/>
                  </a:lnTo>
                  <a:lnTo>
                    <a:pt x="139" y="129"/>
                  </a:lnTo>
                  <a:lnTo>
                    <a:pt x="136" y="129"/>
                  </a:lnTo>
                  <a:lnTo>
                    <a:pt x="126" y="129"/>
                  </a:lnTo>
                  <a:lnTo>
                    <a:pt x="111" y="128"/>
                  </a:lnTo>
                  <a:lnTo>
                    <a:pt x="94" y="127"/>
                  </a:lnTo>
                  <a:lnTo>
                    <a:pt x="76" y="127"/>
                  </a:lnTo>
                  <a:lnTo>
                    <a:pt x="59" y="126"/>
                  </a:lnTo>
                  <a:lnTo>
                    <a:pt x="45" y="126"/>
                  </a:lnTo>
                  <a:lnTo>
                    <a:pt x="36" y="126"/>
                  </a:lnTo>
                  <a:lnTo>
                    <a:pt x="25" y="123"/>
                  </a:lnTo>
                  <a:lnTo>
                    <a:pt x="16" y="118"/>
                  </a:lnTo>
                  <a:lnTo>
                    <a:pt x="9" y="108"/>
                  </a:lnTo>
                  <a:lnTo>
                    <a:pt x="5" y="95"/>
                  </a:lnTo>
                  <a:lnTo>
                    <a:pt x="1" y="77"/>
                  </a:lnTo>
                  <a:lnTo>
                    <a:pt x="0" y="55"/>
                  </a:lnTo>
                  <a:lnTo>
                    <a:pt x="0" y="3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71360" y="1299960"/>
              <a:ext cx="172080" cy="92160"/>
            </a:xfrm>
            <a:custGeom>
              <a:avLst/>
              <a:gdLst/>
              <a:ahLst/>
              <a:rect l="l" t="t" r="r" b="b"/>
              <a:pathLst>
                <a:path w="206" h="129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16" y="0"/>
                  </a:lnTo>
                  <a:lnTo>
                    <a:pt x="30" y="0"/>
                  </a:lnTo>
                  <a:lnTo>
                    <a:pt x="47" y="0"/>
                  </a:lnTo>
                  <a:lnTo>
                    <a:pt x="65" y="0"/>
                  </a:lnTo>
                  <a:lnTo>
                    <a:pt x="81" y="0"/>
                  </a:lnTo>
                  <a:lnTo>
                    <a:pt x="92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5" y="1"/>
                  </a:lnTo>
                  <a:lnTo>
                    <a:pt x="111" y="4"/>
                  </a:lnTo>
                  <a:lnTo>
                    <a:pt x="116" y="8"/>
                  </a:lnTo>
                  <a:lnTo>
                    <a:pt x="122" y="14"/>
                  </a:lnTo>
                  <a:lnTo>
                    <a:pt x="127" y="22"/>
                  </a:lnTo>
                  <a:lnTo>
                    <a:pt x="131" y="31"/>
                  </a:lnTo>
                  <a:lnTo>
                    <a:pt x="135" y="43"/>
                  </a:lnTo>
                  <a:lnTo>
                    <a:pt x="136" y="55"/>
                  </a:lnTo>
                  <a:lnTo>
                    <a:pt x="136" y="55"/>
                  </a:lnTo>
                  <a:lnTo>
                    <a:pt x="136" y="77"/>
                  </a:lnTo>
                  <a:lnTo>
                    <a:pt x="136" y="89"/>
                  </a:lnTo>
                  <a:lnTo>
                    <a:pt x="136" y="93"/>
                  </a:lnTo>
                  <a:lnTo>
                    <a:pt x="136" y="95"/>
                  </a:lnTo>
                  <a:lnTo>
                    <a:pt x="136" y="95"/>
                  </a:lnTo>
                  <a:lnTo>
                    <a:pt x="142" y="95"/>
                  </a:lnTo>
                  <a:lnTo>
                    <a:pt x="149" y="95"/>
                  </a:lnTo>
                  <a:lnTo>
                    <a:pt x="157" y="93"/>
                  </a:lnTo>
                  <a:lnTo>
                    <a:pt x="166" y="93"/>
                  </a:lnTo>
                  <a:lnTo>
                    <a:pt x="175" y="93"/>
                  </a:lnTo>
                  <a:lnTo>
                    <a:pt x="183" y="92"/>
                  </a:lnTo>
                  <a:lnTo>
                    <a:pt x="191" y="92"/>
                  </a:lnTo>
                  <a:lnTo>
                    <a:pt x="196" y="92"/>
                  </a:lnTo>
                  <a:lnTo>
                    <a:pt x="196" y="92"/>
                  </a:lnTo>
                  <a:lnTo>
                    <a:pt x="203" y="97"/>
                  </a:lnTo>
                  <a:lnTo>
                    <a:pt x="206" y="107"/>
                  </a:lnTo>
                  <a:lnTo>
                    <a:pt x="203" y="118"/>
                  </a:lnTo>
                  <a:lnTo>
                    <a:pt x="194" y="122"/>
                  </a:lnTo>
                  <a:lnTo>
                    <a:pt x="194" y="122"/>
                  </a:lnTo>
                  <a:lnTo>
                    <a:pt x="185" y="122"/>
                  </a:lnTo>
                  <a:lnTo>
                    <a:pt x="177" y="123"/>
                  </a:lnTo>
                  <a:lnTo>
                    <a:pt x="168" y="125"/>
                  </a:lnTo>
                  <a:lnTo>
                    <a:pt x="160" y="126"/>
                  </a:lnTo>
                  <a:lnTo>
                    <a:pt x="152" y="127"/>
                  </a:lnTo>
                  <a:lnTo>
                    <a:pt x="145" y="128"/>
                  </a:lnTo>
                  <a:lnTo>
                    <a:pt x="141" y="129"/>
                  </a:lnTo>
                  <a:lnTo>
                    <a:pt x="139" y="129"/>
                  </a:lnTo>
                  <a:lnTo>
                    <a:pt x="139" y="129"/>
                  </a:lnTo>
                  <a:lnTo>
                    <a:pt x="136" y="129"/>
                  </a:lnTo>
                  <a:lnTo>
                    <a:pt x="126" y="129"/>
                  </a:lnTo>
                  <a:lnTo>
                    <a:pt x="111" y="128"/>
                  </a:lnTo>
                  <a:lnTo>
                    <a:pt x="94" y="127"/>
                  </a:lnTo>
                  <a:lnTo>
                    <a:pt x="76" y="127"/>
                  </a:lnTo>
                  <a:lnTo>
                    <a:pt x="59" y="126"/>
                  </a:lnTo>
                  <a:lnTo>
                    <a:pt x="45" y="126"/>
                  </a:lnTo>
                  <a:lnTo>
                    <a:pt x="36" y="126"/>
                  </a:lnTo>
                  <a:lnTo>
                    <a:pt x="36" y="126"/>
                  </a:lnTo>
                  <a:lnTo>
                    <a:pt x="25" y="123"/>
                  </a:lnTo>
                  <a:lnTo>
                    <a:pt x="16" y="118"/>
                  </a:lnTo>
                  <a:lnTo>
                    <a:pt x="9" y="108"/>
                  </a:lnTo>
                  <a:lnTo>
                    <a:pt x="5" y="95"/>
                  </a:lnTo>
                  <a:lnTo>
                    <a:pt x="1" y="77"/>
                  </a:lnTo>
                  <a:lnTo>
                    <a:pt x="0" y="55"/>
                  </a:lnTo>
                  <a:lnTo>
                    <a:pt x="0" y="3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79320" y="1483200"/>
              <a:ext cx="29880" cy="100800"/>
            </a:xfrm>
            <a:custGeom>
              <a:avLst/>
              <a:gdLst/>
              <a:ahLst/>
              <a:rect l="l" t="t" r="r" b="b"/>
              <a:pathLst>
                <a:path w="37" h="142">
                  <a:moveTo>
                    <a:pt x="20" y="70"/>
                  </a:moveTo>
                  <a:lnTo>
                    <a:pt x="20" y="60"/>
                  </a:lnTo>
                  <a:lnTo>
                    <a:pt x="18" y="51"/>
                  </a:lnTo>
                  <a:lnTo>
                    <a:pt x="15" y="46"/>
                  </a:lnTo>
                  <a:lnTo>
                    <a:pt x="9" y="45"/>
                  </a:lnTo>
                  <a:lnTo>
                    <a:pt x="14" y="29"/>
                  </a:lnTo>
                  <a:lnTo>
                    <a:pt x="18" y="14"/>
                  </a:lnTo>
                  <a:lnTo>
                    <a:pt x="25" y="3"/>
                  </a:lnTo>
                  <a:lnTo>
                    <a:pt x="31" y="0"/>
                  </a:lnTo>
                  <a:lnTo>
                    <a:pt x="37" y="10"/>
                  </a:lnTo>
                  <a:lnTo>
                    <a:pt x="37" y="31"/>
                  </a:lnTo>
                  <a:lnTo>
                    <a:pt x="33" y="54"/>
                  </a:lnTo>
                  <a:lnTo>
                    <a:pt x="31" y="73"/>
                  </a:lnTo>
                  <a:lnTo>
                    <a:pt x="28" y="91"/>
                  </a:lnTo>
                  <a:lnTo>
                    <a:pt x="22" y="114"/>
                  </a:lnTo>
                  <a:lnTo>
                    <a:pt x="15" y="135"/>
                  </a:lnTo>
                  <a:lnTo>
                    <a:pt x="6" y="142"/>
                  </a:lnTo>
                  <a:lnTo>
                    <a:pt x="1" y="137"/>
                  </a:lnTo>
                  <a:lnTo>
                    <a:pt x="0" y="127"/>
                  </a:lnTo>
                  <a:lnTo>
                    <a:pt x="0" y="113"/>
                  </a:lnTo>
                  <a:lnTo>
                    <a:pt x="1" y="98"/>
                  </a:lnTo>
                  <a:lnTo>
                    <a:pt x="7" y="99"/>
                  </a:lnTo>
                  <a:lnTo>
                    <a:pt x="13" y="94"/>
                  </a:lnTo>
                  <a:lnTo>
                    <a:pt x="16" y="85"/>
                  </a:lnTo>
                  <a:lnTo>
                    <a:pt x="20" y="7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79320" y="1483200"/>
              <a:ext cx="29880" cy="100800"/>
            </a:xfrm>
            <a:custGeom>
              <a:avLst/>
              <a:gdLst/>
              <a:ahLst/>
              <a:rect l="l" t="t" r="r" b="b"/>
              <a:pathLst>
                <a:path w="37" h="142">
                  <a:moveTo>
                    <a:pt x="20" y="70"/>
                  </a:moveTo>
                  <a:lnTo>
                    <a:pt x="20" y="70"/>
                  </a:lnTo>
                  <a:lnTo>
                    <a:pt x="20" y="60"/>
                  </a:lnTo>
                  <a:lnTo>
                    <a:pt x="18" y="51"/>
                  </a:lnTo>
                  <a:lnTo>
                    <a:pt x="15" y="46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14" y="29"/>
                  </a:lnTo>
                  <a:lnTo>
                    <a:pt x="18" y="14"/>
                  </a:lnTo>
                  <a:lnTo>
                    <a:pt x="25" y="3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7" y="10"/>
                  </a:lnTo>
                  <a:lnTo>
                    <a:pt x="37" y="31"/>
                  </a:lnTo>
                  <a:lnTo>
                    <a:pt x="33" y="54"/>
                  </a:lnTo>
                  <a:lnTo>
                    <a:pt x="31" y="73"/>
                  </a:lnTo>
                  <a:lnTo>
                    <a:pt x="31" y="73"/>
                  </a:lnTo>
                  <a:lnTo>
                    <a:pt x="28" y="91"/>
                  </a:lnTo>
                  <a:lnTo>
                    <a:pt x="22" y="114"/>
                  </a:lnTo>
                  <a:lnTo>
                    <a:pt x="15" y="135"/>
                  </a:lnTo>
                  <a:lnTo>
                    <a:pt x="6" y="142"/>
                  </a:lnTo>
                  <a:lnTo>
                    <a:pt x="6" y="142"/>
                  </a:lnTo>
                  <a:lnTo>
                    <a:pt x="1" y="137"/>
                  </a:lnTo>
                  <a:lnTo>
                    <a:pt x="0" y="127"/>
                  </a:lnTo>
                  <a:lnTo>
                    <a:pt x="0" y="113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7" y="99"/>
                  </a:lnTo>
                  <a:lnTo>
                    <a:pt x="13" y="94"/>
                  </a:lnTo>
                  <a:lnTo>
                    <a:pt x="16" y="85"/>
                  </a:lnTo>
                  <a:lnTo>
                    <a:pt x="20" y="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2280" y="1463400"/>
              <a:ext cx="43560" cy="103680"/>
            </a:xfrm>
            <a:custGeom>
              <a:avLst/>
              <a:gdLst/>
              <a:ahLst/>
              <a:rect l="l" t="t" r="r" b="b"/>
              <a:pathLst>
                <a:path w="51" h="145">
                  <a:moveTo>
                    <a:pt x="0" y="142"/>
                  </a:moveTo>
                  <a:lnTo>
                    <a:pt x="3" y="118"/>
                  </a:lnTo>
                  <a:lnTo>
                    <a:pt x="7" y="95"/>
                  </a:lnTo>
                  <a:lnTo>
                    <a:pt x="9" y="73"/>
                  </a:lnTo>
                  <a:lnTo>
                    <a:pt x="11" y="53"/>
                  </a:lnTo>
                  <a:lnTo>
                    <a:pt x="12" y="45"/>
                  </a:lnTo>
                  <a:lnTo>
                    <a:pt x="15" y="34"/>
                  </a:lnTo>
                  <a:lnTo>
                    <a:pt x="18" y="18"/>
                  </a:lnTo>
                  <a:lnTo>
                    <a:pt x="23" y="0"/>
                  </a:lnTo>
                  <a:lnTo>
                    <a:pt x="38" y="3"/>
                  </a:lnTo>
                  <a:lnTo>
                    <a:pt x="47" y="15"/>
                  </a:lnTo>
                  <a:lnTo>
                    <a:pt x="51" y="38"/>
                  </a:lnTo>
                  <a:lnTo>
                    <a:pt x="50" y="69"/>
                  </a:lnTo>
                  <a:lnTo>
                    <a:pt x="47" y="92"/>
                  </a:lnTo>
                  <a:lnTo>
                    <a:pt x="43" y="111"/>
                  </a:lnTo>
                  <a:lnTo>
                    <a:pt x="38" y="125"/>
                  </a:lnTo>
                  <a:lnTo>
                    <a:pt x="32" y="135"/>
                  </a:lnTo>
                  <a:lnTo>
                    <a:pt x="25" y="142"/>
                  </a:lnTo>
                  <a:lnTo>
                    <a:pt x="17" y="145"/>
                  </a:lnTo>
                  <a:lnTo>
                    <a:pt x="9" y="145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12280" y="1463400"/>
              <a:ext cx="43560" cy="103680"/>
            </a:xfrm>
            <a:custGeom>
              <a:avLst/>
              <a:gdLst/>
              <a:ahLst/>
              <a:rect l="l" t="t" r="r" b="b"/>
              <a:pathLst>
                <a:path w="51" h="145">
                  <a:moveTo>
                    <a:pt x="0" y="142"/>
                  </a:moveTo>
                  <a:lnTo>
                    <a:pt x="0" y="142"/>
                  </a:lnTo>
                  <a:lnTo>
                    <a:pt x="3" y="118"/>
                  </a:lnTo>
                  <a:lnTo>
                    <a:pt x="7" y="95"/>
                  </a:lnTo>
                  <a:lnTo>
                    <a:pt x="9" y="73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2" y="45"/>
                  </a:lnTo>
                  <a:lnTo>
                    <a:pt x="15" y="34"/>
                  </a:lnTo>
                  <a:lnTo>
                    <a:pt x="18" y="1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8" y="3"/>
                  </a:lnTo>
                  <a:lnTo>
                    <a:pt x="47" y="15"/>
                  </a:lnTo>
                  <a:lnTo>
                    <a:pt x="51" y="38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47" y="92"/>
                  </a:lnTo>
                  <a:lnTo>
                    <a:pt x="43" y="111"/>
                  </a:lnTo>
                  <a:lnTo>
                    <a:pt x="38" y="125"/>
                  </a:lnTo>
                  <a:lnTo>
                    <a:pt x="32" y="135"/>
                  </a:lnTo>
                  <a:lnTo>
                    <a:pt x="25" y="142"/>
                  </a:lnTo>
                  <a:lnTo>
                    <a:pt x="17" y="145"/>
                  </a:lnTo>
                  <a:lnTo>
                    <a:pt x="9" y="145"/>
                  </a:lnTo>
                  <a:lnTo>
                    <a:pt x="0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0760" y="1514520"/>
              <a:ext cx="15120" cy="39600"/>
            </a:xfrm>
            <a:custGeom>
              <a:avLst/>
              <a:gdLst/>
              <a:ahLst/>
              <a:rect l="l" t="t" r="r" b="b"/>
              <a:pathLst>
                <a:path w="19" h="54">
                  <a:moveTo>
                    <a:pt x="0" y="53"/>
                  </a:moveTo>
                  <a:lnTo>
                    <a:pt x="1" y="44"/>
                  </a:lnTo>
                  <a:lnTo>
                    <a:pt x="2" y="34"/>
                  </a:lnTo>
                  <a:lnTo>
                    <a:pt x="2" y="26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3"/>
                  </a:lnTo>
                  <a:lnTo>
                    <a:pt x="7" y="7"/>
                  </a:lnTo>
                  <a:lnTo>
                    <a:pt x="8" y="0"/>
                  </a:lnTo>
                  <a:lnTo>
                    <a:pt x="14" y="1"/>
                  </a:lnTo>
                  <a:lnTo>
                    <a:pt x="17" y="6"/>
                  </a:lnTo>
                  <a:lnTo>
                    <a:pt x="19" y="15"/>
                  </a:lnTo>
                  <a:lnTo>
                    <a:pt x="19" y="25"/>
                  </a:lnTo>
                  <a:lnTo>
                    <a:pt x="15" y="40"/>
                  </a:lnTo>
                  <a:lnTo>
                    <a:pt x="12" y="49"/>
                  </a:lnTo>
                  <a:lnTo>
                    <a:pt x="6" y="54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80760" y="1514520"/>
              <a:ext cx="15120" cy="39600"/>
            </a:xfrm>
            <a:custGeom>
              <a:avLst/>
              <a:gdLst/>
              <a:ahLst/>
              <a:rect l="l" t="t" r="r" b="b"/>
              <a:pathLst>
                <a:path w="19" h="54">
                  <a:moveTo>
                    <a:pt x="0" y="53"/>
                  </a:moveTo>
                  <a:lnTo>
                    <a:pt x="0" y="53"/>
                  </a:lnTo>
                  <a:lnTo>
                    <a:pt x="1" y="44"/>
                  </a:lnTo>
                  <a:lnTo>
                    <a:pt x="2" y="34"/>
                  </a:lnTo>
                  <a:lnTo>
                    <a:pt x="2" y="26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3"/>
                  </a:lnTo>
                  <a:lnTo>
                    <a:pt x="7" y="7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1"/>
                  </a:lnTo>
                  <a:lnTo>
                    <a:pt x="17" y="6"/>
                  </a:lnTo>
                  <a:lnTo>
                    <a:pt x="19" y="1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5" y="40"/>
                  </a:lnTo>
                  <a:lnTo>
                    <a:pt x="12" y="49"/>
                  </a:lnTo>
                  <a:lnTo>
                    <a:pt x="6" y="54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09960" y="1216080"/>
              <a:ext cx="75240" cy="69480"/>
            </a:xfrm>
            <a:custGeom>
              <a:avLst/>
              <a:gdLst/>
              <a:ahLst/>
              <a:rect l="l" t="t" r="r" b="b"/>
              <a:pathLst>
                <a:path w="91" h="98">
                  <a:moveTo>
                    <a:pt x="14" y="91"/>
                  </a:moveTo>
                  <a:lnTo>
                    <a:pt x="21" y="95"/>
                  </a:lnTo>
                  <a:lnTo>
                    <a:pt x="29" y="98"/>
                  </a:lnTo>
                  <a:lnTo>
                    <a:pt x="38" y="98"/>
                  </a:lnTo>
                  <a:lnTo>
                    <a:pt x="46" y="95"/>
                  </a:lnTo>
                  <a:lnTo>
                    <a:pt x="55" y="93"/>
                  </a:lnTo>
                  <a:lnTo>
                    <a:pt x="63" y="87"/>
                  </a:lnTo>
                  <a:lnTo>
                    <a:pt x="71" y="82"/>
                  </a:lnTo>
                  <a:lnTo>
                    <a:pt x="78" y="73"/>
                  </a:lnTo>
                  <a:lnTo>
                    <a:pt x="87" y="55"/>
                  </a:lnTo>
                  <a:lnTo>
                    <a:pt x="91" y="37"/>
                  </a:lnTo>
                  <a:lnTo>
                    <a:pt x="86" y="19"/>
                  </a:lnTo>
                  <a:lnTo>
                    <a:pt x="76" y="7"/>
                  </a:lnTo>
                  <a:lnTo>
                    <a:pt x="69" y="2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45" y="1"/>
                  </a:lnTo>
                  <a:lnTo>
                    <a:pt x="36" y="4"/>
                  </a:lnTo>
                  <a:lnTo>
                    <a:pt x="28" y="10"/>
                  </a:lnTo>
                  <a:lnTo>
                    <a:pt x="19" y="16"/>
                  </a:lnTo>
                  <a:lnTo>
                    <a:pt x="13" y="24"/>
                  </a:lnTo>
                  <a:lnTo>
                    <a:pt x="3" y="42"/>
                  </a:lnTo>
                  <a:lnTo>
                    <a:pt x="0" y="61"/>
                  </a:lnTo>
                  <a:lnTo>
                    <a:pt x="3" y="78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b2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09960" y="1216080"/>
              <a:ext cx="75240" cy="69480"/>
            </a:xfrm>
            <a:custGeom>
              <a:avLst/>
              <a:gdLst/>
              <a:ahLst/>
              <a:rect l="l" t="t" r="r" b="b"/>
              <a:pathLst>
                <a:path w="91" h="98">
                  <a:moveTo>
                    <a:pt x="14" y="91"/>
                  </a:moveTo>
                  <a:lnTo>
                    <a:pt x="14" y="91"/>
                  </a:lnTo>
                  <a:lnTo>
                    <a:pt x="21" y="95"/>
                  </a:lnTo>
                  <a:lnTo>
                    <a:pt x="29" y="98"/>
                  </a:lnTo>
                  <a:lnTo>
                    <a:pt x="38" y="98"/>
                  </a:lnTo>
                  <a:lnTo>
                    <a:pt x="46" y="95"/>
                  </a:lnTo>
                  <a:lnTo>
                    <a:pt x="55" y="93"/>
                  </a:lnTo>
                  <a:lnTo>
                    <a:pt x="63" y="87"/>
                  </a:lnTo>
                  <a:lnTo>
                    <a:pt x="71" y="82"/>
                  </a:lnTo>
                  <a:lnTo>
                    <a:pt x="78" y="73"/>
                  </a:lnTo>
                  <a:lnTo>
                    <a:pt x="78" y="73"/>
                  </a:lnTo>
                  <a:lnTo>
                    <a:pt x="87" y="55"/>
                  </a:lnTo>
                  <a:lnTo>
                    <a:pt x="91" y="37"/>
                  </a:lnTo>
                  <a:lnTo>
                    <a:pt x="86" y="19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69" y="2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45" y="1"/>
                  </a:lnTo>
                  <a:lnTo>
                    <a:pt x="36" y="4"/>
                  </a:lnTo>
                  <a:lnTo>
                    <a:pt x="28" y="10"/>
                  </a:lnTo>
                  <a:lnTo>
                    <a:pt x="19" y="16"/>
                  </a:lnTo>
                  <a:lnTo>
                    <a:pt x="13" y="24"/>
                  </a:lnTo>
                  <a:lnTo>
                    <a:pt x="13" y="24"/>
                  </a:lnTo>
                  <a:lnTo>
                    <a:pt x="3" y="42"/>
                  </a:lnTo>
                  <a:lnTo>
                    <a:pt x="0" y="61"/>
                  </a:lnTo>
                  <a:lnTo>
                    <a:pt x="3" y="78"/>
                  </a:lnTo>
                  <a:lnTo>
                    <a:pt x="14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66320" y="1493280"/>
              <a:ext cx="98280" cy="135000"/>
            </a:xfrm>
            <a:custGeom>
              <a:avLst/>
              <a:gdLst/>
              <a:ahLst/>
              <a:rect l="l" t="t" r="r" b="b"/>
              <a:pathLst>
                <a:path w="119" h="190">
                  <a:moveTo>
                    <a:pt x="58" y="59"/>
                  </a:moveTo>
                  <a:lnTo>
                    <a:pt x="52" y="54"/>
                  </a:lnTo>
                  <a:lnTo>
                    <a:pt x="48" y="47"/>
                  </a:lnTo>
                  <a:lnTo>
                    <a:pt x="44" y="39"/>
                  </a:lnTo>
                  <a:lnTo>
                    <a:pt x="43" y="31"/>
                  </a:lnTo>
                  <a:lnTo>
                    <a:pt x="45" y="18"/>
                  </a:lnTo>
                  <a:lnTo>
                    <a:pt x="51" y="9"/>
                  </a:lnTo>
                  <a:lnTo>
                    <a:pt x="60" y="2"/>
                  </a:lnTo>
                  <a:lnTo>
                    <a:pt x="72" y="0"/>
                  </a:lnTo>
                  <a:lnTo>
                    <a:pt x="82" y="2"/>
                  </a:lnTo>
                  <a:lnTo>
                    <a:pt x="91" y="9"/>
                  </a:lnTo>
                  <a:lnTo>
                    <a:pt x="97" y="18"/>
                  </a:lnTo>
                  <a:lnTo>
                    <a:pt x="99" y="31"/>
                  </a:lnTo>
                  <a:lnTo>
                    <a:pt x="98" y="39"/>
                  </a:lnTo>
                  <a:lnTo>
                    <a:pt x="97" y="46"/>
                  </a:lnTo>
                  <a:lnTo>
                    <a:pt x="94" y="52"/>
                  </a:lnTo>
                  <a:lnTo>
                    <a:pt x="88" y="56"/>
                  </a:lnTo>
                  <a:lnTo>
                    <a:pt x="89" y="68"/>
                  </a:lnTo>
                  <a:lnTo>
                    <a:pt x="99" y="77"/>
                  </a:lnTo>
                  <a:lnTo>
                    <a:pt x="110" y="90"/>
                  </a:lnTo>
                  <a:lnTo>
                    <a:pt x="117" y="105"/>
                  </a:lnTo>
                  <a:lnTo>
                    <a:pt x="119" y="124"/>
                  </a:lnTo>
                  <a:lnTo>
                    <a:pt x="118" y="138"/>
                  </a:lnTo>
                  <a:lnTo>
                    <a:pt x="114" y="149"/>
                  </a:lnTo>
                  <a:lnTo>
                    <a:pt x="109" y="161"/>
                  </a:lnTo>
                  <a:lnTo>
                    <a:pt x="102" y="170"/>
                  </a:lnTo>
                  <a:lnTo>
                    <a:pt x="92" y="178"/>
                  </a:lnTo>
                  <a:lnTo>
                    <a:pt x="82" y="185"/>
                  </a:lnTo>
                  <a:lnTo>
                    <a:pt x="72" y="189"/>
                  </a:lnTo>
                  <a:lnTo>
                    <a:pt x="59" y="190"/>
                  </a:lnTo>
                  <a:lnTo>
                    <a:pt x="48" y="189"/>
                  </a:lnTo>
                  <a:lnTo>
                    <a:pt x="36" y="185"/>
                  </a:lnTo>
                  <a:lnTo>
                    <a:pt x="27" y="178"/>
                  </a:lnTo>
                  <a:lnTo>
                    <a:pt x="18" y="170"/>
                  </a:lnTo>
                  <a:lnTo>
                    <a:pt x="11" y="161"/>
                  </a:lnTo>
                  <a:lnTo>
                    <a:pt x="5" y="149"/>
                  </a:lnTo>
                  <a:lnTo>
                    <a:pt x="1" y="138"/>
                  </a:lnTo>
                  <a:lnTo>
                    <a:pt x="0" y="124"/>
                  </a:lnTo>
                  <a:lnTo>
                    <a:pt x="1" y="109"/>
                  </a:lnTo>
                  <a:lnTo>
                    <a:pt x="7" y="95"/>
                  </a:lnTo>
                  <a:lnTo>
                    <a:pt x="14" y="84"/>
                  </a:lnTo>
                  <a:lnTo>
                    <a:pt x="23" y="73"/>
                  </a:lnTo>
                  <a:lnTo>
                    <a:pt x="28" y="71"/>
                  </a:lnTo>
                  <a:lnTo>
                    <a:pt x="33" y="72"/>
                  </a:lnTo>
                  <a:lnTo>
                    <a:pt x="35" y="78"/>
                  </a:lnTo>
                  <a:lnTo>
                    <a:pt x="34" y="86"/>
                  </a:lnTo>
                  <a:lnTo>
                    <a:pt x="31" y="99"/>
                  </a:lnTo>
                  <a:lnTo>
                    <a:pt x="35" y="113"/>
                  </a:lnTo>
                  <a:lnTo>
                    <a:pt x="44" y="123"/>
                  </a:lnTo>
                  <a:lnTo>
                    <a:pt x="59" y="124"/>
                  </a:lnTo>
                  <a:lnTo>
                    <a:pt x="63" y="122"/>
                  </a:lnTo>
                  <a:lnTo>
                    <a:pt x="68" y="115"/>
                  </a:lnTo>
                  <a:lnTo>
                    <a:pt x="68" y="99"/>
                  </a:lnTo>
                  <a:lnTo>
                    <a:pt x="58" y="75"/>
                  </a:lnTo>
                  <a:lnTo>
                    <a:pt x="58" y="69"/>
                  </a:lnTo>
                  <a:lnTo>
                    <a:pt x="58" y="64"/>
                  </a:lnTo>
                  <a:lnTo>
                    <a:pt x="58" y="60"/>
                  </a:lnTo>
                  <a:lnTo>
                    <a:pt x="58" y="59"/>
                  </a:lnTo>
                  <a:close/>
                </a:path>
              </a:pathLst>
            </a:custGeom>
            <a:solidFill>
              <a:srgbClr val="662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6320" y="1493280"/>
              <a:ext cx="98280" cy="135000"/>
            </a:xfrm>
            <a:custGeom>
              <a:avLst/>
              <a:gdLst/>
              <a:ahLst/>
              <a:rect l="l" t="t" r="r" b="b"/>
              <a:pathLst>
                <a:path w="119" h="190">
                  <a:moveTo>
                    <a:pt x="58" y="59"/>
                  </a:moveTo>
                  <a:lnTo>
                    <a:pt x="58" y="59"/>
                  </a:lnTo>
                  <a:lnTo>
                    <a:pt x="52" y="54"/>
                  </a:lnTo>
                  <a:lnTo>
                    <a:pt x="48" y="47"/>
                  </a:lnTo>
                  <a:lnTo>
                    <a:pt x="44" y="39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5" y="18"/>
                  </a:lnTo>
                  <a:lnTo>
                    <a:pt x="51" y="9"/>
                  </a:lnTo>
                  <a:lnTo>
                    <a:pt x="60" y="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82" y="2"/>
                  </a:lnTo>
                  <a:lnTo>
                    <a:pt x="91" y="9"/>
                  </a:lnTo>
                  <a:lnTo>
                    <a:pt x="97" y="18"/>
                  </a:lnTo>
                  <a:lnTo>
                    <a:pt x="99" y="31"/>
                  </a:lnTo>
                  <a:lnTo>
                    <a:pt x="99" y="31"/>
                  </a:lnTo>
                  <a:lnTo>
                    <a:pt x="98" y="39"/>
                  </a:lnTo>
                  <a:lnTo>
                    <a:pt x="97" y="46"/>
                  </a:lnTo>
                  <a:lnTo>
                    <a:pt x="94" y="52"/>
                  </a:lnTo>
                  <a:lnTo>
                    <a:pt x="88" y="56"/>
                  </a:lnTo>
                  <a:lnTo>
                    <a:pt x="89" y="68"/>
                  </a:lnTo>
                  <a:lnTo>
                    <a:pt x="89" y="68"/>
                  </a:lnTo>
                  <a:lnTo>
                    <a:pt x="99" y="77"/>
                  </a:lnTo>
                  <a:lnTo>
                    <a:pt x="110" y="90"/>
                  </a:lnTo>
                  <a:lnTo>
                    <a:pt x="117" y="105"/>
                  </a:lnTo>
                  <a:lnTo>
                    <a:pt x="119" y="124"/>
                  </a:lnTo>
                  <a:lnTo>
                    <a:pt x="119" y="124"/>
                  </a:lnTo>
                  <a:lnTo>
                    <a:pt x="118" y="138"/>
                  </a:lnTo>
                  <a:lnTo>
                    <a:pt x="114" y="149"/>
                  </a:lnTo>
                  <a:lnTo>
                    <a:pt x="109" y="161"/>
                  </a:lnTo>
                  <a:lnTo>
                    <a:pt x="102" y="170"/>
                  </a:lnTo>
                  <a:lnTo>
                    <a:pt x="92" y="178"/>
                  </a:lnTo>
                  <a:lnTo>
                    <a:pt x="82" y="185"/>
                  </a:lnTo>
                  <a:lnTo>
                    <a:pt x="72" y="189"/>
                  </a:lnTo>
                  <a:lnTo>
                    <a:pt x="59" y="190"/>
                  </a:lnTo>
                  <a:lnTo>
                    <a:pt x="59" y="190"/>
                  </a:lnTo>
                  <a:lnTo>
                    <a:pt x="48" y="189"/>
                  </a:lnTo>
                  <a:lnTo>
                    <a:pt x="36" y="185"/>
                  </a:lnTo>
                  <a:lnTo>
                    <a:pt x="27" y="178"/>
                  </a:lnTo>
                  <a:lnTo>
                    <a:pt x="18" y="170"/>
                  </a:lnTo>
                  <a:lnTo>
                    <a:pt x="11" y="161"/>
                  </a:lnTo>
                  <a:lnTo>
                    <a:pt x="5" y="149"/>
                  </a:lnTo>
                  <a:lnTo>
                    <a:pt x="1" y="138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1" y="109"/>
                  </a:lnTo>
                  <a:lnTo>
                    <a:pt x="7" y="95"/>
                  </a:lnTo>
                  <a:lnTo>
                    <a:pt x="14" y="84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8" y="71"/>
                  </a:lnTo>
                  <a:lnTo>
                    <a:pt x="33" y="72"/>
                  </a:lnTo>
                  <a:lnTo>
                    <a:pt x="35" y="78"/>
                  </a:lnTo>
                  <a:lnTo>
                    <a:pt x="34" y="86"/>
                  </a:lnTo>
                  <a:lnTo>
                    <a:pt x="34" y="86"/>
                  </a:lnTo>
                  <a:lnTo>
                    <a:pt x="31" y="99"/>
                  </a:lnTo>
                  <a:lnTo>
                    <a:pt x="35" y="113"/>
                  </a:lnTo>
                  <a:lnTo>
                    <a:pt x="44" y="123"/>
                  </a:lnTo>
                  <a:lnTo>
                    <a:pt x="59" y="124"/>
                  </a:lnTo>
                  <a:lnTo>
                    <a:pt x="59" y="124"/>
                  </a:lnTo>
                  <a:lnTo>
                    <a:pt x="63" y="122"/>
                  </a:lnTo>
                  <a:lnTo>
                    <a:pt x="68" y="115"/>
                  </a:lnTo>
                  <a:lnTo>
                    <a:pt x="68" y="99"/>
                  </a:lnTo>
                  <a:lnTo>
                    <a:pt x="58" y="75"/>
                  </a:lnTo>
                  <a:lnTo>
                    <a:pt x="58" y="75"/>
                  </a:lnTo>
                  <a:lnTo>
                    <a:pt x="58" y="69"/>
                  </a:lnTo>
                  <a:lnTo>
                    <a:pt x="58" y="64"/>
                  </a:lnTo>
                  <a:lnTo>
                    <a:pt x="58" y="60"/>
                  </a:lnTo>
                  <a:lnTo>
                    <a:pt x="58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48320" y="1068120"/>
              <a:ext cx="230040" cy="79560"/>
            </a:xfrm>
            <a:custGeom>
              <a:avLst/>
              <a:gdLst/>
              <a:ahLst/>
              <a:rect l="l" t="t" r="r" b="b"/>
              <a:pathLst>
                <a:path w="277" h="113">
                  <a:moveTo>
                    <a:pt x="256" y="0"/>
                  </a:moveTo>
                  <a:lnTo>
                    <a:pt x="262" y="0"/>
                  </a:lnTo>
                  <a:lnTo>
                    <a:pt x="268" y="1"/>
                  </a:lnTo>
                  <a:lnTo>
                    <a:pt x="272" y="5"/>
                  </a:lnTo>
                  <a:lnTo>
                    <a:pt x="276" y="11"/>
                  </a:lnTo>
                  <a:lnTo>
                    <a:pt x="277" y="16"/>
                  </a:lnTo>
                  <a:lnTo>
                    <a:pt x="274" y="22"/>
                  </a:lnTo>
                  <a:lnTo>
                    <a:pt x="271" y="27"/>
                  </a:lnTo>
                  <a:lnTo>
                    <a:pt x="266" y="29"/>
                  </a:lnTo>
                  <a:lnTo>
                    <a:pt x="20" y="112"/>
                  </a:lnTo>
                  <a:lnTo>
                    <a:pt x="14" y="113"/>
                  </a:lnTo>
                  <a:lnTo>
                    <a:pt x="9" y="111"/>
                  </a:lnTo>
                  <a:lnTo>
                    <a:pt x="4" y="107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2" y="90"/>
                  </a:lnTo>
                  <a:lnTo>
                    <a:pt x="5" y="85"/>
                  </a:lnTo>
                  <a:lnTo>
                    <a:pt x="11" y="83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48320" y="1068120"/>
              <a:ext cx="230040" cy="79560"/>
            </a:xfrm>
            <a:custGeom>
              <a:avLst/>
              <a:gdLst/>
              <a:ahLst/>
              <a:rect l="l" t="t" r="r" b="b"/>
              <a:pathLst>
                <a:path w="277" h="113">
                  <a:moveTo>
                    <a:pt x="256" y="0"/>
                  </a:moveTo>
                  <a:lnTo>
                    <a:pt x="256" y="0"/>
                  </a:lnTo>
                  <a:lnTo>
                    <a:pt x="262" y="0"/>
                  </a:lnTo>
                  <a:lnTo>
                    <a:pt x="268" y="1"/>
                  </a:lnTo>
                  <a:lnTo>
                    <a:pt x="272" y="5"/>
                  </a:lnTo>
                  <a:lnTo>
                    <a:pt x="276" y="11"/>
                  </a:lnTo>
                  <a:lnTo>
                    <a:pt x="276" y="11"/>
                  </a:lnTo>
                  <a:lnTo>
                    <a:pt x="277" y="16"/>
                  </a:lnTo>
                  <a:lnTo>
                    <a:pt x="274" y="22"/>
                  </a:lnTo>
                  <a:lnTo>
                    <a:pt x="271" y="27"/>
                  </a:lnTo>
                  <a:lnTo>
                    <a:pt x="266" y="29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14" y="113"/>
                  </a:lnTo>
                  <a:lnTo>
                    <a:pt x="9" y="111"/>
                  </a:lnTo>
                  <a:lnTo>
                    <a:pt x="4" y="107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2" y="90"/>
                  </a:lnTo>
                  <a:lnTo>
                    <a:pt x="5" y="85"/>
                  </a:lnTo>
                  <a:lnTo>
                    <a:pt x="11" y="83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91160" y="1027080"/>
              <a:ext cx="120240" cy="8532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5" y="120"/>
                  </a:moveTo>
                  <a:lnTo>
                    <a:pt x="4" y="85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7" y="36"/>
                  </a:lnTo>
                  <a:lnTo>
                    <a:pt x="14" y="25"/>
                  </a:lnTo>
                  <a:lnTo>
                    <a:pt x="22" y="16"/>
                  </a:lnTo>
                  <a:lnTo>
                    <a:pt x="32" y="9"/>
                  </a:lnTo>
                  <a:lnTo>
                    <a:pt x="45" y="3"/>
                  </a:lnTo>
                  <a:lnTo>
                    <a:pt x="58" y="1"/>
                  </a:lnTo>
                  <a:lnTo>
                    <a:pt x="70" y="0"/>
                  </a:lnTo>
                  <a:lnTo>
                    <a:pt x="84" y="2"/>
                  </a:lnTo>
                  <a:lnTo>
                    <a:pt x="96" y="6"/>
                  </a:lnTo>
                  <a:lnTo>
                    <a:pt x="107" y="13"/>
                  </a:lnTo>
                  <a:lnTo>
                    <a:pt x="116" y="21"/>
                  </a:lnTo>
                  <a:lnTo>
                    <a:pt x="124" y="31"/>
                  </a:lnTo>
                  <a:lnTo>
                    <a:pt x="130" y="42"/>
                  </a:lnTo>
                  <a:lnTo>
                    <a:pt x="144" y="78"/>
                  </a:lnTo>
                  <a:lnTo>
                    <a:pt x="15" y="12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91160" y="1027080"/>
              <a:ext cx="120240" cy="8532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5" y="120"/>
                  </a:moveTo>
                  <a:lnTo>
                    <a:pt x="4" y="85"/>
                  </a:lnTo>
                  <a:lnTo>
                    <a:pt x="4" y="85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7" y="36"/>
                  </a:lnTo>
                  <a:lnTo>
                    <a:pt x="14" y="25"/>
                  </a:lnTo>
                  <a:lnTo>
                    <a:pt x="22" y="16"/>
                  </a:lnTo>
                  <a:lnTo>
                    <a:pt x="32" y="9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58" y="1"/>
                  </a:lnTo>
                  <a:lnTo>
                    <a:pt x="70" y="0"/>
                  </a:lnTo>
                  <a:lnTo>
                    <a:pt x="84" y="2"/>
                  </a:lnTo>
                  <a:lnTo>
                    <a:pt x="96" y="6"/>
                  </a:lnTo>
                  <a:lnTo>
                    <a:pt x="107" y="13"/>
                  </a:lnTo>
                  <a:lnTo>
                    <a:pt x="116" y="21"/>
                  </a:lnTo>
                  <a:lnTo>
                    <a:pt x="124" y="31"/>
                  </a:lnTo>
                  <a:lnTo>
                    <a:pt x="130" y="42"/>
                  </a:lnTo>
                  <a:lnTo>
                    <a:pt x="144" y="78"/>
                  </a:lnTo>
                  <a:lnTo>
                    <a:pt x="15" y="1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85200" y="1302840"/>
              <a:ext cx="58320" cy="4644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0" y="61"/>
                  </a:moveTo>
                  <a:lnTo>
                    <a:pt x="2" y="62"/>
                  </a:lnTo>
                  <a:lnTo>
                    <a:pt x="10" y="63"/>
                  </a:lnTo>
                  <a:lnTo>
                    <a:pt x="19" y="64"/>
                  </a:lnTo>
                  <a:lnTo>
                    <a:pt x="32" y="65"/>
                  </a:lnTo>
                  <a:lnTo>
                    <a:pt x="44" y="64"/>
                  </a:lnTo>
                  <a:lnTo>
                    <a:pt x="55" y="62"/>
                  </a:lnTo>
                  <a:lnTo>
                    <a:pt x="64" y="56"/>
                  </a:lnTo>
                  <a:lnTo>
                    <a:pt x="69" y="46"/>
                  </a:lnTo>
                  <a:lnTo>
                    <a:pt x="69" y="35"/>
                  </a:lnTo>
                  <a:lnTo>
                    <a:pt x="65" y="25"/>
                  </a:lnTo>
                  <a:lnTo>
                    <a:pt x="59" y="18"/>
                  </a:lnTo>
                  <a:lnTo>
                    <a:pt x="50" y="11"/>
                  </a:lnTo>
                  <a:lnTo>
                    <a:pt x="40" y="7"/>
                  </a:lnTo>
                  <a:lnTo>
                    <a:pt x="30" y="3"/>
                  </a:lnTo>
                  <a:lnTo>
                    <a:pt x="21" y="1"/>
                  </a:lnTo>
                  <a:lnTo>
                    <a:pt x="1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21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85200" y="1302840"/>
              <a:ext cx="58320" cy="4644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0" y="61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10" y="63"/>
                  </a:lnTo>
                  <a:lnTo>
                    <a:pt x="19" y="64"/>
                  </a:lnTo>
                  <a:lnTo>
                    <a:pt x="32" y="65"/>
                  </a:lnTo>
                  <a:lnTo>
                    <a:pt x="44" y="64"/>
                  </a:lnTo>
                  <a:lnTo>
                    <a:pt x="55" y="62"/>
                  </a:lnTo>
                  <a:lnTo>
                    <a:pt x="64" y="56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69" y="35"/>
                  </a:lnTo>
                  <a:lnTo>
                    <a:pt x="65" y="25"/>
                  </a:lnTo>
                  <a:lnTo>
                    <a:pt x="59" y="18"/>
                  </a:lnTo>
                  <a:lnTo>
                    <a:pt x="50" y="11"/>
                  </a:lnTo>
                  <a:lnTo>
                    <a:pt x="40" y="7"/>
                  </a:lnTo>
                  <a:lnTo>
                    <a:pt x="30" y="3"/>
                  </a:lnTo>
                  <a:lnTo>
                    <a:pt x="21" y="1"/>
                  </a:lnTo>
                  <a:lnTo>
                    <a:pt x="11" y="0"/>
                  </a:lnTo>
                  <a:lnTo>
                    <a:pt x="0" y="6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11320" y="1105200"/>
              <a:ext cx="108720" cy="90720"/>
            </a:xfrm>
            <a:custGeom>
              <a:avLst/>
              <a:gdLst/>
              <a:ahLst/>
              <a:rect l="l" t="t" r="r" b="b"/>
              <a:pathLst>
                <a:path w="130" h="129">
                  <a:moveTo>
                    <a:pt x="130" y="0"/>
                  </a:moveTo>
                  <a:lnTo>
                    <a:pt x="130" y="65"/>
                  </a:lnTo>
                  <a:lnTo>
                    <a:pt x="129" y="77"/>
                  </a:lnTo>
                  <a:lnTo>
                    <a:pt x="126" y="90"/>
                  </a:lnTo>
                  <a:lnTo>
                    <a:pt x="119" y="100"/>
                  </a:lnTo>
                  <a:lnTo>
                    <a:pt x="112" y="111"/>
                  </a:lnTo>
                  <a:lnTo>
                    <a:pt x="102" y="118"/>
                  </a:lnTo>
                  <a:lnTo>
                    <a:pt x="91" y="124"/>
                  </a:lnTo>
                  <a:lnTo>
                    <a:pt x="79" y="128"/>
                  </a:lnTo>
                  <a:lnTo>
                    <a:pt x="66" y="129"/>
                  </a:lnTo>
                  <a:lnTo>
                    <a:pt x="53" y="128"/>
                  </a:lnTo>
                  <a:lnTo>
                    <a:pt x="41" y="124"/>
                  </a:lnTo>
                  <a:lnTo>
                    <a:pt x="29" y="118"/>
                  </a:lnTo>
                  <a:lnTo>
                    <a:pt x="20" y="111"/>
                  </a:lnTo>
                  <a:lnTo>
                    <a:pt x="12" y="100"/>
                  </a:lnTo>
                  <a:lnTo>
                    <a:pt x="6" y="90"/>
                  </a:lnTo>
                  <a:lnTo>
                    <a:pt x="1" y="77"/>
                  </a:lnTo>
                  <a:lnTo>
                    <a:pt x="0" y="65"/>
                  </a:lnTo>
                  <a:lnTo>
                    <a:pt x="0" y="42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21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11320" y="1105200"/>
              <a:ext cx="108720" cy="90720"/>
            </a:xfrm>
            <a:custGeom>
              <a:avLst/>
              <a:gdLst/>
              <a:ahLst/>
              <a:rect l="l" t="t" r="r" b="b"/>
              <a:pathLst>
                <a:path w="130" h="129">
                  <a:moveTo>
                    <a:pt x="130" y="0"/>
                  </a:moveTo>
                  <a:lnTo>
                    <a:pt x="130" y="65"/>
                  </a:lnTo>
                  <a:lnTo>
                    <a:pt x="130" y="65"/>
                  </a:lnTo>
                  <a:lnTo>
                    <a:pt x="129" y="77"/>
                  </a:lnTo>
                  <a:lnTo>
                    <a:pt x="126" y="90"/>
                  </a:lnTo>
                  <a:lnTo>
                    <a:pt x="119" y="100"/>
                  </a:lnTo>
                  <a:lnTo>
                    <a:pt x="112" y="111"/>
                  </a:lnTo>
                  <a:lnTo>
                    <a:pt x="102" y="118"/>
                  </a:lnTo>
                  <a:lnTo>
                    <a:pt x="91" y="124"/>
                  </a:lnTo>
                  <a:lnTo>
                    <a:pt x="79" y="128"/>
                  </a:lnTo>
                  <a:lnTo>
                    <a:pt x="66" y="129"/>
                  </a:lnTo>
                  <a:lnTo>
                    <a:pt x="66" y="129"/>
                  </a:lnTo>
                  <a:lnTo>
                    <a:pt x="53" y="128"/>
                  </a:lnTo>
                  <a:lnTo>
                    <a:pt x="41" y="124"/>
                  </a:lnTo>
                  <a:lnTo>
                    <a:pt x="29" y="118"/>
                  </a:lnTo>
                  <a:lnTo>
                    <a:pt x="20" y="111"/>
                  </a:lnTo>
                  <a:lnTo>
                    <a:pt x="12" y="100"/>
                  </a:lnTo>
                  <a:lnTo>
                    <a:pt x="6" y="90"/>
                  </a:lnTo>
                  <a:lnTo>
                    <a:pt x="1" y="77"/>
                  </a:lnTo>
                  <a:lnTo>
                    <a:pt x="0" y="65"/>
                  </a:lnTo>
                  <a:lnTo>
                    <a:pt x="0" y="42"/>
                  </a:lnTo>
                  <a:lnTo>
                    <a:pt x="13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85040" y="1184760"/>
              <a:ext cx="220320" cy="258120"/>
            </a:xfrm>
            <a:custGeom>
              <a:avLst/>
              <a:gdLst/>
              <a:ahLst/>
              <a:rect l="l" t="t" r="r" b="b"/>
              <a:pathLst>
                <a:path w="265" h="364">
                  <a:moveTo>
                    <a:pt x="165" y="72"/>
                  </a:moveTo>
                  <a:lnTo>
                    <a:pt x="162" y="57"/>
                  </a:lnTo>
                  <a:lnTo>
                    <a:pt x="158" y="45"/>
                  </a:lnTo>
                  <a:lnTo>
                    <a:pt x="149" y="34"/>
                  </a:lnTo>
                  <a:lnTo>
                    <a:pt x="135" y="30"/>
                  </a:lnTo>
                  <a:lnTo>
                    <a:pt x="132" y="24"/>
                  </a:lnTo>
                  <a:lnTo>
                    <a:pt x="130" y="18"/>
                  </a:lnTo>
                  <a:lnTo>
                    <a:pt x="126" y="13"/>
                  </a:lnTo>
                  <a:lnTo>
                    <a:pt x="119" y="8"/>
                  </a:lnTo>
                  <a:lnTo>
                    <a:pt x="108" y="5"/>
                  </a:lnTo>
                  <a:lnTo>
                    <a:pt x="96" y="1"/>
                  </a:lnTo>
                  <a:lnTo>
                    <a:pt x="77" y="0"/>
                  </a:lnTo>
                  <a:lnTo>
                    <a:pt x="55" y="1"/>
                  </a:lnTo>
                  <a:lnTo>
                    <a:pt x="55" y="9"/>
                  </a:lnTo>
                  <a:lnTo>
                    <a:pt x="56" y="17"/>
                  </a:lnTo>
                  <a:lnTo>
                    <a:pt x="56" y="24"/>
                  </a:lnTo>
                  <a:lnTo>
                    <a:pt x="56" y="26"/>
                  </a:lnTo>
                  <a:lnTo>
                    <a:pt x="47" y="31"/>
                  </a:lnTo>
                  <a:lnTo>
                    <a:pt x="38" y="36"/>
                  </a:lnTo>
                  <a:lnTo>
                    <a:pt x="30" y="42"/>
                  </a:lnTo>
                  <a:lnTo>
                    <a:pt x="22" y="49"/>
                  </a:lnTo>
                  <a:lnTo>
                    <a:pt x="14" y="60"/>
                  </a:lnTo>
                  <a:lnTo>
                    <a:pt x="8" y="71"/>
                  </a:lnTo>
                  <a:lnTo>
                    <a:pt x="5" y="86"/>
                  </a:lnTo>
                  <a:lnTo>
                    <a:pt x="4" y="103"/>
                  </a:lnTo>
                  <a:lnTo>
                    <a:pt x="2" y="124"/>
                  </a:lnTo>
                  <a:lnTo>
                    <a:pt x="1" y="148"/>
                  </a:lnTo>
                  <a:lnTo>
                    <a:pt x="0" y="173"/>
                  </a:lnTo>
                  <a:lnTo>
                    <a:pt x="1" y="197"/>
                  </a:lnTo>
                  <a:lnTo>
                    <a:pt x="4" y="219"/>
                  </a:lnTo>
                  <a:lnTo>
                    <a:pt x="9" y="237"/>
                  </a:lnTo>
                  <a:lnTo>
                    <a:pt x="20" y="250"/>
                  </a:lnTo>
                  <a:lnTo>
                    <a:pt x="35" y="255"/>
                  </a:lnTo>
                  <a:lnTo>
                    <a:pt x="52" y="257"/>
                  </a:lnTo>
                  <a:lnTo>
                    <a:pt x="66" y="258"/>
                  </a:lnTo>
                  <a:lnTo>
                    <a:pt x="78" y="258"/>
                  </a:lnTo>
                  <a:lnTo>
                    <a:pt x="88" y="259"/>
                  </a:lnTo>
                  <a:lnTo>
                    <a:pt x="94" y="259"/>
                  </a:lnTo>
                  <a:lnTo>
                    <a:pt x="99" y="259"/>
                  </a:lnTo>
                  <a:lnTo>
                    <a:pt x="101" y="259"/>
                  </a:lnTo>
                  <a:lnTo>
                    <a:pt x="103" y="259"/>
                  </a:lnTo>
                  <a:lnTo>
                    <a:pt x="99" y="280"/>
                  </a:lnTo>
                  <a:lnTo>
                    <a:pt x="98" y="313"/>
                  </a:lnTo>
                  <a:lnTo>
                    <a:pt x="96" y="346"/>
                  </a:lnTo>
                  <a:lnTo>
                    <a:pt x="96" y="360"/>
                  </a:lnTo>
                  <a:lnTo>
                    <a:pt x="113" y="361"/>
                  </a:lnTo>
                  <a:lnTo>
                    <a:pt x="131" y="362"/>
                  </a:lnTo>
                  <a:lnTo>
                    <a:pt x="150" y="362"/>
                  </a:lnTo>
                  <a:lnTo>
                    <a:pt x="167" y="364"/>
                  </a:lnTo>
                  <a:lnTo>
                    <a:pt x="184" y="364"/>
                  </a:lnTo>
                  <a:lnTo>
                    <a:pt x="198" y="364"/>
                  </a:lnTo>
                  <a:lnTo>
                    <a:pt x="211" y="364"/>
                  </a:lnTo>
                  <a:lnTo>
                    <a:pt x="220" y="364"/>
                  </a:lnTo>
                  <a:lnTo>
                    <a:pt x="228" y="362"/>
                  </a:lnTo>
                  <a:lnTo>
                    <a:pt x="235" y="361"/>
                  </a:lnTo>
                  <a:lnTo>
                    <a:pt x="243" y="359"/>
                  </a:lnTo>
                  <a:lnTo>
                    <a:pt x="250" y="357"/>
                  </a:lnTo>
                  <a:lnTo>
                    <a:pt x="256" y="354"/>
                  </a:lnTo>
                  <a:lnTo>
                    <a:pt x="260" y="352"/>
                  </a:lnTo>
                  <a:lnTo>
                    <a:pt x="264" y="351"/>
                  </a:lnTo>
                  <a:lnTo>
                    <a:pt x="265" y="350"/>
                  </a:lnTo>
                  <a:lnTo>
                    <a:pt x="263" y="341"/>
                  </a:lnTo>
                  <a:lnTo>
                    <a:pt x="258" y="333"/>
                  </a:lnTo>
                  <a:lnTo>
                    <a:pt x="252" y="324"/>
                  </a:lnTo>
                  <a:lnTo>
                    <a:pt x="246" y="318"/>
                  </a:lnTo>
                  <a:lnTo>
                    <a:pt x="240" y="311"/>
                  </a:lnTo>
                  <a:lnTo>
                    <a:pt x="231" y="305"/>
                  </a:lnTo>
                  <a:lnTo>
                    <a:pt x="222" y="301"/>
                  </a:lnTo>
                  <a:lnTo>
                    <a:pt x="213" y="299"/>
                  </a:lnTo>
                  <a:lnTo>
                    <a:pt x="214" y="277"/>
                  </a:lnTo>
                  <a:lnTo>
                    <a:pt x="214" y="255"/>
                  </a:lnTo>
                  <a:lnTo>
                    <a:pt x="215" y="236"/>
                  </a:lnTo>
                  <a:lnTo>
                    <a:pt x="215" y="222"/>
                  </a:lnTo>
                  <a:lnTo>
                    <a:pt x="215" y="217"/>
                  </a:lnTo>
                  <a:lnTo>
                    <a:pt x="213" y="212"/>
                  </a:lnTo>
                  <a:lnTo>
                    <a:pt x="211" y="207"/>
                  </a:lnTo>
                  <a:lnTo>
                    <a:pt x="205" y="202"/>
                  </a:lnTo>
                  <a:lnTo>
                    <a:pt x="198" y="198"/>
                  </a:lnTo>
                  <a:lnTo>
                    <a:pt x="188" y="194"/>
                  </a:lnTo>
                  <a:lnTo>
                    <a:pt x="175" y="191"/>
                  </a:lnTo>
                  <a:lnTo>
                    <a:pt x="159" y="190"/>
                  </a:lnTo>
                  <a:lnTo>
                    <a:pt x="161" y="166"/>
                  </a:lnTo>
                  <a:lnTo>
                    <a:pt x="162" y="133"/>
                  </a:lnTo>
                  <a:lnTo>
                    <a:pt x="165" y="100"/>
                  </a:lnTo>
                  <a:lnTo>
                    <a:pt x="165" y="72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85040" y="1184760"/>
              <a:ext cx="220320" cy="258120"/>
            </a:xfrm>
            <a:custGeom>
              <a:avLst/>
              <a:gdLst/>
              <a:ahLst/>
              <a:rect l="l" t="t" r="r" b="b"/>
              <a:pathLst>
                <a:path w="265" h="364">
                  <a:moveTo>
                    <a:pt x="165" y="72"/>
                  </a:moveTo>
                  <a:lnTo>
                    <a:pt x="165" y="72"/>
                  </a:lnTo>
                  <a:lnTo>
                    <a:pt x="162" y="57"/>
                  </a:lnTo>
                  <a:lnTo>
                    <a:pt x="158" y="45"/>
                  </a:lnTo>
                  <a:lnTo>
                    <a:pt x="149" y="34"/>
                  </a:lnTo>
                  <a:lnTo>
                    <a:pt x="135" y="30"/>
                  </a:lnTo>
                  <a:lnTo>
                    <a:pt x="135" y="30"/>
                  </a:lnTo>
                  <a:lnTo>
                    <a:pt x="132" y="24"/>
                  </a:lnTo>
                  <a:lnTo>
                    <a:pt x="130" y="18"/>
                  </a:lnTo>
                  <a:lnTo>
                    <a:pt x="126" y="13"/>
                  </a:lnTo>
                  <a:lnTo>
                    <a:pt x="119" y="8"/>
                  </a:lnTo>
                  <a:lnTo>
                    <a:pt x="108" y="5"/>
                  </a:lnTo>
                  <a:lnTo>
                    <a:pt x="96" y="1"/>
                  </a:lnTo>
                  <a:lnTo>
                    <a:pt x="77" y="0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9"/>
                  </a:lnTo>
                  <a:lnTo>
                    <a:pt x="56" y="17"/>
                  </a:lnTo>
                  <a:lnTo>
                    <a:pt x="56" y="24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47" y="31"/>
                  </a:lnTo>
                  <a:lnTo>
                    <a:pt x="38" y="36"/>
                  </a:lnTo>
                  <a:lnTo>
                    <a:pt x="30" y="42"/>
                  </a:lnTo>
                  <a:lnTo>
                    <a:pt x="22" y="49"/>
                  </a:lnTo>
                  <a:lnTo>
                    <a:pt x="14" y="60"/>
                  </a:lnTo>
                  <a:lnTo>
                    <a:pt x="8" y="71"/>
                  </a:lnTo>
                  <a:lnTo>
                    <a:pt x="5" y="86"/>
                  </a:lnTo>
                  <a:lnTo>
                    <a:pt x="4" y="103"/>
                  </a:lnTo>
                  <a:lnTo>
                    <a:pt x="4" y="103"/>
                  </a:lnTo>
                  <a:lnTo>
                    <a:pt x="2" y="124"/>
                  </a:lnTo>
                  <a:lnTo>
                    <a:pt x="1" y="148"/>
                  </a:lnTo>
                  <a:lnTo>
                    <a:pt x="0" y="173"/>
                  </a:lnTo>
                  <a:lnTo>
                    <a:pt x="1" y="197"/>
                  </a:lnTo>
                  <a:lnTo>
                    <a:pt x="4" y="219"/>
                  </a:lnTo>
                  <a:lnTo>
                    <a:pt x="9" y="237"/>
                  </a:lnTo>
                  <a:lnTo>
                    <a:pt x="20" y="250"/>
                  </a:lnTo>
                  <a:lnTo>
                    <a:pt x="35" y="255"/>
                  </a:lnTo>
                  <a:lnTo>
                    <a:pt x="35" y="255"/>
                  </a:lnTo>
                  <a:lnTo>
                    <a:pt x="52" y="257"/>
                  </a:lnTo>
                  <a:lnTo>
                    <a:pt x="66" y="258"/>
                  </a:lnTo>
                  <a:lnTo>
                    <a:pt x="78" y="258"/>
                  </a:lnTo>
                  <a:lnTo>
                    <a:pt x="88" y="259"/>
                  </a:lnTo>
                  <a:lnTo>
                    <a:pt x="94" y="259"/>
                  </a:lnTo>
                  <a:lnTo>
                    <a:pt x="99" y="259"/>
                  </a:lnTo>
                  <a:lnTo>
                    <a:pt x="101" y="259"/>
                  </a:lnTo>
                  <a:lnTo>
                    <a:pt x="103" y="259"/>
                  </a:lnTo>
                  <a:lnTo>
                    <a:pt x="103" y="259"/>
                  </a:lnTo>
                  <a:lnTo>
                    <a:pt x="99" y="280"/>
                  </a:lnTo>
                  <a:lnTo>
                    <a:pt x="98" y="313"/>
                  </a:lnTo>
                  <a:lnTo>
                    <a:pt x="96" y="346"/>
                  </a:lnTo>
                  <a:lnTo>
                    <a:pt x="96" y="360"/>
                  </a:lnTo>
                  <a:lnTo>
                    <a:pt x="96" y="360"/>
                  </a:lnTo>
                  <a:lnTo>
                    <a:pt x="113" y="361"/>
                  </a:lnTo>
                  <a:lnTo>
                    <a:pt x="131" y="362"/>
                  </a:lnTo>
                  <a:lnTo>
                    <a:pt x="150" y="362"/>
                  </a:lnTo>
                  <a:lnTo>
                    <a:pt x="167" y="364"/>
                  </a:lnTo>
                  <a:lnTo>
                    <a:pt x="184" y="364"/>
                  </a:lnTo>
                  <a:lnTo>
                    <a:pt x="198" y="364"/>
                  </a:lnTo>
                  <a:lnTo>
                    <a:pt x="211" y="364"/>
                  </a:lnTo>
                  <a:lnTo>
                    <a:pt x="220" y="364"/>
                  </a:lnTo>
                  <a:lnTo>
                    <a:pt x="220" y="364"/>
                  </a:lnTo>
                  <a:lnTo>
                    <a:pt x="228" y="362"/>
                  </a:lnTo>
                  <a:lnTo>
                    <a:pt x="235" y="361"/>
                  </a:lnTo>
                  <a:lnTo>
                    <a:pt x="243" y="359"/>
                  </a:lnTo>
                  <a:lnTo>
                    <a:pt x="250" y="357"/>
                  </a:lnTo>
                  <a:lnTo>
                    <a:pt x="256" y="354"/>
                  </a:lnTo>
                  <a:lnTo>
                    <a:pt x="260" y="352"/>
                  </a:lnTo>
                  <a:lnTo>
                    <a:pt x="264" y="351"/>
                  </a:lnTo>
                  <a:lnTo>
                    <a:pt x="265" y="350"/>
                  </a:lnTo>
                  <a:lnTo>
                    <a:pt x="265" y="350"/>
                  </a:lnTo>
                  <a:lnTo>
                    <a:pt x="263" y="341"/>
                  </a:lnTo>
                  <a:lnTo>
                    <a:pt x="258" y="333"/>
                  </a:lnTo>
                  <a:lnTo>
                    <a:pt x="252" y="324"/>
                  </a:lnTo>
                  <a:lnTo>
                    <a:pt x="246" y="318"/>
                  </a:lnTo>
                  <a:lnTo>
                    <a:pt x="240" y="311"/>
                  </a:lnTo>
                  <a:lnTo>
                    <a:pt x="231" y="305"/>
                  </a:lnTo>
                  <a:lnTo>
                    <a:pt x="222" y="301"/>
                  </a:lnTo>
                  <a:lnTo>
                    <a:pt x="213" y="299"/>
                  </a:lnTo>
                  <a:lnTo>
                    <a:pt x="213" y="299"/>
                  </a:lnTo>
                  <a:lnTo>
                    <a:pt x="214" y="277"/>
                  </a:lnTo>
                  <a:lnTo>
                    <a:pt x="214" y="255"/>
                  </a:lnTo>
                  <a:lnTo>
                    <a:pt x="215" y="236"/>
                  </a:lnTo>
                  <a:lnTo>
                    <a:pt x="215" y="222"/>
                  </a:lnTo>
                  <a:lnTo>
                    <a:pt x="215" y="222"/>
                  </a:lnTo>
                  <a:lnTo>
                    <a:pt x="215" y="217"/>
                  </a:lnTo>
                  <a:lnTo>
                    <a:pt x="213" y="212"/>
                  </a:lnTo>
                  <a:lnTo>
                    <a:pt x="211" y="207"/>
                  </a:lnTo>
                  <a:lnTo>
                    <a:pt x="205" y="202"/>
                  </a:lnTo>
                  <a:lnTo>
                    <a:pt x="198" y="198"/>
                  </a:lnTo>
                  <a:lnTo>
                    <a:pt x="188" y="194"/>
                  </a:lnTo>
                  <a:lnTo>
                    <a:pt x="175" y="191"/>
                  </a:lnTo>
                  <a:lnTo>
                    <a:pt x="159" y="190"/>
                  </a:lnTo>
                  <a:lnTo>
                    <a:pt x="159" y="190"/>
                  </a:lnTo>
                  <a:lnTo>
                    <a:pt x="161" y="166"/>
                  </a:lnTo>
                  <a:lnTo>
                    <a:pt x="162" y="133"/>
                  </a:lnTo>
                  <a:lnTo>
                    <a:pt x="165" y="100"/>
                  </a:lnTo>
                  <a:lnTo>
                    <a:pt x="165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78640" y="1220400"/>
              <a:ext cx="116640" cy="12600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140" y="118"/>
                  </a:moveTo>
                  <a:lnTo>
                    <a:pt x="132" y="117"/>
                  </a:lnTo>
                  <a:lnTo>
                    <a:pt x="122" y="114"/>
                  </a:lnTo>
                  <a:lnTo>
                    <a:pt x="112" y="112"/>
                  </a:lnTo>
                  <a:lnTo>
                    <a:pt x="102" y="110"/>
                  </a:lnTo>
                  <a:lnTo>
                    <a:pt x="93" y="106"/>
                  </a:lnTo>
                  <a:lnTo>
                    <a:pt x="85" y="104"/>
                  </a:lnTo>
                  <a:lnTo>
                    <a:pt x="80" y="103"/>
                  </a:lnTo>
                  <a:lnTo>
                    <a:pt x="78" y="102"/>
                  </a:lnTo>
                  <a:lnTo>
                    <a:pt x="77" y="81"/>
                  </a:lnTo>
                  <a:lnTo>
                    <a:pt x="75" y="60"/>
                  </a:lnTo>
                  <a:lnTo>
                    <a:pt x="72" y="42"/>
                  </a:lnTo>
                  <a:lnTo>
                    <a:pt x="70" y="28"/>
                  </a:lnTo>
                  <a:lnTo>
                    <a:pt x="66" y="18"/>
                  </a:lnTo>
                  <a:lnTo>
                    <a:pt x="57" y="8"/>
                  </a:lnTo>
                  <a:lnTo>
                    <a:pt x="45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8" y="10"/>
                  </a:lnTo>
                  <a:lnTo>
                    <a:pt x="1" y="22"/>
                  </a:lnTo>
                  <a:lnTo>
                    <a:pt x="0" y="42"/>
                  </a:lnTo>
                  <a:lnTo>
                    <a:pt x="3" y="76"/>
                  </a:lnTo>
                  <a:lnTo>
                    <a:pt x="6" y="94"/>
                  </a:lnTo>
                  <a:lnTo>
                    <a:pt x="8" y="103"/>
                  </a:lnTo>
                  <a:lnTo>
                    <a:pt x="9" y="111"/>
                  </a:lnTo>
                  <a:lnTo>
                    <a:pt x="9" y="117"/>
                  </a:lnTo>
                  <a:lnTo>
                    <a:pt x="10" y="124"/>
                  </a:lnTo>
                  <a:lnTo>
                    <a:pt x="13" y="132"/>
                  </a:lnTo>
                  <a:lnTo>
                    <a:pt x="16" y="139"/>
                  </a:lnTo>
                  <a:lnTo>
                    <a:pt x="22" y="147"/>
                  </a:lnTo>
                  <a:lnTo>
                    <a:pt x="30" y="153"/>
                  </a:lnTo>
                  <a:lnTo>
                    <a:pt x="40" y="159"/>
                  </a:lnTo>
                  <a:lnTo>
                    <a:pt x="55" y="164"/>
                  </a:lnTo>
                  <a:lnTo>
                    <a:pt x="71" y="167"/>
                  </a:lnTo>
                  <a:lnTo>
                    <a:pt x="85" y="170"/>
                  </a:lnTo>
                  <a:lnTo>
                    <a:pt x="98" y="173"/>
                  </a:lnTo>
                  <a:lnTo>
                    <a:pt x="108" y="174"/>
                  </a:lnTo>
                  <a:lnTo>
                    <a:pt x="117" y="176"/>
                  </a:lnTo>
                  <a:lnTo>
                    <a:pt x="123" y="178"/>
                  </a:lnTo>
                  <a:lnTo>
                    <a:pt x="128" y="179"/>
                  </a:lnTo>
                  <a:lnTo>
                    <a:pt x="129" y="179"/>
                  </a:lnTo>
                  <a:lnTo>
                    <a:pt x="140" y="118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78640" y="1220400"/>
              <a:ext cx="116640" cy="12600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140" y="118"/>
                  </a:moveTo>
                  <a:lnTo>
                    <a:pt x="140" y="118"/>
                  </a:lnTo>
                  <a:lnTo>
                    <a:pt x="132" y="117"/>
                  </a:lnTo>
                  <a:lnTo>
                    <a:pt x="122" y="114"/>
                  </a:lnTo>
                  <a:lnTo>
                    <a:pt x="112" y="112"/>
                  </a:lnTo>
                  <a:lnTo>
                    <a:pt x="102" y="110"/>
                  </a:lnTo>
                  <a:lnTo>
                    <a:pt x="93" y="106"/>
                  </a:lnTo>
                  <a:lnTo>
                    <a:pt x="85" y="104"/>
                  </a:lnTo>
                  <a:lnTo>
                    <a:pt x="80" y="103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77" y="81"/>
                  </a:lnTo>
                  <a:lnTo>
                    <a:pt x="75" y="60"/>
                  </a:lnTo>
                  <a:lnTo>
                    <a:pt x="72" y="42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66" y="18"/>
                  </a:lnTo>
                  <a:lnTo>
                    <a:pt x="57" y="8"/>
                  </a:lnTo>
                  <a:lnTo>
                    <a:pt x="45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8" y="10"/>
                  </a:lnTo>
                  <a:lnTo>
                    <a:pt x="1" y="2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3" y="76"/>
                  </a:lnTo>
                  <a:lnTo>
                    <a:pt x="6" y="94"/>
                  </a:lnTo>
                  <a:lnTo>
                    <a:pt x="8" y="103"/>
                  </a:lnTo>
                  <a:lnTo>
                    <a:pt x="9" y="111"/>
                  </a:lnTo>
                  <a:lnTo>
                    <a:pt x="9" y="111"/>
                  </a:lnTo>
                  <a:lnTo>
                    <a:pt x="9" y="117"/>
                  </a:lnTo>
                  <a:lnTo>
                    <a:pt x="10" y="124"/>
                  </a:lnTo>
                  <a:lnTo>
                    <a:pt x="13" y="132"/>
                  </a:lnTo>
                  <a:lnTo>
                    <a:pt x="16" y="139"/>
                  </a:lnTo>
                  <a:lnTo>
                    <a:pt x="22" y="147"/>
                  </a:lnTo>
                  <a:lnTo>
                    <a:pt x="30" y="153"/>
                  </a:lnTo>
                  <a:lnTo>
                    <a:pt x="40" y="159"/>
                  </a:lnTo>
                  <a:lnTo>
                    <a:pt x="55" y="164"/>
                  </a:lnTo>
                  <a:lnTo>
                    <a:pt x="55" y="164"/>
                  </a:lnTo>
                  <a:lnTo>
                    <a:pt x="71" y="167"/>
                  </a:lnTo>
                  <a:lnTo>
                    <a:pt x="85" y="170"/>
                  </a:lnTo>
                  <a:lnTo>
                    <a:pt x="98" y="173"/>
                  </a:lnTo>
                  <a:lnTo>
                    <a:pt x="108" y="174"/>
                  </a:lnTo>
                  <a:lnTo>
                    <a:pt x="117" y="176"/>
                  </a:lnTo>
                  <a:lnTo>
                    <a:pt x="123" y="178"/>
                  </a:lnTo>
                  <a:lnTo>
                    <a:pt x="128" y="179"/>
                  </a:lnTo>
                  <a:lnTo>
                    <a:pt x="129" y="179"/>
                  </a:lnTo>
                  <a:lnTo>
                    <a:pt x="140" y="1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8237520" y="826920"/>
            <a:ext cx="773280" cy="187200"/>
            <a:chOff x="8237520" y="826920"/>
            <a:chExt cx="773280" cy="187200"/>
          </a:xfrm>
        </p:grpSpPr>
        <p:grpSp>
          <p:nvGrpSpPr>
            <p:cNvPr id="151" name=""/>
            <p:cNvGrpSpPr/>
            <p:nvPr/>
          </p:nvGrpSpPr>
          <p:grpSpPr>
            <a:xfrm>
              <a:off x="8331840" y="902520"/>
              <a:ext cx="640440" cy="111600"/>
              <a:chOff x="8331840" y="902520"/>
              <a:chExt cx="640440" cy="11160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8500320" y="902520"/>
                <a:ext cx="471960" cy="71640"/>
                <a:chOff x="8500320" y="902520"/>
                <a:chExt cx="471960" cy="716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8886600" y="902520"/>
                  <a:ext cx="85680" cy="63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500320" y="910800"/>
                  <a:ext cx="145440" cy="63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8331840" y="903960"/>
                <a:ext cx="636840" cy="110160"/>
                <a:chOff x="8331840" y="903960"/>
                <a:chExt cx="636840" cy="11016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8506080" y="903960"/>
                  <a:ext cx="462600" cy="110160"/>
                  <a:chOff x="8506080" y="903960"/>
                  <a:chExt cx="462600" cy="110160"/>
                </a:xfrm>
              </p:grpSpPr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8506080" y="903960"/>
                    <a:ext cx="133560" cy="110160"/>
                    <a:chOff x="8506080" y="903960"/>
                    <a:chExt cx="133560" cy="110160"/>
                  </a:xfrm>
                </p:grpSpPr>
                <p:grpSp>
                  <p:nvGrpSpPr>
                    <p:cNvPr id="158" name=""/>
                    <p:cNvGrpSpPr/>
                    <p:nvPr/>
                  </p:nvGrpSpPr>
                  <p:grpSpPr>
                    <a:xfrm>
                      <a:off x="8506080" y="903960"/>
                      <a:ext cx="133560" cy="110160"/>
                      <a:chOff x="8506080" y="903960"/>
                      <a:chExt cx="133560" cy="110160"/>
                    </a:xfrm>
                  </p:grpSpPr>
                  <p:sp>
                    <p:nvSpPr>
                      <p:cNvPr id="159" name=""/>
                      <p:cNvSpPr/>
                      <p:nvPr/>
                    </p:nvSpPr>
                    <p:spPr>
                      <a:xfrm>
                        <a:off x="8521200" y="921600"/>
                        <a:ext cx="102960" cy="92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720" bIns="18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" name=""/>
                      <p:cNvSpPr/>
                      <p:nvPr/>
                    </p:nvSpPr>
                    <p:spPr>
                      <a:xfrm>
                        <a:off x="8507520" y="903960"/>
                        <a:ext cx="113400" cy="11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2559" y="21456"/>
                            </a:moveTo>
                            <a:arcTo wR="10800" hR="10800" stAng="4837647" swAng="598963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2559" y="21456"/>
                            </a:moveTo>
                            <a:arcTo wR="10800" hR="10800" stAng="4837647" swAng="5989635"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" name=""/>
                      <p:cNvSpPr/>
                      <p:nvPr/>
                    </p:nvSpPr>
                    <p:spPr>
                      <a:xfrm>
                        <a:off x="8506080" y="921600"/>
                        <a:ext cx="133560" cy="7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740"/>
                            </a:moveTo>
                            <a:arcTo wR="10800" hR="10800" stAng="-10780795" swAng="536597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740"/>
                            </a:moveTo>
                            <a:arcTo wR="10800" hR="10800" stAng="-10780795" swAng="5365977"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1320" bIns="313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2" name=""/>
                    <p:cNvGrpSpPr/>
                    <p:nvPr/>
                  </p:nvGrpSpPr>
                  <p:grpSpPr>
                    <a:xfrm>
                      <a:off x="8544960" y="939600"/>
                      <a:ext cx="58320" cy="55440"/>
                      <a:chOff x="8544960" y="939600"/>
                      <a:chExt cx="58320" cy="55440"/>
                    </a:xfrm>
                  </p:grpSpPr>
                  <p:sp>
                    <p:nvSpPr>
                      <p:cNvPr id="163" name=""/>
                      <p:cNvSpPr/>
                      <p:nvPr/>
                    </p:nvSpPr>
                    <p:spPr>
                      <a:xfrm>
                        <a:off x="8544960" y="939600"/>
                        <a:ext cx="58320" cy="554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255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7200" bIns="-7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64" name=""/>
                      <p:cNvGrpSpPr/>
                      <p:nvPr/>
                    </p:nvGrpSpPr>
                    <p:grpSpPr>
                      <a:xfrm>
                        <a:off x="8545680" y="940320"/>
                        <a:ext cx="56520" cy="52920"/>
                        <a:chOff x="8545680" y="940320"/>
                        <a:chExt cx="56520" cy="52920"/>
                      </a:xfrm>
                    </p:grpSpPr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>
                          <a:off x="8545680" y="940320"/>
                          <a:ext cx="56520" cy="52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5" h="240">
                              <a:moveTo>
                                <a:pt x="122" y="2"/>
                              </a:moveTo>
                              <a:lnTo>
                                <a:pt x="128" y="96"/>
                              </a:lnTo>
                              <a:lnTo>
                                <a:pt x="190" y="85"/>
                              </a:lnTo>
                              <a:lnTo>
                                <a:pt x="193" y="99"/>
                              </a:lnTo>
                              <a:lnTo>
                                <a:pt x="194" y="112"/>
                              </a:lnTo>
                              <a:lnTo>
                                <a:pt x="142" y="143"/>
                              </a:lnTo>
                              <a:lnTo>
                                <a:pt x="162" y="220"/>
                              </a:lnTo>
                              <a:lnTo>
                                <a:pt x="150" y="230"/>
                              </a:lnTo>
                              <a:lnTo>
                                <a:pt x="142" y="239"/>
                              </a:lnTo>
                              <a:lnTo>
                                <a:pt x="107" y="159"/>
                              </a:lnTo>
                              <a:lnTo>
                                <a:pt x="48" y="236"/>
                              </a:lnTo>
                              <a:lnTo>
                                <a:pt x="36" y="227"/>
                              </a:lnTo>
                              <a:lnTo>
                                <a:pt x="26" y="214"/>
                              </a:lnTo>
                              <a:lnTo>
                                <a:pt x="73" y="140"/>
                              </a:lnTo>
                              <a:lnTo>
                                <a:pt x="0" y="93"/>
                              </a:lnTo>
                              <a:lnTo>
                                <a:pt x="7" y="70"/>
                              </a:lnTo>
                              <a:lnTo>
                                <a:pt x="14" y="65"/>
                              </a:lnTo>
                              <a:lnTo>
                                <a:pt x="83" y="94"/>
                              </a:lnTo>
                              <a:lnTo>
                                <a:pt x="94" y="0"/>
                              </a:lnTo>
                              <a:lnTo>
                                <a:pt x="122" y="2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cap="rnd" w="255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120" bIns="6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66" name=""/>
                        <p:cNvGrpSpPr/>
                        <p:nvPr/>
                      </p:nvGrpSpPr>
                      <p:grpSpPr>
                        <a:xfrm>
                          <a:off x="8582400" y="963720"/>
                          <a:ext cx="4320" cy="3240"/>
                          <a:chOff x="8582400" y="963720"/>
                          <a:chExt cx="4320" cy="3240"/>
                        </a:xfrm>
                      </p:grpSpPr>
                      <p:sp>
                        <p:nvSpPr>
                          <p:cNvPr id="167" name=""/>
                          <p:cNvSpPr/>
                          <p:nvPr/>
                        </p:nvSpPr>
                        <p:spPr>
                          <a:xfrm>
                            <a:off x="8582400" y="96372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8" name=""/>
                          <p:cNvSpPr/>
                          <p:nvPr/>
                        </p:nvSpPr>
                        <p:spPr>
                          <a:xfrm>
                            <a:off x="8583840" y="96480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9" name=""/>
                        <p:cNvGrpSpPr/>
                        <p:nvPr/>
                      </p:nvGrpSpPr>
                      <p:grpSpPr>
                        <a:xfrm>
                          <a:off x="8565840" y="963000"/>
                          <a:ext cx="4320" cy="3240"/>
                          <a:chOff x="8565840" y="963000"/>
                          <a:chExt cx="4320" cy="3240"/>
                        </a:xfrm>
                      </p:grpSpPr>
                      <p:sp>
                        <p:nvSpPr>
                          <p:cNvPr id="170" name=""/>
                          <p:cNvSpPr/>
                          <p:nvPr/>
                        </p:nvSpPr>
                        <p:spPr>
                          <a:xfrm>
                            <a:off x="8565840" y="96300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1" name=""/>
                          <p:cNvSpPr/>
                          <p:nvPr/>
                        </p:nvSpPr>
                        <p:spPr>
                          <a:xfrm>
                            <a:off x="8566920" y="964080"/>
                            <a:ext cx="180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2" name=""/>
                        <p:cNvGrpSpPr/>
                        <p:nvPr/>
                      </p:nvGrpSpPr>
                      <p:grpSpPr>
                        <a:xfrm>
                          <a:off x="8575200" y="958320"/>
                          <a:ext cx="4320" cy="3240"/>
                          <a:chOff x="8575200" y="958320"/>
                          <a:chExt cx="4320" cy="3240"/>
                        </a:xfrm>
                      </p:grpSpPr>
                      <p:sp>
                        <p:nvSpPr>
                          <p:cNvPr id="173" name=""/>
                          <p:cNvSpPr/>
                          <p:nvPr/>
                        </p:nvSpPr>
                        <p:spPr>
                          <a:xfrm>
                            <a:off x="8575200" y="95832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4" name=""/>
                          <p:cNvSpPr/>
                          <p:nvPr/>
                        </p:nvSpPr>
                        <p:spPr>
                          <a:xfrm>
                            <a:off x="8576280" y="95940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5" name=""/>
                        <p:cNvGrpSpPr/>
                        <p:nvPr/>
                      </p:nvGrpSpPr>
                      <p:grpSpPr>
                        <a:xfrm>
                          <a:off x="8568360" y="972000"/>
                          <a:ext cx="4320" cy="3240"/>
                          <a:chOff x="8568360" y="972000"/>
                          <a:chExt cx="4320" cy="3240"/>
                        </a:xfrm>
                      </p:grpSpPr>
                      <p:sp>
                        <p:nvSpPr>
                          <p:cNvPr id="176" name=""/>
                          <p:cNvSpPr/>
                          <p:nvPr/>
                        </p:nvSpPr>
                        <p:spPr>
                          <a:xfrm>
                            <a:off x="8568360" y="97200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7" name=""/>
                          <p:cNvSpPr/>
                          <p:nvPr/>
                        </p:nvSpPr>
                        <p:spPr>
                          <a:xfrm>
                            <a:off x="8569440" y="97308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>
                          <a:off x="8571240" y="963720"/>
                          <a:ext cx="10080" cy="7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41760" bIns="-41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79" name=""/>
                        <p:cNvGrpSpPr/>
                        <p:nvPr/>
                      </p:nvGrpSpPr>
                      <p:grpSpPr>
                        <a:xfrm>
                          <a:off x="8580600" y="972000"/>
                          <a:ext cx="4680" cy="3240"/>
                          <a:chOff x="8580600" y="972000"/>
                          <a:chExt cx="4680" cy="3240"/>
                        </a:xfrm>
                      </p:grpSpPr>
                      <p:sp>
                        <p:nvSpPr>
                          <p:cNvPr id="180" name=""/>
                          <p:cNvSpPr/>
                          <p:nvPr/>
                        </p:nvSpPr>
                        <p:spPr>
                          <a:xfrm>
                            <a:off x="8580600" y="972000"/>
                            <a:ext cx="468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1" name=""/>
                          <p:cNvSpPr/>
                          <p:nvPr/>
                        </p:nvSpPr>
                        <p:spPr>
                          <a:xfrm>
                            <a:off x="8582400" y="97308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82" name=""/>
                        <p:cNvGrpSpPr/>
                        <p:nvPr/>
                      </p:nvGrpSpPr>
                      <p:grpSpPr>
                        <a:xfrm>
                          <a:off x="8569440" y="963360"/>
                          <a:ext cx="20880" cy="11160"/>
                          <a:chOff x="8569440" y="963360"/>
                          <a:chExt cx="20880" cy="11160"/>
                        </a:xfrm>
                      </p:grpSpPr>
                      <p:sp>
                        <p:nvSpPr>
                          <p:cNvPr id="183" name=""/>
                          <p:cNvSpPr/>
                          <p:nvPr/>
                        </p:nvSpPr>
                        <p:spPr>
                          <a:xfrm flipH="1">
                            <a:off x="8573400" y="963360"/>
                            <a:ext cx="12600" cy="25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4" name=""/>
                          <p:cNvSpPr/>
                          <p:nvPr/>
                        </p:nvSpPr>
                        <p:spPr>
                          <a:xfrm>
                            <a:off x="8570880" y="963720"/>
                            <a:ext cx="360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 flipH="1" flipV="1">
                            <a:off x="8573760" y="965160"/>
                            <a:ext cx="16560" cy="936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 flipV="1">
                            <a:off x="8569440" y="965160"/>
                            <a:ext cx="1440" cy="79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 flipH="1">
                            <a:off x="8571600" y="973440"/>
                            <a:ext cx="9360" cy="36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8861760" y="915480"/>
                    <a:ext cx="106920" cy="78840"/>
                    <a:chOff x="8861760" y="915480"/>
                    <a:chExt cx="106920" cy="78840"/>
                  </a:xfrm>
                </p:grpSpPr>
                <p:grpSp>
                  <p:nvGrpSpPr>
                    <p:cNvPr id="189" name=""/>
                    <p:cNvGrpSpPr/>
                    <p:nvPr/>
                  </p:nvGrpSpPr>
                  <p:grpSpPr>
                    <a:xfrm>
                      <a:off x="8861760" y="915480"/>
                      <a:ext cx="106920" cy="78840"/>
                      <a:chOff x="8861760" y="915480"/>
                      <a:chExt cx="106920" cy="78840"/>
                    </a:xfrm>
                  </p:grpSpPr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8873280" y="915480"/>
                        <a:ext cx="89280" cy="788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000" bIns="9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8861760" y="930960"/>
                        <a:ext cx="106920" cy="6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742" y="21600"/>
                            </a:moveTo>
                            <a:arcTo wR="10800" hR="10800" stAng="5418611" swAng="542880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742" y="21600"/>
                            </a:moveTo>
                            <a:arcTo wR="10800" hR="10800" stAng="5418611" swAng="5428803"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6560" bIns="16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2" name=""/>
                    <p:cNvGrpSpPr/>
                    <p:nvPr/>
                  </p:nvGrpSpPr>
                  <p:grpSpPr>
                    <a:xfrm>
                      <a:off x="8883000" y="931680"/>
                      <a:ext cx="63000" cy="46800"/>
                      <a:chOff x="8883000" y="931680"/>
                      <a:chExt cx="63000" cy="46800"/>
                    </a:xfrm>
                  </p:grpSpPr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8884800" y="931680"/>
                        <a:ext cx="60840" cy="468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255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4" name=""/>
                      <p:cNvSpPr/>
                      <p:nvPr/>
                    </p:nvSpPr>
                    <p:spPr>
                      <a:xfrm>
                        <a:off x="8883000" y="931680"/>
                        <a:ext cx="63000" cy="46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212">
                            <a:moveTo>
                              <a:pt x="133" y="0"/>
                            </a:moveTo>
                            <a:lnTo>
                              <a:pt x="134" y="90"/>
                            </a:lnTo>
                            <a:lnTo>
                              <a:pt x="210" y="76"/>
                            </a:lnTo>
                            <a:lnTo>
                              <a:pt x="216" y="86"/>
                            </a:lnTo>
                            <a:lnTo>
                              <a:pt x="217" y="102"/>
                            </a:lnTo>
                            <a:lnTo>
                              <a:pt x="143" y="128"/>
                            </a:lnTo>
                            <a:lnTo>
                              <a:pt x="179" y="195"/>
                            </a:lnTo>
                            <a:lnTo>
                              <a:pt x="165" y="206"/>
                            </a:lnTo>
                            <a:lnTo>
                              <a:pt x="151" y="211"/>
                            </a:lnTo>
                            <a:lnTo>
                              <a:pt x="110" y="156"/>
                            </a:lnTo>
                            <a:lnTo>
                              <a:pt x="58" y="207"/>
                            </a:lnTo>
                            <a:lnTo>
                              <a:pt x="44" y="200"/>
                            </a:lnTo>
                            <a:lnTo>
                              <a:pt x="33" y="187"/>
                            </a:lnTo>
                            <a:lnTo>
                              <a:pt x="82" y="125"/>
                            </a:lnTo>
                            <a:lnTo>
                              <a:pt x="13" y="90"/>
                            </a:lnTo>
                            <a:lnTo>
                              <a:pt x="0" y="86"/>
                            </a:lnTo>
                            <a:lnTo>
                              <a:pt x="6" y="68"/>
                            </a:lnTo>
                            <a:lnTo>
                              <a:pt x="10" y="62"/>
                            </a:lnTo>
                            <a:lnTo>
                              <a:pt x="100" y="90"/>
                            </a:lnTo>
                            <a:lnTo>
                              <a:pt x="103" y="0"/>
                            </a:lnTo>
                            <a:lnTo>
                              <a:pt x="119" y="0"/>
                            </a:lnTo>
                            <a:lnTo>
                              <a:pt x="133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255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" bIns="-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8906040" y="947520"/>
                        <a:ext cx="20880" cy="16920"/>
                        <a:chOff x="8906040" y="947520"/>
                        <a:chExt cx="20880" cy="16920"/>
                      </a:xfrm>
                    </p:grpSpPr>
                    <p:grpSp>
                      <p:nvGrpSpPr>
                        <p:cNvPr id="196" name=""/>
                        <p:cNvGrpSpPr/>
                        <p:nvPr/>
                      </p:nvGrpSpPr>
                      <p:grpSpPr>
                        <a:xfrm>
                          <a:off x="8922600" y="952560"/>
                          <a:ext cx="4320" cy="3240"/>
                          <a:chOff x="8922600" y="952560"/>
                          <a:chExt cx="4320" cy="3240"/>
                        </a:xfrm>
                      </p:grpSpPr>
                      <p:sp>
                        <p:nvSpPr>
                          <p:cNvPr id="197" name=""/>
                          <p:cNvSpPr/>
                          <p:nvPr/>
                        </p:nvSpPr>
                        <p:spPr>
                          <a:xfrm>
                            <a:off x="8922600" y="95256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8" name=""/>
                          <p:cNvSpPr/>
                          <p:nvPr/>
                        </p:nvSpPr>
                        <p:spPr>
                          <a:xfrm>
                            <a:off x="8924040" y="95364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99" name=""/>
                        <p:cNvGrpSpPr/>
                        <p:nvPr/>
                      </p:nvGrpSpPr>
                      <p:grpSpPr>
                        <a:xfrm>
                          <a:off x="8906040" y="952200"/>
                          <a:ext cx="4320" cy="3240"/>
                          <a:chOff x="8906040" y="952200"/>
                          <a:chExt cx="4320" cy="3240"/>
                        </a:xfrm>
                      </p:grpSpPr>
                      <p:sp>
                        <p:nvSpPr>
                          <p:cNvPr id="200" name=""/>
                          <p:cNvSpPr/>
                          <p:nvPr/>
                        </p:nvSpPr>
                        <p:spPr>
                          <a:xfrm>
                            <a:off x="8906040" y="952200"/>
                            <a:ext cx="432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1" name=""/>
                          <p:cNvSpPr/>
                          <p:nvPr/>
                        </p:nvSpPr>
                        <p:spPr>
                          <a:xfrm>
                            <a:off x="8907480" y="95328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2" name=""/>
                        <p:cNvGrpSpPr/>
                        <p:nvPr/>
                      </p:nvGrpSpPr>
                      <p:grpSpPr>
                        <a:xfrm>
                          <a:off x="8915040" y="947520"/>
                          <a:ext cx="4680" cy="3240"/>
                          <a:chOff x="8915040" y="947520"/>
                          <a:chExt cx="4680" cy="3240"/>
                        </a:xfrm>
                      </p:grpSpPr>
                      <p:sp>
                        <p:nvSpPr>
                          <p:cNvPr id="203" name=""/>
                          <p:cNvSpPr/>
                          <p:nvPr/>
                        </p:nvSpPr>
                        <p:spPr>
                          <a:xfrm>
                            <a:off x="8915040" y="947520"/>
                            <a:ext cx="468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4" name=""/>
                          <p:cNvSpPr/>
                          <p:nvPr/>
                        </p:nvSpPr>
                        <p:spPr>
                          <a:xfrm>
                            <a:off x="8916840" y="94860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5" name=""/>
                        <p:cNvGrpSpPr/>
                        <p:nvPr/>
                      </p:nvGrpSpPr>
                      <p:grpSpPr>
                        <a:xfrm>
                          <a:off x="8908200" y="960840"/>
                          <a:ext cx="4680" cy="3240"/>
                          <a:chOff x="8908200" y="960840"/>
                          <a:chExt cx="4680" cy="3240"/>
                        </a:xfrm>
                      </p:grpSpPr>
                      <p:sp>
                        <p:nvSpPr>
                          <p:cNvPr id="206" name=""/>
                          <p:cNvSpPr/>
                          <p:nvPr/>
                        </p:nvSpPr>
                        <p:spPr>
                          <a:xfrm>
                            <a:off x="8908200" y="960840"/>
                            <a:ext cx="468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7" name=""/>
                          <p:cNvSpPr/>
                          <p:nvPr/>
                        </p:nvSpPr>
                        <p:spPr>
                          <a:xfrm>
                            <a:off x="8910000" y="96192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8" name=""/>
                        <p:cNvGrpSpPr/>
                        <p:nvPr/>
                      </p:nvGrpSpPr>
                      <p:grpSpPr>
                        <a:xfrm>
                          <a:off x="8919000" y="961200"/>
                          <a:ext cx="4680" cy="3240"/>
                          <a:chOff x="8919000" y="961200"/>
                          <a:chExt cx="4680" cy="3240"/>
                        </a:xfrm>
                      </p:grpSpPr>
                      <p:sp>
                        <p:nvSpPr>
                          <p:cNvPr id="209" name=""/>
                          <p:cNvSpPr/>
                          <p:nvPr/>
                        </p:nvSpPr>
                        <p:spPr>
                          <a:xfrm>
                            <a:off x="8919000" y="961200"/>
                            <a:ext cx="4680" cy="3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0" name=""/>
                          <p:cNvSpPr/>
                          <p:nvPr/>
                        </p:nvSpPr>
                        <p:spPr>
                          <a:xfrm>
                            <a:off x="8920440" y="962280"/>
                            <a:ext cx="1440" cy="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5720" bIns="-45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11" name=""/>
                      <p:cNvGrpSpPr/>
                      <p:nvPr/>
                    </p:nvGrpSpPr>
                    <p:grpSpPr>
                      <a:xfrm>
                        <a:off x="8909280" y="952560"/>
                        <a:ext cx="17640" cy="11520"/>
                        <a:chOff x="8909280" y="952560"/>
                        <a:chExt cx="17640" cy="11520"/>
                      </a:xfrm>
                    </p:grpSpPr>
                    <p:grpSp>
                      <p:nvGrpSpPr>
                        <p:cNvPr id="212" name=""/>
                        <p:cNvGrpSpPr/>
                        <p:nvPr/>
                      </p:nvGrpSpPr>
                      <p:grpSpPr>
                        <a:xfrm>
                          <a:off x="8909280" y="952560"/>
                          <a:ext cx="17640" cy="10800"/>
                          <a:chOff x="8909280" y="952560"/>
                          <a:chExt cx="17640" cy="10800"/>
                        </a:xfrm>
                      </p:grpSpPr>
                      <p:sp>
                        <p:nvSpPr>
                          <p:cNvPr id="213" name=""/>
                          <p:cNvSpPr/>
                          <p:nvPr/>
                        </p:nvSpPr>
                        <p:spPr>
                          <a:xfrm>
                            <a:off x="8911800" y="952920"/>
                            <a:ext cx="9720" cy="756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1400" bIns="-414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4" name=""/>
                          <p:cNvSpPr/>
                          <p:nvPr/>
                        </p:nvSpPr>
                        <p:spPr>
                          <a:xfrm flipH="1">
                            <a:off x="8913600" y="952560"/>
                            <a:ext cx="12600" cy="25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>
                            <a:off x="8911080" y="952920"/>
                            <a:ext cx="324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flipH="1" flipV="1">
                            <a:off x="8913600" y="954720"/>
                            <a:ext cx="13320" cy="864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160" bIns="-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flipV="1">
                            <a:off x="8909280" y="954360"/>
                            <a:ext cx="1800" cy="79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18" name=""/>
                        <p:cNvSpPr/>
                        <p:nvPr/>
                      </p:nvSpPr>
                      <p:spPr>
                        <a:xfrm flipH="1">
                          <a:off x="8910360" y="963000"/>
                          <a:ext cx="10080" cy="108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8331840" y="906840"/>
                  <a:ext cx="543600" cy="91800"/>
                  <a:chOff x="8331840" y="906840"/>
                  <a:chExt cx="543600" cy="91800"/>
                </a:xfrm>
              </p:grpSpPr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8331840" y="906840"/>
                    <a:ext cx="543600" cy="91800"/>
                    <a:chOff x="8331840" y="906840"/>
                    <a:chExt cx="543600" cy="91800"/>
                  </a:xfrm>
                </p:grpSpPr>
                <p:grpSp>
                  <p:nvGrpSpPr>
                    <p:cNvPr id="221" name=""/>
                    <p:cNvGrpSpPr/>
                    <p:nvPr/>
                  </p:nvGrpSpPr>
                  <p:grpSpPr>
                    <a:xfrm>
                      <a:off x="8331840" y="906840"/>
                      <a:ext cx="462960" cy="91800"/>
                      <a:chOff x="8331840" y="906840"/>
                      <a:chExt cx="462960" cy="91800"/>
                    </a:xfrm>
                  </p:grpSpPr>
                  <p:sp>
                    <p:nvSpPr>
                      <p:cNvPr id="222" name=""/>
                      <p:cNvSpPr/>
                      <p:nvPr/>
                    </p:nvSpPr>
                    <p:spPr>
                      <a:xfrm>
                        <a:off x="8331840" y="906840"/>
                        <a:ext cx="102960" cy="918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360" bIns="18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8698680" y="931680"/>
                        <a:ext cx="96120" cy="554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7200" bIns="-7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8769600" y="958320"/>
                      <a:ext cx="10584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6" h="67">
                          <a:moveTo>
                            <a:pt x="353" y="60"/>
                          </a:moveTo>
                          <a:lnTo>
                            <a:pt x="0" y="66"/>
                          </a:lnTo>
                          <a:lnTo>
                            <a:pt x="0" y="0"/>
                          </a:lnTo>
                          <a:lnTo>
                            <a:pt x="365" y="16"/>
                          </a:lnTo>
                          <a:lnTo>
                            <a:pt x="353" y="6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5" name=""/>
                  <p:cNvSpPr/>
                  <p:nvPr/>
                </p:nvSpPr>
                <p:spPr>
                  <a:xfrm>
                    <a:off x="8343360" y="960840"/>
                    <a:ext cx="1782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99">
                        <a:moveTo>
                          <a:pt x="590" y="98"/>
                        </a:moveTo>
                        <a:lnTo>
                          <a:pt x="37" y="63"/>
                        </a:lnTo>
                        <a:lnTo>
                          <a:pt x="0" y="0"/>
                        </a:lnTo>
                        <a:lnTo>
                          <a:pt x="615" y="34"/>
                        </a:lnTo>
                        <a:lnTo>
                          <a:pt x="590" y="98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6" name=""/>
            <p:cNvGrpSpPr/>
            <p:nvPr/>
          </p:nvGrpSpPr>
          <p:grpSpPr>
            <a:xfrm>
              <a:off x="8237520" y="826920"/>
              <a:ext cx="773280" cy="156960"/>
              <a:chOff x="8237520" y="826920"/>
              <a:chExt cx="773280" cy="15696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8367120" y="830160"/>
                <a:ext cx="469080" cy="55800"/>
                <a:chOff x="8367120" y="830160"/>
                <a:chExt cx="469080" cy="558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8611200" y="833760"/>
                  <a:ext cx="225000" cy="52200"/>
                </a:xfrm>
                <a:custGeom>
                  <a:avLst/>
                  <a:gdLst/>
                  <a:ahLst/>
                  <a:rect l="l" t="t" r="r" b="b"/>
                  <a:pathLst>
                    <a:path w="778" h="238">
                      <a:moveTo>
                        <a:pt x="745" y="210"/>
                      </a:moveTo>
                      <a:lnTo>
                        <a:pt x="698" y="177"/>
                      </a:lnTo>
                      <a:lnTo>
                        <a:pt x="647" y="146"/>
                      </a:lnTo>
                      <a:lnTo>
                        <a:pt x="596" y="115"/>
                      </a:lnTo>
                      <a:lnTo>
                        <a:pt x="555" y="90"/>
                      </a:lnTo>
                      <a:lnTo>
                        <a:pt x="507" y="60"/>
                      </a:lnTo>
                      <a:lnTo>
                        <a:pt x="481" y="45"/>
                      </a:lnTo>
                      <a:lnTo>
                        <a:pt x="463" y="36"/>
                      </a:lnTo>
                      <a:lnTo>
                        <a:pt x="444" y="29"/>
                      </a:lnTo>
                      <a:lnTo>
                        <a:pt x="432" y="26"/>
                      </a:lnTo>
                      <a:lnTo>
                        <a:pt x="420" y="22"/>
                      </a:lnTo>
                      <a:lnTo>
                        <a:pt x="388" y="16"/>
                      </a:lnTo>
                      <a:lnTo>
                        <a:pt x="282" y="8"/>
                      </a:lnTo>
                      <a:lnTo>
                        <a:pt x="216" y="4"/>
                      </a:lnTo>
                      <a:lnTo>
                        <a:pt x="142" y="0"/>
                      </a:lnTo>
                      <a:lnTo>
                        <a:pt x="98" y="0"/>
                      </a:lnTo>
                      <a:lnTo>
                        <a:pt x="78" y="0"/>
                      </a:lnTo>
                      <a:lnTo>
                        <a:pt x="65" y="2"/>
                      </a:lnTo>
                      <a:lnTo>
                        <a:pt x="54" y="6"/>
                      </a:lnTo>
                      <a:lnTo>
                        <a:pt x="46" y="13"/>
                      </a:lnTo>
                      <a:lnTo>
                        <a:pt x="40" y="19"/>
                      </a:lnTo>
                      <a:lnTo>
                        <a:pt x="35" y="35"/>
                      </a:lnTo>
                      <a:lnTo>
                        <a:pt x="30" y="49"/>
                      </a:lnTo>
                      <a:lnTo>
                        <a:pt x="25" y="70"/>
                      </a:lnTo>
                      <a:lnTo>
                        <a:pt x="8" y="173"/>
                      </a:lnTo>
                      <a:lnTo>
                        <a:pt x="4" y="186"/>
                      </a:lnTo>
                      <a:lnTo>
                        <a:pt x="2" y="193"/>
                      </a:lnTo>
                      <a:lnTo>
                        <a:pt x="0" y="203"/>
                      </a:lnTo>
                      <a:lnTo>
                        <a:pt x="1" y="209"/>
                      </a:lnTo>
                      <a:lnTo>
                        <a:pt x="4" y="215"/>
                      </a:lnTo>
                      <a:lnTo>
                        <a:pt x="11" y="222"/>
                      </a:lnTo>
                      <a:lnTo>
                        <a:pt x="26" y="223"/>
                      </a:lnTo>
                      <a:lnTo>
                        <a:pt x="176" y="226"/>
                      </a:lnTo>
                      <a:lnTo>
                        <a:pt x="391" y="232"/>
                      </a:lnTo>
                      <a:lnTo>
                        <a:pt x="729" y="236"/>
                      </a:lnTo>
                      <a:lnTo>
                        <a:pt x="668" y="214"/>
                      </a:lnTo>
                      <a:lnTo>
                        <a:pt x="243" y="203"/>
                      </a:lnTo>
                      <a:lnTo>
                        <a:pt x="238" y="181"/>
                      </a:lnTo>
                      <a:lnTo>
                        <a:pt x="233" y="162"/>
                      </a:lnTo>
                      <a:lnTo>
                        <a:pt x="225" y="142"/>
                      </a:lnTo>
                      <a:lnTo>
                        <a:pt x="218" y="126"/>
                      </a:lnTo>
                      <a:lnTo>
                        <a:pt x="153" y="135"/>
                      </a:lnTo>
                      <a:lnTo>
                        <a:pt x="111" y="135"/>
                      </a:lnTo>
                      <a:lnTo>
                        <a:pt x="43" y="67"/>
                      </a:lnTo>
                      <a:lnTo>
                        <a:pt x="62" y="65"/>
                      </a:lnTo>
                      <a:lnTo>
                        <a:pt x="124" y="67"/>
                      </a:lnTo>
                      <a:lnTo>
                        <a:pt x="132" y="83"/>
                      </a:lnTo>
                      <a:lnTo>
                        <a:pt x="142" y="104"/>
                      </a:lnTo>
                      <a:lnTo>
                        <a:pt x="147" y="120"/>
                      </a:lnTo>
                      <a:lnTo>
                        <a:pt x="154" y="135"/>
                      </a:lnTo>
                      <a:lnTo>
                        <a:pt x="218" y="126"/>
                      </a:lnTo>
                      <a:lnTo>
                        <a:pt x="209" y="105"/>
                      </a:lnTo>
                      <a:lnTo>
                        <a:pt x="196" y="82"/>
                      </a:lnTo>
                      <a:lnTo>
                        <a:pt x="187" y="64"/>
                      </a:lnTo>
                      <a:lnTo>
                        <a:pt x="388" y="70"/>
                      </a:lnTo>
                      <a:lnTo>
                        <a:pt x="441" y="73"/>
                      </a:lnTo>
                      <a:lnTo>
                        <a:pt x="459" y="75"/>
                      </a:lnTo>
                      <a:lnTo>
                        <a:pt x="486" y="89"/>
                      </a:lnTo>
                      <a:lnTo>
                        <a:pt x="524" y="112"/>
                      </a:lnTo>
                      <a:lnTo>
                        <a:pt x="563" y="139"/>
                      </a:lnTo>
                      <a:lnTo>
                        <a:pt x="600" y="163"/>
                      </a:lnTo>
                      <a:lnTo>
                        <a:pt x="639" y="191"/>
                      </a:lnTo>
                      <a:lnTo>
                        <a:pt x="668" y="213"/>
                      </a:lnTo>
                      <a:lnTo>
                        <a:pt x="732" y="236"/>
                      </a:lnTo>
                      <a:lnTo>
                        <a:pt x="777" y="237"/>
                      </a:lnTo>
                      <a:lnTo>
                        <a:pt x="745" y="2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367120" y="830160"/>
                  <a:ext cx="194760" cy="42480"/>
                </a:xfrm>
                <a:custGeom>
                  <a:avLst/>
                  <a:gdLst/>
                  <a:ahLst/>
                  <a:rect l="l" t="t" r="r" b="b"/>
                  <a:pathLst>
                    <a:path w="673" h="193">
                      <a:moveTo>
                        <a:pt x="638" y="2"/>
                      </a:moveTo>
                      <a:lnTo>
                        <a:pt x="649" y="3"/>
                      </a:lnTo>
                      <a:lnTo>
                        <a:pt x="659" y="7"/>
                      </a:lnTo>
                      <a:lnTo>
                        <a:pt x="667" y="12"/>
                      </a:lnTo>
                      <a:lnTo>
                        <a:pt x="671" y="19"/>
                      </a:lnTo>
                      <a:lnTo>
                        <a:pt x="672" y="30"/>
                      </a:lnTo>
                      <a:lnTo>
                        <a:pt x="670" y="39"/>
                      </a:lnTo>
                      <a:lnTo>
                        <a:pt x="664" y="59"/>
                      </a:lnTo>
                      <a:lnTo>
                        <a:pt x="658" y="76"/>
                      </a:lnTo>
                      <a:lnTo>
                        <a:pt x="644" y="72"/>
                      </a:lnTo>
                      <a:lnTo>
                        <a:pt x="625" y="71"/>
                      </a:lnTo>
                      <a:lnTo>
                        <a:pt x="601" y="71"/>
                      </a:lnTo>
                      <a:lnTo>
                        <a:pt x="561" y="71"/>
                      </a:lnTo>
                      <a:lnTo>
                        <a:pt x="552" y="78"/>
                      </a:lnTo>
                      <a:lnTo>
                        <a:pt x="546" y="89"/>
                      </a:lnTo>
                      <a:lnTo>
                        <a:pt x="540" y="101"/>
                      </a:lnTo>
                      <a:lnTo>
                        <a:pt x="535" y="111"/>
                      </a:lnTo>
                      <a:lnTo>
                        <a:pt x="529" y="125"/>
                      </a:lnTo>
                      <a:lnTo>
                        <a:pt x="523" y="140"/>
                      </a:lnTo>
                      <a:lnTo>
                        <a:pt x="519" y="153"/>
                      </a:lnTo>
                      <a:lnTo>
                        <a:pt x="518" y="162"/>
                      </a:lnTo>
                      <a:lnTo>
                        <a:pt x="514" y="188"/>
                      </a:lnTo>
                      <a:lnTo>
                        <a:pt x="456" y="191"/>
                      </a:lnTo>
                      <a:lnTo>
                        <a:pt x="427" y="191"/>
                      </a:lnTo>
                      <a:lnTo>
                        <a:pt x="435" y="156"/>
                      </a:lnTo>
                      <a:lnTo>
                        <a:pt x="440" y="138"/>
                      </a:lnTo>
                      <a:lnTo>
                        <a:pt x="447" y="119"/>
                      </a:lnTo>
                      <a:lnTo>
                        <a:pt x="453" y="103"/>
                      </a:lnTo>
                      <a:lnTo>
                        <a:pt x="464" y="76"/>
                      </a:lnTo>
                      <a:lnTo>
                        <a:pt x="447" y="80"/>
                      </a:lnTo>
                      <a:lnTo>
                        <a:pt x="427" y="85"/>
                      </a:lnTo>
                      <a:lnTo>
                        <a:pt x="408" y="93"/>
                      </a:lnTo>
                      <a:lnTo>
                        <a:pt x="389" y="105"/>
                      </a:lnTo>
                      <a:lnTo>
                        <a:pt x="369" y="119"/>
                      </a:lnTo>
                      <a:lnTo>
                        <a:pt x="352" y="132"/>
                      </a:lnTo>
                      <a:lnTo>
                        <a:pt x="337" y="151"/>
                      </a:lnTo>
                      <a:lnTo>
                        <a:pt x="307" y="192"/>
                      </a:lnTo>
                      <a:lnTo>
                        <a:pt x="152" y="192"/>
                      </a:lnTo>
                      <a:lnTo>
                        <a:pt x="0" y="191"/>
                      </a:lnTo>
                      <a:lnTo>
                        <a:pt x="138" y="106"/>
                      </a:lnTo>
                      <a:lnTo>
                        <a:pt x="213" y="62"/>
                      </a:lnTo>
                      <a:lnTo>
                        <a:pt x="259" y="36"/>
                      </a:lnTo>
                      <a:lnTo>
                        <a:pt x="295" y="21"/>
                      </a:lnTo>
                      <a:lnTo>
                        <a:pt x="313" y="16"/>
                      </a:lnTo>
                      <a:lnTo>
                        <a:pt x="340" y="12"/>
                      </a:lnTo>
                      <a:lnTo>
                        <a:pt x="429" y="9"/>
                      </a:lnTo>
                      <a:lnTo>
                        <a:pt x="566" y="0"/>
                      </a:lnTo>
                      <a:lnTo>
                        <a:pt x="627" y="0"/>
                      </a:lnTo>
                      <a:lnTo>
                        <a:pt x="638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8237520" y="826920"/>
                <a:ext cx="773280" cy="156960"/>
              </a:xfrm>
              <a:custGeom>
                <a:avLst/>
                <a:gdLst/>
                <a:ahLst/>
                <a:rect l="l" t="t" r="r" b="b"/>
                <a:pathLst>
                  <a:path w="2672" h="716">
                    <a:moveTo>
                      <a:pt x="2635" y="463"/>
                    </a:moveTo>
                    <a:lnTo>
                      <a:pt x="2602" y="385"/>
                    </a:lnTo>
                    <a:lnTo>
                      <a:pt x="2593" y="372"/>
                    </a:lnTo>
                    <a:lnTo>
                      <a:pt x="2578" y="359"/>
                    </a:lnTo>
                    <a:lnTo>
                      <a:pt x="2560" y="349"/>
                    </a:lnTo>
                    <a:lnTo>
                      <a:pt x="2494" y="328"/>
                    </a:lnTo>
                    <a:lnTo>
                      <a:pt x="2391" y="305"/>
                    </a:lnTo>
                    <a:lnTo>
                      <a:pt x="2279" y="282"/>
                    </a:lnTo>
                    <a:lnTo>
                      <a:pt x="2176" y="261"/>
                    </a:lnTo>
                    <a:lnTo>
                      <a:pt x="2077" y="243"/>
                    </a:lnTo>
                    <a:lnTo>
                      <a:pt x="2057" y="271"/>
                    </a:lnTo>
                    <a:lnTo>
                      <a:pt x="2025" y="277"/>
                    </a:lnTo>
                    <a:lnTo>
                      <a:pt x="1984" y="277"/>
                    </a:lnTo>
                    <a:lnTo>
                      <a:pt x="1851" y="274"/>
                    </a:lnTo>
                    <a:lnTo>
                      <a:pt x="1647" y="271"/>
                    </a:lnTo>
                    <a:lnTo>
                      <a:pt x="1379" y="264"/>
                    </a:lnTo>
                    <a:lnTo>
                      <a:pt x="1308" y="264"/>
                    </a:lnTo>
                    <a:lnTo>
                      <a:pt x="1295" y="263"/>
                    </a:lnTo>
                    <a:lnTo>
                      <a:pt x="1288" y="255"/>
                    </a:lnTo>
                    <a:lnTo>
                      <a:pt x="1285" y="247"/>
                    </a:lnTo>
                    <a:lnTo>
                      <a:pt x="1285" y="239"/>
                    </a:lnTo>
                    <a:lnTo>
                      <a:pt x="1286" y="232"/>
                    </a:lnTo>
                    <a:lnTo>
                      <a:pt x="1288" y="226"/>
                    </a:lnTo>
                    <a:lnTo>
                      <a:pt x="1290" y="216"/>
                    </a:lnTo>
                    <a:lnTo>
                      <a:pt x="1310" y="102"/>
                    </a:lnTo>
                    <a:lnTo>
                      <a:pt x="1320" y="68"/>
                    </a:lnTo>
                    <a:lnTo>
                      <a:pt x="1326" y="51"/>
                    </a:lnTo>
                    <a:lnTo>
                      <a:pt x="1337" y="40"/>
                    </a:lnTo>
                    <a:lnTo>
                      <a:pt x="1348" y="35"/>
                    </a:lnTo>
                    <a:lnTo>
                      <a:pt x="1364" y="33"/>
                    </a:lnTo>
                    <a:lnTo>
                      <a:pt x="1400" y="33"/>
                    </a:lnTo>
                    <a:lnTo>
                      <a:pt x="1493" y="36"/>
                    </a:lnTo>
                    <a:lnTo>
                      <a:pt x="1572" y="41"/>
                    </a:lnTo>
                    <a:lnTo>
                      <a:pt x="1666" y="49"/>
                    </a:lnTo>
                    <a:lnTo>
                      <a:pt x="1692" y="53"/>
                    </a:lnTo>
                    <a:lnTo>
                      <a:pt x="1714" y="57"/>
                    </a:lnTo>
                    <a:lnTo>
                      <a:pt x="1734" y="63"/>
                    </a:lnTo>
                    <a:lnTo>
                      <a:pt x="1754" y="71"/>
                    </a:lnTo>
                    <a:lnTo>
                      <a:pt x="1776" y="82"/>
                    </a:lnTo>
                    <a:lnTo>
                      <a:pt x="1865" y="138"/>
                    </a:lnTo>
                    <a:lnTo>
                      <a:pt x="2059" y="261"/>
                    </a:lnTo>
                    <a:lnTo>
                      <a:pt x="2070" y="246"/>
                    </a:lnTo>
                    <a:lnTo>
                      <a:pt x="1954" y="171"/>
                    </a:lnTo>
                    <a:lnTo>
                      <a:pt x="1882" y="126"/>
                    </a:lnTo>
                    <a:lnTo>
                      <a:pt x="1775" y="60"/>
                    </a:lnTo>
                    <a:lnTo>
                      <a:pt x="1752" y="49"/>
                    </a:lnTo>
                    <a:lnTo>
                      <a:pt x="1733" y="42"/>
                    </a:lnTo>
                    <a:lnTo>
                      <a:pt x="1715" y="37"/>
                    </a:lnTo>
                    <a:lnTo>
                      <a:pt x="1700" y="33"/>
                    </a:lnTo>
                    <a:lnTo>
                      <a:pt x="1671" y="29"/>
                    </a:lnTo>
                    <a:lnTo>
                      <a:pt x="1626" y="22"/>
                    </a:lnTo>
                    <a:lnTo>
                      <a:pt x="1482" y="7"/>
                    </a:lnTo>
                    <a:lnTo>
                      <a:pt x="1348" y="0"/>
                    </a:lnTo>
                    <a:lnTo>
                      <a:pt x="1221" y="0"/>
                    </a:lnTo>
                    <a:lnTo>
                      <a:pt x="1102" y="0"/>
                    </a:lnTo>
                    <a:lnTo>
                      <a:pt x="1030" y="1"/>
                    </a:lnTo>
                    <a:lnTo>
                      <a:pt x="920" y="8"/>
                    </a:lnTo>
                    <a:lnTo>
                      <a:pt x="850" y="13"/>
                    </a:lnTo>
                    <a:lnTo>
                      <a:pt x="820" y="16"/>
                    </a:lnTo>
                    <a:lnTo>
                      <a:pt x="794" y="21"/>
                    </a:lnTo>
                    <a:lnTo>
                      <a:pt x="772" y="26"/>
                    </a:lnTo>
                    <a:lnTo>
                      <a:pt x="754" y="33"/>
                    </a:lnTo>
                    <a:lnTo>
                      <a:pt x="777" y="29"/>
                    </a:lnTo>
                    <a:lnTo>
                      <a:pt x="800" y="29"/>
                    </a:lnTo>
                    <a:lnTo>
                      <a:pt x="829" y="26"/>
                    </a:lnTo>
                    <a:lnTo>
                      <a:pt x="878" y="23"/>
                    </a:lnTo>
                    <a:lnTo>
                      <a:pt x="943" y="19"/>
                    </a:lnTo>
                    <a:lnTo>
                      <a:pt x="1045" y="15"/>
                    </a:lnTo>
                    <a:lnTo>
                      <a:pt x="1074" y="16"/>
                    </a:lnTo>
                    <a:lnTo>
                      <a:pt x="1094" y="19"/>
                    </a:lnTo>
                    <a:lnTo>
                      <a:pt x="1105" y="22"/>
                    </a:lnTo>
                    <a:lnTo>
                      <a:pt x="1113" y="26"/>
                    </a:lnTo>
                    <a:lnTo>
                      <a:pt x="1118" y="33"/>
                    </a:lnTo>
                    <a:lnTo>
                      <a:pt x="1120" y="39"/>
                    </a:lnTo>
                    <a:lnTo>
                      <a:pt x="1120" y="49"/>
                    </a:lnTo>
                    <a:lnTo>
                      <a:pt x="1118" y="59"/>
                    </a:lnTo>
                    <a:lnTo>
                      <a:pt x="1078" y="167"/>
                    </a:lnTo>
                    <a:lnTo>
                      <a:pt x="1066" y="185"/>
                    </a:lnTo>
                    <a:lnTo>
                      <a:pt x="1061" y="192"/>
                    </a:lnTo>
                    <a:lnTo>
                      <a:pt x="1054" y="199"/>
                    </a:lnTo>
                    <a:lnTo>
                      <a:pt x="1046" y="204"/>
                    </a:lnTo>
                    <a:lnTo>
                      <a:pt x="1036" y="208"/>
                    </a:lnTo>
                    <a:lnTo>
                      <a:pt x="1026" y="212"/>
                    </a:lnTo>
                    <a:lnTo>
                      <a:pt x="1010" y="212"/>
                    </a:lnTo>
                    <a:lnTo>
                      <a:pt x="984" y="214"/>
                    </a:lnTo>
                    <a:lnTo>
                      <a:pt x="930" y="214"/>
                    </a:lnTo>
                    <a:lnTo>
                      <a:pt x="849" y="216"/>
                    </a:lnTo>
                    <a:lnTo>
                      <a:pt x="785" y="216"/>
                    </a:lnTo>
                    <a:lnTo>
                      <a:pt x="703" y="216"/>
                    </a:lnTo>
                    <a:lnTo>
                      <a:pt x="612" y="216"/>
                    </a:lnTo>
                    <a:lnTo>
                      <a:pt x="515" y="216"/>
                    </a:lnTo>
                    <a:lnTo>
                      <a:pt x="464" y="216"/>
                    </a:lnTo>
                    <a:lnTo>
                      <a:pt x="440" y="215"/>
                    </a:lnTo>
                    <a:lnTo>
                      <a:pt x="392" y="218"/>
                    </a:lnTo>
                    <a:lnTo>
                      <a:pt x="332" y="223"/>
                    </a:lnTo>
                    <a:lnTo>
                      <a:pt x="281" y="227"/>
                    </a:lnTo>
                    <a:lnTo>
                      <a:pt x="235" y="232"/>
                    </a:lnTo>
                    <a:lnTo>
                      <a:pt x="150" y="245"/>
                    </a:lnTo>
                    <a:lnTo>
                      <a:pt x="126" y="251"/>
                    </a:lnTo>
                    <a:lnTo>
                      <a:pt x="117" y="254"/>
                    </a:lnTo>
                    <a:lnTo>
                      <a:pt x="105" y="263"/>
                    </a:lnTo>
                    <a:lnTo>
                      <a:pt x="95" y="275"/>
                    </a:lnTo>
                    <a:lnTo>
                      <a:pt x="87" y="286"/>
                    </a:lnTo>
                    <a:lnTo>
                      <a:pt x="81" y="301"/>
                    </a:lnTo>
                    <a:lnTo>
                      <a:pt x="76" y="319"/>
                    </a:lnTo>
                    <a:lnTo>
                      <a:pt x="72" y="339"/>
                    </a:lnTo>
                    <a:lnTo>
                      <a:pt x="80" y="339"/>
                    </a:lnTo>
                    <a:lnTo>
                      <a:pt x="81" y="391"/>
                    </a:lnTo>
                    <a:lnTo>
                      <a:pt x="83" y="421"/>
                    </a:lnTo>
                    <a:lnTo>
                      <a:pt x="85" y="430"/>
                    </a:lnTo>
                    <a:lnTo>
                      <a:pt x="70" y="442"/>
                    </a:lnTo>
                    <a:lnTo>
                      <a:pt x="70" y="457"/>
                    </a:lnTo>
                    <a:lnTo>
                      <a:pt x="76" y="465"/>
                    </a:lnTo>
                    <a:lnTo>
                      <a:pt x="83" y="470"/>
                    </a:lnTo>
                    <a:lnTo>
                      <a:pt x="84" y="475"/>
                    </a:lnTo>
                    <a:lnTo>
                      <a:pt x="54" y="481"/>
                    </a:lnTo>
                    <a:lnTo>
                      <a:pt x="36" y="488"/>
                    </a:lnTo>
                    <a:lnTo>
                      <a:pt x="19" y="495"/>
                    </a:lnTo>
                    <a:lnTo>
                      <a:pt x="4" y="504"/>
                    </a:lnTo>
                    <a:lnTo>
                      <a:pt x="0" y="535"/>
                    </a:lnTo>
                    <a:lnTo>
                      <a:pt x="25" y="609"/>
                    </a:lnTo>
                    <a:lnTo>
                      <a:pt x="32" y="622"/>
                    </a:lnTo>
                    <a:lnTo>
                      <a:pt x="41" y="633"/>
                    </a:lnTo>
                    <a:lnTo>
                      <a:pt x="51" y="640"/>
                    </a:lnTo>
                    <a:lnTo>
                      <a:pt x="67" y="644"/>
                    </a:lnTo>
                    <a:lnTo>
                      <a:pt x="147" y="649"/>
                    </a:lnTo>
                    <a:lnTo>
                      <a:pt x="202" y="651"/>
                    </a:lnTo>
                    <a:lnTo>
                      <a:pt x="278" y="659"/>
                    </a:lnTo>
                    <a:lnTo>
                      <a:pt x="343" y="668"/>
                    </a:lnTo>
                    <a:lnTo>
                      <a:pt x="387" y="677"/>
                    </a:lnTo>
                    <a:lnTo>
                      <a:pt x="450" y="682"/>
                    </a:lnTo>
                    <a:lnTo>
                      <a:pt x="516" y="687"/>
                    </a:lnTo>
                    <a:lnTo>
                      <a:pt x="595" y="691"/>
                    </a:lnTo>
                    <a:lnTo>
                      <a:pt x="729" y="692"/>
                    </a:lnTo>
                    <a:lnTo>
                      <a:pt x="919" y="702"/>
                    </a:lnTo>
                    <a:lnTo>
                      <a:pt x="947" y="581"/>
                    </a:lnTo>
                    <a:lnTo>
                      <a:pt x="968" y="540"/>
                    </a:lnTo>
                    <a:lnTo>
                      <a:pt x="993" y="497"/>
                    </a:lnTo>
                    <a:lnTo>
                      <a:pt x="1018" y="471"/>
                    </a:lnTo>
                    <a:lnTo>
                      <a:pt x="1050" y="450"/>
                    </a:lnTo>
                    <a:lnTo>
                      <a:pt x="1096" y="434"/>
                    </a:lnTo>
                    <a:lnTo>
                      <a:pt x="1149" y="426"/>
                    </a:lnTo>
                    <a:lnTo>
                      <a:pt x="1199" y="428"/>
                    </a:lnTo>
                    <a:lnTo>
                      <a:pt x="1240" y="438"/>
                    </a:lnTo>
                    <a:lnTo>
                      <a:pt x="1274" y="453"/>
                    </a:lnTo>
                    <a:lnTo>
                      <a:pt x="1292" y="467"/>
                    </a:lnTo>
                    <a:lnTo>
                      <a:pt x="1305" y="484"/>
                    </a:lnTo>
                    <a:lnTo>
                      <a:pt x="1324" y="519"/>
                    </a:lnTo>
                    <a:lnTo>
                      <a:pt x="1339" y="559"/>
                    </a:lnTo>
                    <a:lnTo>
                      <a:pt x="1348" y="602"/>
                    </a:lnTo>
                    <a:lnTo>
                      <a:pt x="1348" y="649"/>
                    </a:lnTo>
                    <a:lnTo>
                      <a:pt x="1339" y="715"/>
                    </a:lnTo>
                    <a:lnTo>
                      <a:pt x="2180" y="664"/>
                    </a:lnTo>
                    <a:lnTo>
                      <a:pt x="2194" y="633"/>
                    </a:lnTo>
                    <a:lnTo>
                      <a:pt x="2205" y="602"/>
                    </a:lnTo>
                    <a:lnTo>
                      <a:pt x="2211" y="577"/>
                    </a:lnTo>
                    <a:lnTo>
                      <a:pt x="2218" y="550"/>
                    </a:lnTo>
                    <a:lnTo>
                      <a:pt x="2222" y="522"/>
                    </a:lnTo>
                    <a:lnTo>
                      <a:pt x="2231" y="496"/>
                    </a:lnTo>
                    <a:lnTo>
                      <a:pt x="2241" y="473"/>
                    </a:lnTo>
                    <a:lnTo>
                      <a:pt x="2250" y="458"/>
                    </a:lnTo>
                    <a:lnTo>
                      <a:pt x="2265" y="442"/>
                    </a:lnTo>
                    <a:lnTo>
                      <a:pt x="2278" y="427"/>
                    </a:lnTo>
                    <a:lnTo>
                      <a:pt x="2291" y="416"/>
                    </a:lnTo>
                    <a:lnTo>
                      <a:pt x="2312" y="408"/>
                    </a:lnTo>
                    <a:lnTo>
                      <a:pt x="2342" y="404"/>
                    </a:lnTo>
                    <a:lnTo>
                      <a:pt x="2372" y="404"/>
                    </a:lnTo>
                    <a:lnTo>
                      <a:pt x="2402" y="408"/>
                    </a:lnTo>
                    <a:lnTo>
                      <a:pt x="2421" y="416"/>
                    </a:lnTo>
                    <a:lnTo>
                      <a:pt x="2438" y="431"/>
                    </a:lnTo>
                    <a:lnTo>
                      <a:pt x="2452" y="446"/>
                    </a:lnTo>
                    <a:lnTo>
                      <a:pt x="2466" y="467"/>
                    </a:lnTo>
                    <a:lnTo>
                      <a:pt x="2476" y="492"/>
                    </a:lnTo>
                    <a:lnTo>
                      <a:pt x="2480" y="511"/>
                    </a:lnTo>
                    <a:lnTo>
                      <a:pt x="2481" y="545"/>
                    </a:lnTo>
                    <a:lnTo>
                      <a:pt x="2484" y="568"/>
                    </a:lnTo>
                    <a:lnTo>
                      <a:pt x="2481" y="598"/>
                    </a:lnTo>
                    <a:lnTo>
                      <a:pt x="2483" y="635"/>
                    </a:lnTo>
                    <a:lnTo>
                      <a:pt x="2596" y="632"/>
                    </a:lnTo>
                    <a:lnTo>
                      <a:pt x="2605" y="626"/>
                    </a:lnTo>
                    <a:lnTo>
                      <a:pt x="2612" y="618"/>
                    </a:lnTo>
                    <a:lnTo>
                      <a:pt x="2617" y="595"/>
                    </a:lnTo>
                    <a:lnTo>
                      <a:pt x="2629" y="586"/>
                    </a:lnTo>
                    <a:lnTo>
                      <a:pt x="2643" y="577"/>
                    </a:lnTo>
                    <a:lnTo>
                      <a:pt x="2659" y="558"/>
                    </a:lnTo>
                    <a:lnTo>
                      <a:pt x="2660" y="521"/>
                    </a:lnTo>
                    <a:lnTo>
                      <a:pt x="2671" y="515"/>
                    </a:lnTo>
                    <a:lnTo>
                      <a:pt x="2667" y="485"/>
                    </a:lnTo>
                    <a:lnTo>
                      <a:pt x="2635" y="463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955720" y="933120"/>
                <a:ext cx="55080" cy="6840"/>
              </a:xfrm>
              <a:custGeom>
                <a:avLst/>
                <a:gdLst/>
                <a:ahLst/>
                <a:rect l="l" t="t" r="r" b="b"/>
                <a:pathLst>
                  <a:path w="191" h="32">
                    <a:moveTo>
                      <a:pt x="186" y="0"/>
                    </a:moveTo>
                    <a:lnTo>
                      <a:pt x="189" y="12"/>
                    </a:lnTo>
                    <a:lnTo>
                      <a:pt x="190" y="25"/>
                    </a:lnTo>
                    <a:lnTo>
                      <a:pt x="178" y="30"/>
                    </a:lnTo>
                    <a:lnTo>
                      <a:pt x="8" y="31"/>
                    </a:lnTo>
                    <a:lnTo>
                      <a:pt x="4" y="17"/>
                    </a:lnTo>
                    <a:lnTo>
                      <a:pt x="0" y="1"/>
                    </a:lnTo>
                    <a:lnTo>
                      <a:pt x="70" y="2"/>
                    </a:lnTo>
                    <a:lnTo>
                      <a:pt x="159" y="2"/>
                    </a:lnTo>
                    <a:lnTo>
                      <a:pt x="18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8262000" y="828000"/>
                <a:ext cx="746280" cy="150120"/>
                <a:chOff x="8262000" y="828000"/>
                <a:chExt cx="746280" cy="1501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8427960" y="896760"/>
                  <a:ext cx="561600" cy="13320"/>
                </a:xfrm>
                <a:custGeom>
                  <a:avLst/>
                  <a:gdLst/>
                  <a:ahLst/>
                  <a:rect l="l" t="t" r="r" b="b"/>
                  <a:pathLst>
                    <a:path w="1940" h="61">
                      <a:moveTo>
                        <a:pt x="1939" y="60"/>
                      </a:moveTo>
                      <a:lnTo>
                        <a:pt x="1882" y="50"/>
                      </a:lnTo>
                      <a:lnTo>
                        <a:pt x="1824" y="40"/>
                      </a:lnTo>
                      <a:lnTo>
                        <a:pt x="1766" y="34"/>
                      </a:lnTo>
                      <a:lnTo>
                        <a:pt x="1606" y="22"/>
                      </a:lnTo>
                      <a:lnTo>
                        <a:pt x="1368" y="13"/>
                      </a:lnTo>
                      <a:lnTo>
                        <a:pt x="673" y="0"/>
                      </a:lnTo>
                      <a:lnTo>
                        <a:pt x="423" y="0"/>
                      </a:lnTo>
                      <a:lnTo>
                        <a:pt x="56" y="6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>
                  <a:off x="8953560" y="943200"/>
                  <a:ext cx="5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5" name=""/>
                <p:cNvGrpSpPr/>
                <p:nvPr/>
              </p:nvGrpSpPr>
              <p:grpSpPr>
                <a:xfrm>
                  <a:off x="8262000" y="828000"/>
                  <a:ext cx="619200" cy="150120"/>
                  <a:chOff x="8262000" y="828000"/>
                  <a:chExt cx="619200" cy="15012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8353080" y="828000"/>
                    <a:ext cx="21240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34" h="221">
                        <a:moveTo>
                          <a:pt x="408" y="15"/>
                        </a:moveTo>
                        <a:lnTo>
                          <a:pt x="477" y="10"/>
                        </a:lnTo>
                        <a:lnTo>
                          <a:pt x="556" y="5"/>
                        </a:lnTo>
                        <a:lnTo>
                          <a:pt x="639" y="1"/>
                        </a:lnTo>
                        <a:lnTo>
                          <a:pt x="674" y="0"/>
                        </a:lnTo>
                        <a:lnTo>
                          <a:pt x="694" y="2"/>
                        </a:lnTo>
                        <a:lnTo>
                          <a:pt x="710" y="6"/>
                        </a:lnTo>
                        <a:lnTo>
                          <a:pt x="722" y="12"/>
                        </a:lnTo>
                        <a:lnTo>
                          <a:pt x="729" y="22"/>
                        </a:lnTo>
                        <a:lnTo>
                          <a:pt x="733" y="35"/>
                        </a:lnTo>
                        <a:lnTo>
                          <a:pt x="733" y="47"/>
                        </a:lnTo>
                        <a:lnTo>
                          <a:pt x="691" y="161"/>
                        </a:lnTo>
                        <a:lnTo>
                          <a:pt x="686" y="172"/>
                        </a:lnTo>
                        <a:lnTo>
                          <a:pt x="678" y="185"/>
                        </a:lnTo>
                        <a:lnTo>
                          <a:pt x="671" y="195"/>
                        </a:lnTo>
                        <a:lnTo>
                          <a:pt x="661" y="206"/>
                        </a:lnTo>
                        <a:lnTo>
                          <a:pt x="647" y="213"/>
                        </a:lnTo>
                        <a:lnTo>
                          <a:pt x="632" y="218"/>
                        </a:lnTo>
                        <a:lnTo>
                          <a:pt x="610" y="220"/>
                        </a:lnTo>
                        <a:lnTo>
                          <a:pt x="395" y="218"/>
                        </a:lnTo>
                        <a:lnTo>
                          <a:pt x="282" y="217"/>
                        </a:lnTo>
                        <a:lnTo>
                          <a:pt x="175" y="216"/>
                        </a:lnTo>
                        <a:lnTo>
                          <a:pt x="0" y="21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8664480" y="880200"/>
                    <a:ext cx="19980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440">
                        <a:moveTo>
                          <a:pt x="595" y="0"/>
                        </a:moveTo>
                        <a:lnTo>
                          <a:pt x="621" y="25"/>
                        </a:lnTo>
                        <a:lnTo>
                          <a:pt x="636" y="40"/>
                        </a:lnTo>
                        <a:lnTo>
                          <a:pt x="647" y="53"/>
                        </a:lnTo>
                        <a:lnTo>
                          <a:pt x="657" y="67"/>
                        </a:lnTo>
                        <a:lnTo>
                          <a:pt x="666" y="81"/>
                        </a:lnTo>
                        <a:lnTo>
                          <a:pt x="671" y="94"/>
                        </a:lnTo>
                        <a:lnTo>
                          <a:pt x="680" y="139"/>
                        </a:lnTo>
                        <a:lnTo>
                          <a:pt x="685" y="184"/>
                        </a:lnTo>
                        <a:lnTo>
                          <a:pt x="689" y="221"/>
                        </a:lnTo>
                        <a:lnTo>
                          <a:pt x="689" y="243"/>
                        </a:lnTo>
                        <a:lnTo>
                          <a:pt x="688" y="281"/>
                        </a:lnTo>
                        <a:lnTo>
                          <a:pt x="684" y="311"/>
                        </a:lnTo>
                        <a:lnTo>
                          <a:pt x="678" y="340"/>
                        </a:lnTo>
                        <a:lnTo>
                          <a:pt x="673" y="363"/>
                        </a:lnTo>
                        <a:lnTo>
                          <a:pt x="666" y="383"/>
                        </a:lnTo>
                        <a:lnTo>
                          <a:pt x="656" y="404"/>
                        </a:lnTo>
                        <a:lnTo>
                          <a:pt x="547" y="411"/>
                        </a:lnTo>
                        <a:lnTo>
                          <a:pt x="0" y="439"/>
                        </a:lnTo>
                        <a:lnTo>
                          <a:pt x="15" y="350"/>
                        </a:lnTo>
                        <a:lnTo>
                          <a:pt x="23" y="259"/>
                        </a:lnTo>
                        <a:lnTo>
                          <a:pt x="28" y="84"/>
                        </a:lnTo>
                        <a:lnTo>
                          <a:pt x="26" y="68"/>
                        </a:lnTo>
                        <a:lnTo>
                          <a:pt x="21" y="50"/>
                        </a:lnTo>
                        <a:lnTo>
                          <a:pt x="15" y="33"/>
                        </a:lnTo>
                        <a:lnTo>
                          <a:pt x="4" y="2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8604360" y="831960"/>
                    <a:ext cx="23976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828" h="270">
                        <a:moveTo>
                          <a:pt x="469" y="31"/>
                        </a:moveTo>
                        <a:lnTo>
                          <a:pt x="509" y="51"/>
                        </a:lnTo>
                        <a:lnTo>
                          <a:pt x="548" y="73"/>
                        </a:lnTo>
                        <a:lnTo>
                          <a:pt x="586" y="98"/>
                        </a:lnTo>
                        <a:lnTo>
                          <a:pt x="623" y="121"/>
                        </a:lnTo>
                        <a:lnTo>
                          <a:pt x="661" y="145"/>
                        </a:lnTo>
                        <a:lnTo>
                          <a:pt x="699" y="169"/>
                        </a:lnTo>
                        <a:lnTo>
                          <a:pt x="741" y="195"/>
                        </a:lnTo>
                        <a:lnTo>
                          <a:pt x="777" y="221"/>
                        </a:lnTo>
                        <a:lnTo>
                          <a:pt x="802" y="242"/>
                        </a:lnTo>
                        <a:lnTo>
                          <a:pt x="827" y="267"/>
                        </a:lnTo>
                        <a:lnTo>
                          <a:pt x="696" y="269"/>
                        </a:lnTo>
                        <a:lnTo>
                          <a:pt x="227" y="264"/>
                        </a:lnTo>
                        <a:lnTo>
                          <a:pt x="44" y="260"/>
                        </a:lnTo>
                        <a:lnTo>
                          <a:pt x="28" y="259"/>
                        </a:lnTo>
                        <a:lnTo>
                          <a:pt x="15" y="255"/>
                        </a:lnTo>
                        <a:lnTo>
                          <a:pt x="5" y="246"/>
                        </a:lnTo>
                        <a:lnTo>
                          <a:pt x="0" y="233"/>
                        </a:lnTo>
                        <a:lnTo>
                          <a:pt x="0" y="222"/>
                        </a:lnTo>
                        <a:lnTo>
                          <a:pt x="1" y="211"/>
                        </a:lnTo>
                        <a:lnTo>
                          <a:pt x="4" y="200"/>
                        </a:lnTo>
                        <a:lnTo>
                          <a:pt x="36" y="52"/>
                        </a:lnTo>
                        <a:lnTo>
                          <a:pt x="40" y="39"/>
                        </a:lnTo>
                        <a:lnTo>
                          <a:pt x="44" y="29"/>
                        </a:lnTo>
                        <a:lnTo>
                          <a:pt x="50" y="18"/>
                        </a:lnTo>
                        <a:lnTo>
                          <a:pt x="57" y="12"/>
                        </a:lnTo>
                        <a:lnTo>
                          <a:pt x="65" y="5"/>
                        </a:lnTo>
                        <a:lnTo>
                          <a:pt x="73" y="3"/>
                        </a:lnTo>
                        <a:lnTo>
                          <a:pt x="87" y="0"/>
                        </a:lnTo>
                        <a:lnTo>
                          <a:pt x="108" y="0"/>
                        </a:lnTo>
                        <a:lnTo>
                          <a:pt x="14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flipH="1">
                    <a:off x="8622360" y="946440"/>
                    <a:ext cx="258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8262000" y="876240"/>
                    <a:ext cx="266040" cy="101880"/>
                    <a:chOff x="8262000" y="876240"/>
                    <a:chExt cx="266040" cy="10188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8392680" y="876240"/>
                      <a:ext cx="13536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8" h="120">
                          <a:moveTo>
                            <a:pt x="467" y="0"/>
                          </a:moveTo>
                          <a:lnTo>
                            <a:pt x="290" y="6"/>
                          </a:lnTo>
                          <a:lnTo>
                            <a:pt x="217" y="10"/>
                          </a:lnTo>
                          <a:lnTo>
                            <a:pt x="165" y="13"/>
                          </a:lnTo>
                          <a:lnTo>
                            <a:pt x="120" y="17"/>
                          </a:lnTo>
                          <a:lnTo>
                            <a:pt x="74" y="21"/>
                          </a:lnTo>
                          <a:lnTo>
                            <a:pt x="54" y="25"/>
                          </a:lnTo>
                          <a:lnTo>
                            <a:pt x="39" y="34"/>
                          </a:lnTo>
                          <a:lnTo>
                            <a:pt x="29" y="45"/>
                          </a:lnTo>
                          <a:lnTo>
                            <a:pt x="20" y="55"/>
                          </a:lnTo>
                          <a:lnTo>
                            <a:pt x="13" y="69"/>
                          </a:lnTo>
                          <a:lnTo>
                            <a:pt x="7" y="80"/>
                          </a:lnTo>
                          <a:lnTo>
                            <a:pt x="3" y="96"/>
                          </a:lnTo>
                          <a:lnTo>
                            <a:pt x="0" y="119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8434800" y="948600"/>
                      <a:ext cx="133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135">
                          <a:moveTo>
                            <a:pt x="45" y="0"/>
                          </a:moveTo>
                          <a:lnTo>
                            <a:pt x="44" y="32"/>
                          </a:lnTo>
                          <a:lnTo>
                            <a:pt x="42" y="52"/>
                          </a:lnTo>
                          <a:lnTo>
                            <a:pt x="39" y="73"/>
                          </a:lnTo>
                          <a:lnTo>
                            <a:pt x="36" y="93"/>
                          </a:lnTo>
                          <a:lnTo>
                            <a:pt x="27" y="108"/>
                          </a:lnTo>
                          <a:lnTo>
                            <a:pt x="17" y="122"/>
                          </a:lnTo>
                          <a:lnTo>
                            <a:pt x="0" y="13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8332560" y="948240"/>
                      <a:ext cx="169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124">
                          <a:moveTo>
                            <a:pt x="0" y="0"/>
                          </a:moveTo>
                          <a:lnTo>
                            <a:pt x="0" y="15"/>
                          </a:lnTo>
                          <a:lnTo>
                            <a:pt x="1" y="35"/>
                          </a:lnTo>
                          <a:lnTo>
                            <a:pt x="6" y="54"/>
                          </a:lnTo>
                          <a:lnTo>
                            <a:pt x="11" y="74"/>
                          </a:lnTo>
                          <a:lnTo>
                            <a:pt x="24" y="92"/>
                          </a:lnTo>
                          <a:lnTo>
                            <a:pt x="34" y="105"/>
                          </a:lnTo>
                          <a:lnTo>
                            <a:pt x="44" y="115"/>
                          </a:lnTo>
                          <a:lnTo>
                            <a:pt x="58" y="12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8273880" y="881280"/>
                      <a:ext cx="13536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7" h="17">
                          <a:moveTo>
                            <a:pt x="466" y="0"/>
                          </a:moveTo>
                          <a:lnTo>
                            <a:pt x="265" y="10"/>
                          </a:lnTo>
                          <a:lnTo>
                            <a:pt x="57" y="10"/>
                          </a:lnTo>
                          <a:lnTo>
                            <a:pt x="37" y="10"/>
                          </a:lnTo>
                          <a:lnTo>
                            <a:pt x="17" y="10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8331840" y="949680"/>
                      <a:ext cx="18360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4" h="17">
                          <a:moveTo>
                            <a:pt x="633" y="5"/>
                          </a:moveTo>
                          <a:lnTo>
                            <a:pt x="505" y="8"/>
                          </a:lnTo>
                          <a:lnTo>
                            <a:pt x="459" y="10"/>
                          </a:lnTo>
                          <a:lnTo>
                            <a:pt x="410" y="10"/>
                          </a:lnTo>
                          <a:lnTo>
                            <a:pt x="356" y="11"/>
                          </a:lnTo>
                          <a:lnTo>
                            <a:pt x="307" y="13"/>
                          </a:lnTo>
                          <a:lnTo>
                            <a:pt x="264" y="16"/>
                          </a:lnTo>
                          <a:lnTo>
                            <a:pt x="227" y="1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8262000" y="931320"/>
                      <a:ext cx="18792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9" h="17">
                          <a:moveTo>
                            <a:pt x="648" y="16"/>
                          </a:moveTo>
                          <a:lnTo>
                            <a:pt x="418" y="1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47" name=""/>
              <p:cNvSpPr/>
              <p:nvPr/>
            </p:nvSpPr>
            <p:spPr>
              <a:xfrm>
                <a:off x="8620920" y="934200"/>
                <a:ext cx="262440" cy="10080"/>
              </a:xfrm>
              <a:custGeom>
                <a:avLst/>
                <a:gdLst/>
                <a:ahLst/>
                <a:rect l="l" t="t" r="r" b="b"/>
                <a:pathLst>
                  <a:path w="907" h="47">
                    <a:moveTo>
                      <a:pt x="906" y="0"/>
                    </a:moveTo>
                    <a:lnTo>
                      <a:pt x="461" y="5"/>
                    </a:lnTo>
                    <a:lnTo>
                      <a:pt x="0" y="14"/>
                    </a:lnTo>
                    <a:lnTo>
                      <a:pt x="10" y="31"/>
                    </a:lnTo>
                    <a:lnTo>
                      <a:pt x="17" y="46"/>
                    </a:lnTo>
                    <a:lnTo>
                      <a:pt x="423" y="41"/>
                    </a:lnTo>
                    <a:lnTo>
                      <a:pt x="893" y="32"/>
                    </a:lnTo>
                    <a:lnTo>
                      <a:pt x="90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240400" y="932400"/>
                <a:ext cx="283680" cy="17280"/>
              </a:xfrm>
              <a:custGeom>
                <a:avLst/>
                <a:gdLst/>
                <a:ahLst/>
                <a:rect l="l" t="t" r="r" b="b"/>
                <a:pathLst>
                  <a:path w="980" h="80">
                    <a:moveTo>
                      <a:pt x="979" y="23"/>
                    </a:moveTo>
                    <a:lnTo>
                      <a:pt x="743" y="31"/>
                    </a:lnTo>
                    <a:lnTo>
                      <a:pt x="615" y="35"/>
                    </a:lnTo>
                    <a:lnTo>
                      <a:pt x="367" y="35"/>
                    </a:lnTo>
                    <a:lnTo>
                      <a:pt x="61" y="19"/>
                    </a:lnTo>
                    <a:lnTo>
                      <a:pt x="54" y="18"/>
                    </a:lnTo>
                    <a:lnTo>
                      <a:pt x="48" y="16"/>
                    </a:lnTo>
                    <a:lnTo>
                      <a:pt x="42" y="13"/>
                    </a:lnTo>
                    <a:lnTo>
                      <a:pt x="46" y="7"/>
                    </a:lnTo>
                    <a:lnTo>
                      <a:pt x="61" y="0"/>
                    </a:lnTo>
                    <a:lnTo>
                      <a:pt x="52" y="0"/>
                    </a:lnTo>
                    <a:lnTo>
                      <a:pt x="16" y="13"/>
                    </a:lnTo>
                    <a:lnTo>
                      <a:pt x="2" y="21"/>
                    </a:lnTo>
                    <a:lnTo>
                      <a:pt x="0" y="31"/>
                    </a:lnTo>
                    <a:lnTo>
                      <a:pt x="9" y="42"/>
                    </a:lnTo>
                    <a:lnTo>
                      <a:pt x="18" y="47"/>
                    </a:lnTo>
                    <a:lnTo>
                      <a:pt x="30" y="51"/>
                    </a:lnTo>
                    <a:lnTo>
                      <a:pt x="46" y="54"/>
                    </a:lnTo>
                    <a:lnTo>
                      <a:pt x="541" y="79"/>
                    </a:lnTo>
                    <a:lnTo>
                      <a:pt x="948" y="68"/>
                    </a:lnTo>
                    <a:lnTo>
                      <a:pt x="979" y="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8257680" y="901080"/>
                <a:ext cx="188640" cy="30960"/>
                <a:chOff x="8257680" y="901080"/>
                <a:chExt cx="188640" cy="309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8258040" y="901080"/>
                  <a:ext cx="188280" cy="30960"/>
                </a:xfrm>
                <a:custGeom>
                  <a:avLst/>
                  <a:gdLst/>
                  <a:ahLst/>
                  <a:rect l="l" t="t" r="r" b="b"/>
                  <a:pathLst>
                    <a:path w="651" h="142">
                      <a:moveTo>
                        <a:pt x="650" y="136"/>
                      </a:moveTo>
                      <a:lnTo>
                        <a:pt x="619" y="56"/>
                      </a:lnTo>
                      <a:lnTo>
                        <a:pt x="607" y="0"/>
                      </a:lnTo>
                      <a:lnTo>
                        <a:pt x="9" y="0"/>
                      </a:lnTo>
                      <a:lnTo>
                        <a:pt x="12" y="72"/>
                      </a:lnTo>
                      <a:lnTo>
                        <a:pt x="12" y="83"/>
                      </a:lnTo>
                      <a:lnTo>
                        <a:pt x="12" y="93"/>
                      </a:lnTo>
                      <a:lnTo>
                        <a:pt x="0" y="103"/>
                      </a:lnTo>
                      <a:lnTo>
                        <a:pt x="0" y="122"/>
                      </a:lnTo>
                      <a:lnTo>
                        <a:pt x="276" y="134"/>
                      </a:lnTo>
                      <a:lnTo>
                        <a:pt x="468" y="141"/>
                      </a:lnTo>
                      <a:lnTo>
                        <a:pt x="650" y="136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1" name=""/>
                <p:cNvGrpSpPr/>
                <p:nvPr/>
              </p:nvGrpSpPr>
              <p:grpSpPr>
                <a:xfrm>
                  <a:off x="8257680" y="903240"/>
                  <a:ext cx="182160" cy="17280"/>
                  <a:chOff x="8257680" y="903240"/>
                  <a:chExt cx="182160" cy="1728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flipH="1">
                    <a:off x="8257680" y="903240"/>
                    <a:ext cx="178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>
                    <a:off x="8259480" y="904680"/>
                    <a:ext cx="177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>
                    <a:off x="8258760" y="907560"/>
                    <a:ext cx="178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flipV="1">
                    <a:off x="8259120" y="907920"/>
                    <a:ext cx="178920" cy="3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>
                    <a:off x="8258400" y="912240"/>
                    <a:ext cx="180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8261280" y="914400"/>
                    <a:ext cx="1771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11" h="17">
                        <a:moveTo>
                          <a:pt x="610" y="0"/>
                        </a:moveTo>
                        <a:lnTo>
                          <a:pt x="497" y="16"/>
                        </a:lnTo>
                        <a:lnTo>
                          <a:pt x="459" y="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8260920" y="916920"/>
                    <a:ext cx="1789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18" h="17">
                        <a:moveTo>
                          <a:pt x="617" y="4"/>
                        </a:moveTo>
                        <a:lnTo>
                          <a:pt x="513" y="16"/>
                        </a:lnTo>
                        <a:lnTo>
                          <a:pt x="456" y="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" name=""/>
              <p:cNvGrpSpPr/>
              <p:nvPr/>
            </p:nvGrpSpPr>
            <p:grpSpPr>
              <a:xfrm>
                <a:off x="8260200" y="887760"/>
                <a:ext cx="104040" cy="80280"/>
                <a:chOff x="8260200" y="887760"/>
                <a:chExt cx="104040" cy="802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8279280" y="946080"/>
                  <a:ext cx="11880" cy="21960"/>
                </a:xfrm>
                <a:custGeom>
                  <a:avLst/>
                  <a:gdLst/>
                  <a:ahLst/>
                  <a:rect l="l" t="t" r="r" b="b"/>
                  <a:pathLst>
                    <a:path w="41" h="101">
                      <a:moveTo>
                        <a:pt x="1" y="0"/>
                      </a:moveTo>
                      <a:lnTo>
                        <a:pt x="0" y="17"/>
                      </a:lnTo>
                      <a:lnTo>
                        <a:pt x="3" y="42"/>
                      </a:lnTo>
                      <a:lnTo>
                        <a:pt x="9" y="61"/>
                      </a:lnTo>
                      <a:lnTo>
                        <a:pt x="15" y="76"/>
                      </a:lnTo>
                      <a:lnTo>
                        <a:pt x="26" y="90"/>
                      </a:lnTo>
                      <a:lnTo>
                        <a:pt x="40" y="100"/>
                      </a:lnTo>
                      <a:lnTo>
                        <a:pt x="40" y="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" name=""/>
                <p:cNvGrpSpPr/>
                <p:nvPr/>
              </p:nvGrpSpPr>
              <p:grpSpPr>
                <a:xfrm>
                  <a:off x="8260200" y="887760"/>
                  <a:ext cx="104040" cy="77760"/>
                  <a:chOff x="8260200" y="887760"/>
                  <a:chExt cx="104040" cy="7776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8340480" y="952200"/>
                    <a:ext cx="23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61">
                        <a:moveTo>
                          <a:pt x="64" y="4"/>
                        </a:moveTo>
                        <a:lnTo>
                          <a:pt x="65" y="20"/>
                        </a:lnTo>
                        <a:lnTo>
                          <a:pt x="67" y="33"/>
                        </a:lnTo>
                        <a:lnTo>
                          <a:pt x="74" y="46"/>
                        </a:lnTo>
                        <a:lnTo>
                          <a:pt x="82" y="60"/>
                        </a:lnTo>
                        <a:lnTo>
                          <a:pt x="15" y="55"/>
                        </a:lnTo>
                        <a:lnTo>
                          <a:pt x="7" y="48"/>
                        </a:lnTo>
                        <a:lnTo>
                          <a:pt x="4" y="35"/>
                        </a:lnTo>
                        <a:lnTo>
                          <a:pt x="0" y="21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64" y="4"/>
                        </a:lnTo>
                      </a:path>
                    </a:pathLst>
                  </a:custGeom>
                  <a:solidFill>
                    <a:srgbClr val="ffa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8260200" y="947880"/>
                    <a:ext cx="162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9">
                        <a:moveTo>
                          <a:pt x="46" y="3"/>
                        </a:moveTo>
                        <a:lnTo>
                          <a:pt x="46" y="12"/>
                        </a:lnTo>
                        <a:lnTo>
                          <a:pt x="46" y="22"/>
                        </a:lnTo>
                        <a:lnTo>
                          <a:pt x="50" y="36"/>
                        </a:lnTo>
                        <a:lnTo>
                          <a:pt x="56" y="48"/>
                        </a:lnTo>
                        <a:lnTo>
                          <a:pt x="11" y="45"/>
                        </a:lnTo>
                        <a:lnTo>
                          <a:pt x="4" y="36"/>
                        </a:lnTo>
                        <a:lnTo>
                          <a:pt x="1" y="27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46" y="3"/>
                        </a:lnTo>
                      </a:path>
                    </a:pathLst>
                  </a:custGeom>
                  <a:solidFill>
                    <a:srgbClr val="ffa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8315280" y="887760"/>
                    <a:ext cx="11160" cy="79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5" name=""/>
              <p:cNvGrpSpPr/>
              <p:nvPr/>
            </p:nvGrpSpPr>
            <p:grpSpPr>
              <a:xfrm>
                <a:off x="8635320" y="834120"/>
                <a:ext cx="47160" cy="51840"/>
                <a:chOff x="8635320" y="834120"/>
                <a:chExt cx="47160" cy="5184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8635320" y="834120"/>
                  <a:ext cx="47160" cy="51840"/>
                </a:xfrm>
                <a:custGeom>
                  <a:avLst/>
                  <a:gdLst/>
                  <a:ahLst/>
                  <a:rect l="l" t="t" r="r" b="b"/>
                  <a:pathLst>
                    <a:path w="164" h="236">
                      <a:moveTo>
                        <a:pt x="61" y="0"/>
                      </a:moveTo>
                      <a:lnTo>
                        <a:pt x="77" y="28"/>
                      </a:lnTo>
                      <a:lnTo>
                        <a:pt x="93" y="58"/>
                      </a:lnTo>
                      <a:lnTo>
                        <a:pt x="107" y="86"/>
                      </a:lnTo>
                      <a:lnTo>
                        <a:pt x="123" y="116"/>
                      </a:lnTo>
                      <a:lnTo>
                        <a:pt x="136" y="144"/>
                      </a:lnTo>
                      <a:lnTo>
                        <a:pt x="143" y="159"/>
                      </a:lnTo>
                      <a:lnTo>
                        <a:pt x="149" y="178"/>
                      </a:lnTo>
                      <a:lnTo>
                        <a:pt x="158" y="209"/>
                      </a:lnTo>
                      <a:lnTo>
                        <a:pt x="163" y="235"/>
                      </a:lnTo>
                      <a:lnTo>
                        <a:pt x="124" y="234"/>
                      </a:lnTo>
                      <a:lnTo>
                        <a:pt x="93" y="233"/>
                      </a:lnTo>
                      <a:lnTo>
                        <a:pt x="87" y="202"/>
                      </a:lnTo>
                      <a:lnTo>
                        <a:pt x="76" y="166"/>
                      </a:lnTo>
                      <a:lnTo>
                        <a:pt x="66" y="140"/>
                      </a:lnTo>
                      <a:lnTo>
                        <a:pt x="52" y="107"/>
                      </a:lnTo>
                      <a:lnTo>
                        <a:pt x="34" y="67"/>
                      </a:lnTo>
                      <a:lnTo>
                        <a:pt x="0" y="0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654400" y="837000"/>
                  <a:ext cx="20160" cy="46800"/>
                </a:xfrm>
                <a:custGeom>
                  <a:avLst/>
                  <a:gdLst/>
                  <a:ahLst/>
                  <a:rect l="l" t="t" r="r" b="b"/>
                  <a:pathLst>
                    <a:path w="70" h="213">
                      <a:moveTo>
                        <a:pt x="0" y="0"/>
                      </a:moveTo>
                      <a:lnTo>
                        <a:pt x="18" y="37"/>
                      </a:lnTo>
                      <a:lnTo>
                        <a:pt x="29" y="62"/>
                      </a:lnTo>
                      <a:lnTo>
                        <a:pt x="41" y="92"/>
                      </a:lnTo>
                      <a:lnTo>
                        <a:pt x="50" y="110"/>
                      </a:lnTo>
                      <a:lnTo>
                        <a:pt x="57" y="129"/>
                      </a:lnTo>
                      <a:lnTo>
                        <a:pt x="63" y="146"/>
                      </a:lnTo>
                      <a:lnTo>
                        <a:pt x="67" y="163"/>
                      </a:lnTo>
                      <a:lnTo>
                        <a:pt x="68" y="178"/>
                      </a:lnTo>
                      <a:lnTo>
                        <a:pt x="69" y="197"/>
                      </a:lnTo>
                      <a:lnTo>
                        <a:pt x="68" y="212"/>
                      </a:lnTo>
                      <a:lnTo>
                        <a:pt x="58" y="211"/>
                      </a:lnTo>
                      <a:lnTo>
                        <a:pt x="63" y="192"/>
                      </a:lnTo>
                      <a:lnTo>
                        <a:pt x="63" y="178"/>
                      </a:lnTo>
                      <a:lnTo>
                        <a:pt x="61" y="158"/>
                      </a:lnTo>
                      <a:lnTo>
                        <a:pt x="56" y="138"/>
                      </a:lnTo>
                      <a:lnTo>
                        <a:pt x="50" y="117"/>
                      </a:lnTo>
                      <a:lnTo>
                        <a:pt x="25" y="59"/>
                      </a:lnTo>
                      <a:lnTo>
                        <a:pt x="4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8681760" y="873000"/>
                <a:ext cx="160920" cy="33840"/>
                <a:chOff x="8681760" y="873000"/>
                <a:chExt cx="160920" cy="33840"/>
              </a:xfrm>
            </p:grpSpPr>
            <p:grpSp>
              <p:nvGrpSpPr>
                <p:cNvPr id="269" name=""/>
                <p:cNvGrpSpPr/>
                <p:nvPr/>
              </p:nvGrpSpPr>
              <p:grpSpPr>
                <a:xfrm>
                  <a:off x="8681760" y="902880"/>
                  <a:ext cx="15840" cy="3960"/>
                  <a:chOff x="8681760" y="902880"/>
                  <a:chExt cx="15840" cy="396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8681760" y="902880"/>
                    <a:ext cx="158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7">
                        <a:moveTo>
                          <a:pt x="52" y="1"/>
                        </a:moveTo>
                        <a:lnTo>
                          <a:pt x="54" y="9"/>
                        </a:lnTo>
                        <a:lnTo>
                          <a:pt x="54" y="16"/>
                        </a:lnTo>
                        <a:lnTo>
                          <a:pt x="0" y="16"/>
                        </a:lnTo>
                        <a:lnTo>
                          <a:pt x="1" y="6"/>
                        </a:lnTo>
                        <a:lnTo>
                          <a:pt x="0" y="0"/>
                        </a:lnTo>
                        <a:lnTo>
                          <a:pt x="52" y="1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8681760" y="903240"/>
                    <a:ext cx="158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7">
                        <a:moveTo>
                          <a:pt x="54" y="0"/>
                        </a:moveTo>
                        <a:lnTo>
                          <a:pt x="54" y="5"/>
                        </a:lnTo>
                        <a:lnTo>
                          <a:pt x="54" y="16"/>
                        </a:lnTo>
                        <a:lnTo>
                          <a:pt x="0" y="16"/>
                        </a:lnTo>
                        <a:lnTo>
                          <a:pt x="1" y="5"/>
                        </a:lnTo>
                        <a:lnTo>
                          <a:pt x="0" y="0"/>
                        </a:lnTo>
                        <a:lnTo>
                          <a:pt x="54" y="0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8812080" y="873000"/>
                  <a:ext cx="30600" cy="20880"/>
                  <a:chOff x="8812080" y="873000"/>
                  <a:chExt cx="30600" cy="2088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8812080" y="873000"/>
                    <a:ext cx="306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96">
                        <a:moveTo>
                          <a:pt x="96" y="41"/>
                        </a:moveTo>
                        <a:lnTo>
                          <a:pt x="68" y="13"/>
                        </a:lnTo>
                        <a:lnTo>
                          <a:pt x="60" y="8"/>
                        </a:lnTo>
                        <a:lnTo>
                          <a:pt x="48" y="4"/>
                        </a:lnTo>
                        <a:lnTo>
                          <a:pt x="15" y="0"/>
                        </a:lnTo>
                        <a:lnTo>
                          <a:pt x="5" y="1"/>
                        </a:lnTo>
                        <a:lnTo>
                          <a:pt x="0" y="76"/>
                        </a:lnTo>
                        <a:lnTo>
                          <a:pt x="10" y="87"/>
                        </a:lnTo>
                        <a:lnTo>
                          <a:pt x="25" y="93"/>
                        </a:lnTo>
                        <a:lnTo>
                          <a:pt x="52" y="95"/>
                        </a:lnTo>
                        <a:lnTo>
                          <a:pt x="72" y="88"/>
                        </a:lnTo>
                        <a:lnTo>
                          <a:pt x="102" y="60"/>
                        </a:lnTo>
                        <a:lnTo>
                          <a:pt x="105" y="52"/>
                        </a:lnTo>
                        <a:lnTo>
                          <a:pt x="96" y="4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8812080" y="884160"/>
                    <a:ext cx="30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44">
                        <a:moveTo>
                          <a:pt x="105" y="0"/>
                        </a:moveTo>
                        <a:lnTo>
                          <a:pt x="83" y="7"/>
                        </a:lnTo>
                        <a:lnTo>
                          <a:pt x="62" y="14"/>
                        </a:lnTo>
                        <a:lnTo>
                          <a:pt x="46" y="14"/>
                        </a:lnTo>
                        <a:lnTo>
                          <a:pt x="24" y="17"/>
                        </a:lnTo>
                        <a:lnTo>
                          <a:pt x="8" y="12"/>
                        </a:lnTo>
                        <a:lnTo>
                          <a:pt x="3" y="1"/>
                        </a:lnTo>
                        <a:lnTo>
                          <a:pt x="0" y="25"/>
                        </a:lnTo>
                        <a:lnTo>
                          <a:pt x="8" y="35"/>
                        </a:lnTo>
                        <a:lnTo>
                          <a:pt x="25" y="41"/>
                        </a:lnTo>
                        <a:lnTo>
                          <a:pt x="51" y="43"/>
                        </a:lnTo>
                        <a:lnTo>
                          <a:pt x="73" y="36"/>
                        </a:lnTo>
                        <a:lnTo>
                          <a:pt x="99" y="13"/>
                        </a:lnTo>
                        <a:lnTo>
                          <a:pt x="103" y="8"/>
                        </a:lnTo>
                        <a:lnTo>
                          <a:pt x="105" y="0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75" name=""/>
          <p:cNvGrpSpPr/>
          <p:nvPr/>
        </p:nvGrpSpPr>
        <p:grpSpPr>
          <a:xfrm>
            <a:off x="7912080" y="449280"/>
            <a:ext cx="959040" cy="318960"/>
            <a:chOff x="7912080" y="449280"/>
            <a:chExt cx="959040" cy="318960"/>
          </a:xfrm>
        </p:grpSpPr>
        <p:sp>
          <p:nvSpPr>
            <p:cNvPr id="276" name=""/>
            <p:cNvSpPr/>
            <p:nvPr/>
          </p:nvSpPr>
          <p:spPr>
            <a:xfrm flipH="1">
              <a:off x="7998840" y="498960"/>
              <a:ext cx="638640" cy="218160"/>
            </a:xfrm>
            <a:custGeom>
              <a:avLst/>
              <a:gdLst/>
              <a:ahLst/>
              <a:rect l="l" t="t" r="r" b="b"/>
              <a:pathLst>
                <a:path w="2214" h="1017">
                  <a:moveTo>
                    <a:pt x="398" y="0"/>
                  </a:moveTo>
                  <a:lnTo>
                    <a:pt x="2147" y="0"/>
                  </a:lnTo>
                  <a:lnTo>
                    <a:pt x="2161" y="37"/>
                  </a:lnTo>
                  <a:lnTo>
                    <a:pt x="2174" y="79"/>
                  </a:lnTo>
                  <a:lnTo>
                    <a:pt x="2186" y="136"/>
                  </a:lnTo>
                  <a:lnTo>
                    <a:pt x="2196" y="197"/>
                  </a:lnTo>
                  <a:lnTo>
                    <a:pt x="2204" y="259"/>
                  </a:lnTo>
                  <a:lnTo>
                    <a:pt x="2208" y="320"/>
                  </a:lnTo>
                  <a:lnTo>
                    <a:pt x="2210" y="389"/>
                  </a:lnTo>
                  <a:lnTo>
                    <a:pt x="2204" y="451"/>
                  </a:lnTo>
                  <a:lnTo>
                    <a:pt x="2199" y="500"/>
                  </a:lnTo>
                  <a:lnTo>
                    <a:pt x="2191" y="545"/>
                  </a:lnTo>
                  <a:lnTo>
                    <a:pt x="2181" y="587"/>
                  </a:lnTo>
                  <a:lnTo>
                    <a:pt x="2170" y="625"/>
                  </a:lnTo>
                  <a:lnTo>
                    <a:pt x="2158" y="662"/>
                  </a:lnTo>
                  <a:lnTo>
                    <a:pt x="2213" y="735"/>
                  </a:lnTo>
                  <a:lnTo>
                    <a:pt x="2213" y="1006"/>
                  </a:lnTo>
                  <a:lnTo>
                    <a:pt x="1655" y="1006"/>
                  </a:lnTo>
                  <a:lnTo>
                    <a:pt x="1655" y="729"/>
                  </a:lnTo>
                  <a:lnTo>
                    <a:pt x="554" y="729"/>
                  </a:lnTo>
                  <a:lnTo>
                    <a:pt x="730" y="786"/>
                  </a:lnTo>
                  <a:lnTo>
                    <a:pt x="730" y="911"/>
                  </a:lnTo>
                  <a:lnTo>
                    <a:pt x="251" y="911"/>
                  </a:lnTo>
                  <a:lnTo>
                    <a:pt x="492" y="959"/>
                  </a:lnTo>
                  <a:lnTo>
                    <a:pt x="492" y="1016"/>
                  </a:lnTo>
                  <a:lnTo>
                    <a:pt x="67" y="959"/>
                  </a:lnTo>
                  <a:lnTo>
                    <a:pt x="67" y="800"/>
                  </a:lnTo>
                  <a:lnTo>
                    <a:pt x="0" y="800"/>
                  </a:lnTo>
                  <a:lnTo>
                    <a:pt x="0" y="710"/>
                  </a:lnTo>
                  <a:lnTo>
                    <a:pt x="72" y="710"/>
                  </a:lnTo>
                  <a:lnTo>
                    <a:pt x="72" y="777"/>
                  </a:lnTo>
                  <a:lnTo>
                    <a:pt x="454" y="777"/>
                  </a:lnTo>
                  <a:lnTo>
                    <a:pt x="432" y="749"/>
                  </a:lnTo>
                  <a:lnTo>
                    <a:pt x="416" y="729"/>
                  </a:lnTo>
                  <a:lnTo>
                    <a:pt x="399" y="703"/>
                  </a:lnTo>
                  <a:lnTo>
                    <a:pt x="421" y="756"/>
                  </a:lnTo>
                  <a:lnTo>
                    <a:pt x="336" y="756"/>
                  </a:lnTo>
                  <a:lnTo>
                    <a:pt x="325" y="684"/>
                  </a:lnTo>
                  <a:lnTo>
                    <a:pt x="382" y="682"/>
                  </a:lnTo>
                  <a:lnTo>
                    <a:pt x="364" y="641"/>
                  </a:lnTo>
                  <a:lnTo>
                    <a:pt x="351" y="598"/>
                  </a:lnTo>
                  <a:lnTo>
                    <a:pt x="340" y="551"/>
                  </a:lnTo>
                  <a:lnTo>
                    <a:pt x="332" y="505"/>
                  </a:lnTo>
                  <a:lnTo>
                    <a:pt x="326" y="443"/>
                  </a:lnTo>
                  <a:lnTo>
                    <a:pt x="323" y="364"/>
                  </a:lnTo>
                  <a:lnTo>
                    <a:pt x="323" y="312"/>
                  </a:lnTo>
                  <a:lnTo>
                    <a:pt x="331" y="243"/>
                  </a:lnTo>
                  <a:lnTo>
                    <a:pt x="338" y="197"/>
                  </a:lnTo>
                  <a:lnTo>
                    <a:pt x="345" y="161"/>
                  </a:lnTo>
                  <a:lnTo>
                    <a:pt x="353" y="118"/>
                  </a:lnTo>
                  <a:lnTo>
                    <a:pt x="368" y="72"/>
                  </a:lnTo>
                  <a:lnTo>
                    <a:pt x="382" y="37"/>
                  </a:lnTo>
                  <a:lnTo>
                    <a:pt x="398" y="0"/>
                  </a:lnTo>
                </a:path>
              </a:pathLst>
            </a:custGeom>
            <a:solidFill>
              <a:srgbClr val="cecece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925760" y="459360"/>
              <a:ext cx="675360" cy="185400"/>
            </a:xfrm>
            <a:custGeom>
              <a:avLst/>
              <a:gdLst/>
              <a:ahLst/>
              <a:rect l="l" t="t" r="r" b="b"/>
              <a:pathLst>
                <a:path w="2341" h="865">
                  <a:moveTo>
                    <a:pt x="0" y="0"/>
                  </a:moveTo>
                  <a:lnTo>
                    <a:pt x="0" y="864"/>
                  </a:lnTo>
                  <a:lnTo>
                    <a:pt x="2340" y="864"/>
                  </a:lnTo>
                  <a:lnTo>
                    <a:pt x="234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7912080" y="449280"/>
              <a:ext cx="675360" cy="195840"/>
            </a:xfrm>
            <a:custGeom>
              <a:avLst/>
              <a:gdLst/>
              <a:ahLst/>
              <a:rect l="l" t="t" r="r" b="b"/>
              <a:pathLst>
                <a:path w="2341" h="913">
                  <a:moveTo>
                    <a:pt x="0" y="0"/>
                  </a:moveTo>
                  <a:lnTo>
                    <a:pt x="0" y="912"/>
                  </a:lnTo>
                  <a:lnTo>
                    <a:pt x="2340" y="912"/>
                  </a:lnTo>
                  <a:lnTo>
                    <a:pt x="2340" y="0"/>
                  </a:lnTo>
                  <a:lnTo>
                    <a:pt x="0" y="0"/>
                  </a:lnTo>
                </a:path>
              </a:pathLst>
            </a:custGeom>
            <a:solidFill>
              <a:srgbClr val="00b7a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8691480" y="576000"/>
              <a:ext cx="21600" cy="5400"/>
            </a:xfrm>
            <a:custGeom>
              <a:avLst/>
              <a:gdLst/>
              <a:ahLst/>
              <a:rect l="l" t="t" r="r" b="b"/>
              <a:pathLst>
                <a:path w="76" h="26">
                  <a:moveTo>
                    <a:pt x="75" y="0"/>
                  </a:moveTo>
                  <a:lnTo>
                    <a:pt x="75" y="25"/>
                  </a:lnTo>
                  <a:lnTo>
                    <a:pt x="55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55" y="8"/>
                  </a:lnTo>
                  <a:lnTo>
                    <a:pt x="61" y="0"/>
                  </a:lnTo>
                  <a:lnTo>
                    <a:pt x="75" y="0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8589960" y="490320"/>
              <a:ext cx="258480" cy="226080"/>
              <a:chOff x="8589960" y="490320"/>
              <a:chExt cx="258480" cy="226080"/>
            </a:xfrm>
          </p:grpSpPr>
          <p:sp>
            <p:nvSpPr>
              <p:cNvPr id="281" name=""/>
              <p:cNvSpPr/>
              <p:nvPr/>
            </p:nvSpPr>
            <p:spPr>
              <a:xfrm flipH="1">
                <a:off x="8589960" y="490320"/>
                <a:ext cx="258480" cy="226080"/>
              </a:xfrm>
              <a:custGeom>
                <a:avLst/>
                <a:gdLst/>
                <a:ahLst/>
                <a:rect l="l" t="t" r="r" b="b"/>
                <a:pathLst>
                  <a:path w="896" h="1054">
                    <a:moveTo>
                      <a:pt x="771" y="16"/>
                    </a:moveTo>
                    <a:lnTo>
                      <a:pt x="164" y="0"/>
                    </a:lnTo>
                    <a:lnTo>
                      <a:pt x="151" y="1"/>
                    </a:lnTo>
                    <a:lnTo>
                      <a:pt x="140" y="4"/>
                    </a:lnTo>
                    <a:lnTo>
                      <a:pt x="132" y="9"/>
                    </a:lnTo>
                    <a:lnTo>
                      <a:pt x="123" y="16"/>
                    </a:lnTo>
                    <a:lnTo>
                      <a:pt x="116" y="26"/>
                    </a:lnTo>
                    <a:lnTo>
                      <a:pt x="109" y="39"/>
                    </a:lnTo>
                    <a:lnTo>
                      <a:pt x="36" y="450"/>
                    </a:lnTo>
                    <a:lnTo>
                      <a:pt x="0" y="462"/>
                    </a:lnTo>
                    <a:lnTo>
                      <a:pt x="0" y="594"/>
                    </a:lnTo>
                    <a:lnTo>
                      <a:pt x="18" y="607"/>
                    </a:lnTo>
                    <a:lnTo>
                      <a:pt x="18" y="716"/>
                    </a:lnTo>
                    <a:lnTo>
                      <a:pt x="3" y="735"/>
                    </a:lnTo>
                    <a:lnTo>
                      <a:pt x="16" y="777"/>
                    </a:lnTo>
                    <a:lnTo>
                      <a:pt x="16" y="1053"/>
                    </a:lnTo>
                    <a:lnTo>
                      <a:pt x="346" y="1053"/>
                    </a:lnTo>
                    <a:lnTo>
                      <a:pt x="346" y="1040"/>
                    </a:lnTo>
                    <a:lnTo>
                      <a:pt x="455" y="998"/>
                    </a:lnTo>
                    <a:lnTo>
                      <a:pt x="820" y="998"/>
                    </a:lnTo>
                    <a:lnTo>
                      <a:pt x="867" y="998"/>
                    </a:lnTo>
                    <a:lnTo>
                      <a:pt x="867" y="857"/>
                    </a:lnTo>
                    <a:lnTo>
                      <a:pt x="895" y="851"/>
                    </a:lnTo>
                    <a:lnTo>
                      <a:pt x="895" y="402"/>
                    </a:lnTo>
                    <a:lnTo>
                      <a:pt x="862" y="354"/>
                    </a:lnTo>
                    <a:lnTo>
                      <a:pt x="805" y="74"/>
                    </a:lnTo>
                    <a:lnTo>
                      <a:pt x="801" y="55"/>
                    </a:lnTo>
                    <a:lnTo>
                      <a:pt x="799" y="43"/>
                    </a:lnTo>
                    <a:lnTo>
                      <a:pt x="792" y="29"/>
                    </a:lnTo>
                    <a:lnTo>
                      <a:pt x="782" y="20"/>
                    </a:lnTo>
                    <a:lnTo>
                      <a:pt x="771" y="16"/>
                    </a:lnTo>
                  </a:path>
                </a:pathLst>
              </a:custGeom>
              <a:solidFill>
                <a:srgbClr val="c0fef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8676360" y="509760"/>
                <a:ext cx="135000" cy="195840"/>
                <a:chOff x="8676360" y="509760"/>
                <a:chExt cx="135000" cy="195840"/>
              </a:xfrm>
            </p:grpSpPr>
            <p:sp>
              <p:nvSpPr>
                <p:cNvPr id="283" name=""/>
                <p:cNvSpPr/>
                <p:nvPr/>
              </p:nvSpPr>
              <p:spPr>
                <a:xfrm flipH="1">
                  <a:off x="8676000" y="509760"/>
                  <a:ext cx="116280" cy="78840"/>
                </a:xfrm>
                <a:custGeom>
                  <a:avLst/>
                  <a:gdLst/>
                  <a:ahLst/>
                  <a:rect l="l" t="t" r="r" b="b"/>
                  <a:pathLst>
                    <a:path w="403" h="367">
                      <a:moveTo>
                        <a:pt x="402" y="0"/>
                      </a:moveTo>
                      <a:lnTo>
                        <a:pt x="0" y="0"/>
                      </a:lnTo>
                      <a:lnTo>
                        <a:pt x="0" y="366"/>
                      </a:lnTo>
                      <a:lnTo>
                        <a:pt x="401" y="366"/>
                      </a:lnTo>
                      <a:lnTo>
                        <a:pt x="402" y="0"/>
                      </a:lnTo>
                    </a:path>
                  </a:pathLst>
                </a:custGeom>
                <a:solidFill>
                  <a:srgbClr val="c0fef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8676000" y="588240"/>
                  <a:ext cx="135000" cy="117360"/>
                </a:xfrm>
                <a:custGeom>
                  <a:avLst/>
                  <a:gdLst/>
                  <a:ahLst/>
                  <a:rect l="l" t="t" r="r" b="b"/>
                  <a:pathLst>
                    <a:path w="467" h="547">
                      <a:moveTo>
                        <a:pt x="466" y="0"/>
                      </a:moveTo>
                      <a:lnTo>
                        <a:pt x="0" y="0"/>
                      </a:lnTo>
                      <a:lnTo>
                        <a:pt x="0" y="546"/>
                      </a:lnTo>
                      <a:lnTo>
                        <a:pt x="240" y="546"/>
                      </a:lnTo>
                      <a:lnTo>
                        <a:pt x="242" y="507"/>
                      </a:lnTo>
                      <a:lnTo>
                        <a:pt x="245" y="462"/>
                      </a:lnTo>
                      <a:lnTo>
                        <a:pt x="247" y="437"/>
                      </a:lnTo>
                      <a:lnTo>
                        <a:pt x="253" y="396"/>
                      </a:lnTo>
                      <a:lnTo>
                        <a:pt x="260" y="357"/>
                      </a:lnTo>
                      <a:lnTo>
                        <a:pt x="273" y="321"/>
                      </a:lnTo>
                      <a:lnTo>
                        <a:pt x="287" y="292"/>
                      </a:lnTo>
                      <a:lnTo>
                        <a:pt x="305" y="261"/>
                      </a:lnTo>
                      <a:lnTo>
                        <a:pt x="325" y="239"/>
                      </a:lnTo>
                      <a:lnTo>
                        <a:pt x="349" y="219"/>
                      </a:lnTo>
                      <a:lnTo>
                        <a:pt x="370" y="207"/>
                      </a:lnTo>
                      <a:lnTo>
                        <a:pt x="393" y="197"/>
                      </a:lnTo>
                      <a:lnTo>
                        <a:pt x="422" y="188"/>
                      </a:lnTo>
                      <a:lnTo>
                        <a:pt x="446" y="184"/>
                      </a:lnTo>
                      <a:lnTo>
                        <a:pt x="466" y="182"/>
                      </a:lnTo>
                      <a:lnTo>
                        <a:pt x="466" y="0"/>
                      </a:lnTo>
                    </a:path>
                  </a:pathLst>
                </a:custGeom>
                <a:solidFill>
                  <a:srgbClr val="c0fef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5" name=""/>
            <p:cNvGrpSpPr/>
            <p:nvPr/>
          </p:nvGrpSpPr>
          <p:grpSpPr>
            <a:xfrm>
              <a:off x="8619840" y="501480"/>
              <a:ext cx="213840" cy="80280"/>
              <a:chOff x="8619840" y="501480"/>
              <a:chExt cx="213840" cy="80280"/>
            </a:xfrm>
          </p:grpSpPr>
          <p:sp>
            <p:nvSpPr>
              <p:cNvPr id="286" name=""/>
              <p:cNvSpPr/>
              <p:nvPr/>
            </p:nvSpPr>
            <p:spPr>
              <a:xfrm flipH="1">
                <a:off x="8687520" y="516240"/>
                <a:ext cx="95040" cy="63720"/>
              </a:xfrm>
              <a:custGeom>
                <a:avLst/>
                <a:gdLst/>
                <a:ahLst/>
                <a:rect l="l" t="t" r="r" b="b"/>
                <a:pathLst>
                  <a:path w="330" h="298">
                    <a:moveTo>
                      <a:pt x="328" y="45"/>
                    </a:moveTo>
                    <a:lnTo>
                      <a:pt x="252" y="0"/>
                    </a:lnTo>
                    <a:lnTo>
                      <a:pt x="0" y="0"/>
                    </a:lnTo>
                    <a:lnTo>
                      <a:pt x="0" y="297"/>
                    </a:lnTo>
                    <a:lnTo>
                      <a:pt x="53" y="297"/>
                    </a:lnTo>
                    <a:lnTo>
                      <a:pt x="80" y="261"/>
                    </a:lnTo>
                    <a:lnTo>
                      <a:pt x="306" y="261"/>
                    </a:lnTo>
                    <a:lnTo>
                      <a:pt x="329" y="241"/>
                    </a:lnTo>
                    <a:lnTo>
                      <a:pt x="328" y="45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8802000" y="501480"/>
                <a:ext cx="31680" cy="80280"/>
              </a:xfrm>
              <a:custGeom>
                <a:avLst/>
                <a:gdLst/>
                <a:ahLst/>
                <a:rect l="l" t="t" r="r" b="b"/>
                <a:pathLst>
                  <a:path w="110" h="375">
                    <a:moveTo>
                      <a:pt x="67" y="0"/>
                    </a:moveTo>
                    <a:lnTo>
                      <a:pt x="0" y="374"/>
                    </a:lnTo>
                    <a:lnTo>
                      <a:pt x="80" y="374"/>
                    </a:lnTo>
                    <a:lnTo>
                      <a:pt x="109" y="368"/>
                    </a:lnTo>
                    <a:lnTo>
                      <a:pt x="109" y="69"/>
                    </a:lnTo>
                    <a:lnTo>
                      <a:pt x="107" y="47"/>
                    </a:lnTo>
                    <a:lnTo>
                      <a:pt x="103" y="33"/>
                    </a:lnTo>
                    <a:lnTo>
                      <a:pt x="94" y="20"/>
                    </a:lnTo>
                    <a:lnTo>
                      <a:pt x="83" y="11"/>
                    </a:lnTo>
                    <a:lnTo>
                      <a:pt x="67" y="0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8619480" y="519480"/>
                <a:ext cx="47160" cy="46080"/>
              </a:xfrm>
              <a:custGeom>
                <a:avLst/>
                <a:gdLst/>
                <a:ahLst/>
                <a:rect l="l" t="t" r="r" b="b"/>
                <a:pathLst>
                  <a:path w="164" h="215">
                    <a:moveTo>
                      <a:pt x="127" y="0"/>
                    </a:moveTo>
                    <a:lnTo>
                      <a:pt x="0" y="0"/>
                    </a:lnTo>
                    <a:lnTo>
                      <a:pt x="0" y="214"/>
                    </a:lnTo>
                    <a:lnTo>
                      <a:pt x="158" y="214"/>
                    </a:lnTo>
                    <a:lnTo>
                      <a:pt x="163" y="171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8759520" y="516240"/>
                <a:ext cx="0" cy="5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8846640" y="692280"/>
              <a:ext cx="24120" cy="24480"/>
            </a:xfrm>
            <a:custGeom>
              <a:avLst/>
              <a:gdLst/>
              <a:ahLst/>
              <a:rect l="l" t="t" r="r" b="b"/>
              <a:pathLst>
                <a:path w="84" h="115">
                  <a:moveTo>
                    <a:pt x="83" y="0"/>
                  </a:moveTo>
                  <a:lnTo>
                    <a:pt x="34" y="0"/>
                  </a:lnTo>
                  <a:lnTo>
                    <a:pt x="20" y="3"/>
                  </a:lnTo>
                  <a:lnTo>
                    <a:pt x="7" y="18"/>
                  </a:lnTo>
                  <a:lnTo>
                    <a:pt x="21" y="30"/>
                  </a:lnTo>
                  <a:lnTo>
                    <a:pt x="21" y="83"/>
                  </a:lnTo>
                  <a:lnTo>
                    <a:pt x="15" y="105"/>
                  </a:lnTo>
                  <a:lnTo>
                    <a:pt x="0" y="114"/>
                  </a:lnTo>
                  <a:lnTo>
                    <a:pt x="83" y="114"/>
                  </a:lnTo>
                  <a:lnTo>
                    <a:pt x="83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8591040" y="658800"/>
              <a:ext cx="155160" cy="95400"/>
              <a:chOff x="8591040" y="658800"/>
              <a:chExt cx="155160" cy="9540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8590680" y="658800"/>
                <a:ext cx="155160" cy="95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52"/>
                    </a:moveTo>
                    <a:arcTo wR="10800" hR="10800" stAng="-10784653" swAng="53719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52"/>
                    </a:moveTo>
                    <a:arcTo wR="10800" hR="10800" stAng="-10784653" swAng="5371921"/>
                  </a:path>
                </a:pathLst>
              </a:custGeom>
              <a:solidFill>
                <a:srgbClr val="cecece"/>
              </a:solidFill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8590680" y="658800"/>
                <a:ext cx="155160" cy="95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60" y="0"/>
                    </a:moveTo>
                    <a:arcTo wR="10800" hR="10800" stAng="-5412732" swAng="54127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60" y="0"/>
                    </a:moveTo>
                    <a:arcTo wR="10800" hR="10800" stAng="-5412732" swAng="5412732"/>
                  </a:path>
                </a:pathLst>
              </a:custGeom>
              <a:solidFill>
                <a:srgbClr val="cecece"/>
              </a:solidFill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8601480" y="679680"/>
              <a:ext cx="135000" cy="88560"/>
              <a:chOff x="8601480" y="679680"/>
              <a:chExt cx="135000" cy="8856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8601120" y="679680"/>
                <a:ext cx="135000" cy="885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8629920" y="697680"/>
                <a:ext cx="78480" cy="51840"/>
                <a:chOff x="8629920" y="697680"/>
                <a:chExt cx="78480" cy="5184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8629920" y="697680"/>
                  <a:ext cx="78480" cy="51840"/>
                  <a:chOff x="8629920" y="697680"/>
                  <a:chExt cx="78480" cy="518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flipH="1">
                    <a:off x="8629920" y="697680"/>
                    <a:ext cx="78480" cy="518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>
                    <a:off x="8638560" y="703080"/>
                    <a:ext cx="61200" cy="3996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8638560" y="703440"/>
                  <a:ext cx="61200" cy="39240"/>
                  <a:chOff x="8638560" y="703440"/>
                  <a:chExt cx="61200" cy="3924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flipH="1">
                    <a:off x="8661240" y="703440"/>
                    <a:ext cx="212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4">
                        <a:moveTo>
                          <a:pt x="0" y="9"/>
                        </a:moveTo>
                        <a:lnTo>
                          <a:pt x="4" y="21"/>
                        </a:lnTo>
                        <a:lnTo>
                          <a:pt x="5" y="28"/>
                        </a:lnTo>
                        <a:lnTo>
                          <a:pt x="10" y="32"/>
                        </a:lnTo>
                        <a:lnTo>
                          <a:pt x="14" y="38"/>
                        </a:lnTo>
                        <a:lnTo>
                          <a:pt x="25" y="42"/>
                        </a:lnTo>
                        <a:lnTo>
                          <a:pt x="38" y="43"/>
                        </a:lnTo>
                        <a:lnTo>
                          <a:pt x="45" y="43"/>
                        </a:lnTo>
                        <a:lnTo>
                          <a:pt x="55" y="39"/>
                        </a:lnTo>
                        <a:lnTo>
                          <a:pt x="65" y="32"/>
                        </a:lnTo>
                        <a:lnTo>
                          <a:pt x="72" y="25"/>
                        </a:lnTo>
                        <a:lnTo>
                          <a:pt x="73" y="13"/>
                        </a:lnTo>
                        <a:lnTo>
                          <a:pt x="72" y="2"/>
                        </a:lnTo>
                        <a:lnTo>
                          <a:pt x="55" y="0"/>
                        </a:lnTo>
                        <a:lnTo>
                          <a:pt x="40" y="0"/>
                        </a:lnTo>
                        <a:lnTo>
                          <a:pt x="30" y="1"/>
                        </a:lnTo>
                        <a:lnTo>
                          <a:pt x="16" y="2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>
                    <a:off x="8685360" y="71424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11" y="0"/>
                        </a:moveTo>
                        <a:lnTo>
                          <a:pt x="20" y="0"/>
                        </a:lnTo>
                        <a:lnTo>
                          <a:pt x="31" y="4"/>
                        </a:lnTo>
                        <a:lnTo>
                          <a:pt x="39" y="8"/>
                        </a:lnTo>
                        <a:lnTo>
                          <a:pt x="44" y="15"/>
                        </a:lnTo>
                        <a:lnTo>
                          <a:pt x="49" y="27"/>
                        </a:lnTo>
                        <a:lnTo>
                          <a:pt x="49" y="41"/>
                        </a:lnTo>
                        <a:lnTo>
                          <a:pt x="42" y="55"/>
                        </a:lnTo>
                        <a:lnTo>
                          <a:pt x="29" y="61"/>
                        </a:lnTo>
                        <a:lnTo>
                          <a:pt x="16" y="64"/>
                        </a:lnTo>
                        <a:lnTo>
                          <a:pt x="2" y="63"/>
                        </a:lnTo>
                        <a:lnTo>
                          <a:pt x="0" y="51"/>
                        </a:lnTo>
                        <a:lnTo>
                          <a:pt x="0" y="37"/>
                        </a:lnTo>
                        <a:lnTo>
                          <a:pt x="2" y="24"/>
                        </a:lnTo>
                        <a:lnTo>
                          <a:pt x="6" y="11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H="1">
                    <a:off x="8638200" y="709560"/>
                    <a:ext cx="162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65">
                        <a:moveTo>
                          <a:pt x="29" y="0"/>
                        </a:moveTo>
                        <a:lnTo>
                          <a:pt x="16" y="4"/>
                        </a:lnTo>
                        <a:lnTo>
                          <a:pt x="7" y="11"/>
                        </a:lnTo>
                        <a:lnTo>
                          <a:pt x="2" y="19"/>
                        </a:lnTo>
                        <a:lnTo>
                          <a:pt x="0" y="26"/>
                        </a:lnTo>
                        <a:lnTo>
                          <a:pt x="1" y="33"/>
                        </a:lnTo>
                        <a:lnTo>
                          <a:pt x="2" y="44"/>
                        </a:lnTo>
                        <a:lnTo>
                          <a:pt x="9" y="52"/>
                        </a:lnTo>
                        <a:lnTo>
                          <a:pt x="15" y="57"/>
                        </a:lnTo>
                        <a:lnTo>
                          <a:pt x="26" y="61"/>
                        </a:lnTo>
                        <a:lnTo>
                          <a:pt x="34" y="64"/>
                        </a:lnTo>
                        <a:lnTo>
                          <a:pt x="46" y="63"/>
                        </a:lnTo>
                        <a:lnTo>
                          <a:pt x="55" y="59"/>
                        </a:lnTo>
                        <a:lnTo>
                          <a:pt x="50" y="39"/>
                        </a:lnTo>
                        <a:lnTo>
                          <a:pt x="48" y="29"/>
                        </a:lnTo>
                        <a:lnTo>
                          <a:pt x="39" y="13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>
                    <a:off x="8672400" y="732600"/>
                    <a:ext cx="1980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8">
                        <a:moveTo>
                          <a:pt x="0" y="19"/>
                        </a:moveTo>
                        <a:lnTo>
                          <a:pt x="6" y="12"/>
                        </a:lnTo>
                        <a:lnTo>
                          <a:pt x="12" y="8"/>
                        </a:lnTo>
                        <a:lnTo>
                          <a:pt x="20" y="2"/>
                        </a:lnTo>
                        <a:lnTo>
                          <a:pt x="31" y="0"/>
                        </a:lnTo>
                        <a:lnTo>
                          <a:pt x="41" y="0"/>
                        </a:lnTo>
                        <a:lnTo>
                          <a:pt x="53" y="4"/>
                        </a:lnTo>
                        <a:lnTo>
                          <a:pt x="61" y="8"/>
                        </a:lnTo>
                        <a:lnTo>
                          <a:pt x="66" y="15"/>
                        </a:lnTo>
                        <a:lnTo>
                          <a:pt x="68" y="26"/>
                        </a:lnTo>
                        <a:lnTo>
                          <a:pt x="66" y="36"/>
                        </a:lnTo>
                        <a:lnTo>
                          <a:pt x="62" y="47"/>
                        </a:lnTo>
                        <a:lnTo>
                          <a:pt x="43" y="45"/>
                        </a:lnTo>
                        <a:lnTo>
                          <a:pt x="23" y="36"/>
                        </a:lnTo>
                        <a:lnTo>
                          <a:pt x="9" y="29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>
                    <a:off x="8642160" y="729360"/>
                    <a:ext cx="169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9">
                        <a:moveTo>
                          <a:pt x="58" y="13"/>
                        </a:moveTo>
                        <a:lnTo>
                          <a:pt x="53" y="7"/>
                        </a:lnTo>
                        <a:lnTo>
                          <a:pt x="49" y="4"/>
                        </a:lnTo>
                        <a:lnTo>
                          <a:pt x="41" y="2"/>
                        </a:lnTo>
                        <a:lnTo>
                          <a:pt x="30" y="0"/>
                        </a:lnTo>
                        <a:lnTo>
                          <a:pt x="18" y="2"/>
                        </a:lnTo>
                        <a:lnTo>
                          <a:pt x="9" y="8"/>
                        </a:lnTo>
                        <a:lnTo>
                          <a:pt x="7" y="11"/>
                        </a:lnTo>
                        <a:lnTo>
                          <a:pt x="1" y="19"/>
                        </a:lnTo>
                        <a:lnTo>
                          <a:pt x="0" y="28"/>
                        </a:lnTo>
                        <a:lnTo>
                          <a:pt x="0" y="37"/>
                        </a:lnTo>
                        <a:lnTo>
                          <a:pt x="5" y="48"/>
                        </a:lnTo>
                        <a:lnTo>
                          <a:pt x="12" y="58"/>
                        </a:lnTo>
                        <a:lnTo>
                          <a:pt x="30" y="47"/>
                        </a:lnTo>
                        <a:lnTo>
                          <a:pt x="41" y="39"/>
                        </a:lnTo>
                        <a:lnTo>
                          <a:pt x="51" y="27"/>
                        </a:lnTo>
                        <a:lnTo>
                          <a:pt x="58" y="1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6" name=""/>
                <p:cNvSpPr/>
                <p:nvPr/>
              </p:nvSpPr>
              <p:spPr>
                <a:xfrm flipH="1">
                  <a:off x="8660880" y="718200"/>
                  <a:ext cx="17280" cy="11160"/>
                </a:xfrm>
                <a:prstGeom prst="ellipse">
                  <a:avLst/>
                </a:prstGeom>
                <a:solidFill>
                  <a:srgbClr val="8080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7" name=""/>
            <p:cNvSpPr/>
            <p:nvPr/>
          </p:nvSpPr>
          <p:spPr>
            <a:xfrm flipH="1">
              <a:off x="8241840" y="655920"/>
              <a:ext cx="297720" cy="392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8831880" y="622800"/>
              <a:ext cx="23400" cy="1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7" y="21443"/>
                  </a:moveTo>
                  <a:arcTo wR="10800" hR="10800" stAng="4812371" swAng="121215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7" y="21443"/>
                  </a:moveTo>
                  <a:arcTo wR="10800" hR="10800" stAng="4812371" swAng="12121501"/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8600400" y="673200"/>
              <a:ext cx="7920" cy="30960"/>
            </a:xfrm>
            <a:custGeom>
              <a:avLst/>
              <a:gdLst/>
              <a:ahLst/>
              <a:rect l="l" t="t" r="r" b="b"/>
              <a:pathLst>
                <a:path w="28" h="145">
                  <a:moveTo>
                    <a:pt x="27" y="0"/>
                  </a:moveTo>
                  <a:lnTo>
                    <a:pt x="0" y="6"/>
                  </a:lnTo>
                  <a:lnTo>
                    <a:pt x="0" y="144"/>
                  </a:lnTo>
                  <a:lnTo>
                    <a:pt x="27" y="144"/>
                  </a:lnTo>
                  <a:lnTo>
                    <a:pt x="27" y="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8291160" y="655200"/>
              <a:ext cx="11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8468640" y="636120"/>
              <a:ext cx="40320" cy="16920"/>
            </a:xfrm>
            <a:prstGeom prst="rect">
              <a:avLst/>
            </a:prstGeom>
            <a:solidFill>
              <a:srgbClr val="cecece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942320" y="655920"/>
              <a:ext cx="304560" cy="392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985160" y="642960"/>
              <a:ext cx="180000" cy="53280"/>
            </a:xfrm>
            <a:custGeom>
              <a:avLst/>
              <a:gdLst/>
              <a:ahLst/>
              <a:rect l="l" t="t" r="r" b="b"/>
              <a:pathLst>
                <a:path w="625" h="249">
                  <a:moveTo>
                    <a:pt x="70" y="5"/>
                  </a:moveTo>
                  <a:lnTo>
                    <a:pt x="0" y="195"/>
                  </a:lnTo>
                  <a:lnTo>
                    <a:pt x="22" y="248"/>
                  </a:lnTo>
                  <a:lnTo>
                    <a:pt x="84" y="89"/>
                  </a:lnTo>
                  <a:lnTo>
                    <a:pt x="549" y="89"/>
                  </a:lnTo>
                  <a:lnTo>
                    <a:pt x="607" y="201"/>
                  </a:lnTo>
                  <a:lnTo>
                    <a:pt x="624" y="129"/>
                  </a:lnTo>
                  <a:lnTo>
                    <a:pt x="564" y="0"/>
                  </a:lnTo>
                </a:path>
              </a:pathLst>
            </a:custGeom>
            <a:solidFill>
              <a:srgbClr val="cecece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7917120" y="658080"/>
              <a:ext cx="31320" cy="67680"/>
              <a:chOff x="7917120" y="658080"/>
              <a:chExt cx="31320" cy="67680"/>
            </a:xfrm>
          </p:grpSpPr>
          <p:sp>
            <p:nvSpPr>
              <p:cNvPr id="315" name=""/>
              <p:cNvSpPr/>
              <p:nvPr/>
            </p:nvSpPr>
            <p:spPr>
              <a:xfrm flipH="1">
                <a:off x="7939800" y="658080"/>
                <a:ext cx="8280" cy="6768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7917120" y="667080"/>
                <a:ext cx="18720" cy="1872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flipH="1">
              <a:off x="8466120" y="696240"/>
              <a:ext cx="119880" cy="4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8005320" y="675720"/>
              <a:ext cx="121680" cy="87840"/>
              <a:chOff x="8005320" y="675720"/>
              <a:chExt cx="121680" cy="87840"/>
            </a:xfrm>
          </p:grpSpPr>
          <p:sp>
            <p:nvSpPr>
              <p:cNvPr id="319" name=""/>
              <p:cNvSpPr/>
              <p:nvPr/>
            </p:nvSpPr>
            <p:spPr>
              <a:xfrm flipH="1">
                <a:off x="8005320" y="675720"/>
                <a:ext cx="121680" cy="8784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8030520" y="693720"/>
                <a:ext cx="71640" cy="51480"/>
                <a:chOff x="8030520" y="693720"/>
                <a:chExt cx="71640" cy="51480"/>
              </a:xfrm>
            </p:grpSpPr>
            <p:grpSp>
              <p:nvGrpSpPr>
                <p:cNvPr id="321" name=""/>
                <p:cNvGrpSpPr/>
                <p:nvPr/>
              </p:nvGrpSpPr>
              <p:grpSpPr>
                <a:xfrm>
                  <a:off x="8030520" y="693720"/>
                  <a:ext cx="71640" cy="51480"/>
                  <a:chOff x="8030520" y="693720"/>
                  <a:chExt cx="71640" cy="51480"/>
                </a:xfrm>
              </p:grpSpPr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8030520" y="693720"/>
                    <a:ext cx="71640" cy="51480"/>
                    <a:chOff x="8030520" y="693720"/>
                    <a:chExt cx="71640" cy="5148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flipH="1">
                      <a:off x="8030160" y="693720"/>
                      <a:ext cx="71640" cy="514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H="1">
                      <a:off x="8038440" y="699120"/>
                      <a:ext cx="55440" cy="396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8038440" y="699480"/>
                    <a:ext cx="55080" cy="40320"/>
                    <a:chOff x="8038440" y="699480"/>
                    <a:chExt cx="55080" cy="4032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flipH="1">
                      <a:off x="8072280" y="700560"/>
                      <a:ext cx="1836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72">
                          <a:moveTo>
                            <a:pt x="35" y="0"/>
                          </a:moveTo>
                          <a:lnTo>
                            <a:pt x="63" y="60"/>
                          </a:lnTo>
                          <a:lnTo>
                            <a:pt x="53" y="71"/>
                          </a:lnTo>
                          <a:lnTo>
                            <a:pt x="0" y="35"/>
                          </a:lnTo>
                          <a:lnTo>
                            <a:pt x="11" y="22"/>
                          </a:lnTo>
                          <a:lnTo>
                            <a:pt x="21" y="11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flipH="1">
                      <a:off x="8046360" y="699480"/>
                      <a:ext cx="1764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69">
                          <a:moveTo>
                            <a:pt x="18" y="0"/>
                          </a:moveTo>
                          <a:lnTo>
                            <a:pt x="0" y="61"/>
                          </a:lnTo>
                          <a:lnTo>
                            <a:pt x="16" y="68"/>
                          </a:lnTo>
                          <a:lnTo>
                            <a:pt x="61" y="24"/>
                          </a:lnTo>
                          <a:lnTo>
                            <a:pt x="51" y="15"/>
                          </a:lnTo>
                          <a:lnTo>
                            <a:pt x="42" y="8"/>
                          </a:lnTo>
                          <a:lnTo>
                            <a:pt x="18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flipH="1">
                      <a:off x="8074080" y="720720"/>
                      <a:ext cx="190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53">
                          <a:moveTo>
                            <a:pt x="56" y="0"/>
                          </a:moveTo>
                          <a:lnTo>
                            <a:pt x="0" y="13"/>
                          </a:lnTo>
                          <a:lnTo>
                            <a:pt x="1" y="26"/>
                          </a:lnTo>
                          <a:lnTo>
                            <a:pt x="7" y="37"/>
                          </a:lnTo>
                          <a:lnTo>
                            <a:pt x="15" y="52"/>
                          </a:lnTo>
                          <a:lnTo>
                            <a:pt x="65" y="18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flipH="1">
                      <a:off x="8055720" y="726480"/>
                      <a:ext cx="1440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62">
                          <a:moveTo>
                            <a:pt x="10" y="2"/>
                          </a:moveTo>
                          <a:lnTo>
                            <a:pt x="0" y="61"/>
                          </a:lnTo>
                          <a:lnTo>
                            <a:pt x="17" y="61"/>
                          </a:lnTo>
                          <a:lnTo>
                            <a:pt x="34" y="58"/>
                          </a:lnTo>
                          <a:lnTo>
                            <a:pt x="49" y="54"/>
                          </a:lnTo>
                          <a:lnTo>
                            <a:pt x="23" y="0"/>
                          </a:lnTo>
                          <a:lnTo>
                            <a:pt x="10" y="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flipH="1">
                      <a:off x="8038440" y="718560"/>
                      <a:ext cx="1800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44">
                          <a:moveTo>
                            <a:pt x="0" y="21"/>
                          </a:moveTo>
                          <a:lnTo>
                            <a:pt x="54" y="43"/>
                          </a:lnTo>
                          <a:lnTo>
                            <a:pt x="58" y="30"/>
                          </a:lnTo>
                          <a:lnTo>
                            <a:pt x="61" y="17"/>
                          </a:lnTo>
                          <a:lnTo>
                            <a:pt x="62" y="0"/>
                          </a:lnTo>
                          <a:lnTo>
                            <a:pt x="2" y="2"/>
                          </a:lnTo>
                          <a:lnTo>
                            <a:pt x="0" y="21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31" name=""/>
                <p:cNvSpPr/>
                <p:nvPr/>
              </p:nvSpPr>
              <p:spPr>
                <a:xfrm flipH="1">
                  <a:off x="8058600" y="713880"/>
                  <a:ext cx="15480" cy="11160"/>
                </a:xfrm>
                <a:prstGeom prst="ellipse">
                  <a:avLst/>
                </a:prstGeom>
                <a:solidFill>
                  <a:srgbClr val="8080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2" name=""/>
            <p:cNvGrpSpPr/>
            <p:nvPr/>
          </p:nvGrpSpPr>
          <p:grpSpPr>
            <a:xfrm>
              <a:off x="8471160" y="666360"/>
              <a:ext cx="108360" cy="70200"/>
              <a:chOff x="8471160" y="666360"/>
              <a:chExt cx="108360" cy="70200"/>
            </a:xfrm>
          </p:grpSpPr>
          <p:sp>
            <p:nvSpPr>
              <p:cNvPr id="333" name=""/>
              <p:cNvSpPr/>
              <p:nvPr/>
            </p:nvSpPr>
            <p:spPr>
              <a:xfrm flipH="1">
                <a:off x="8470800" y="678240"/>
                <a:ext cx="108360" cy="5832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8548560" y="666360"/>
                <a:ext cx="20160" cy="100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7053120" y="700200"/>
            <a:ext cx="1180800" cy="288720"/>
            <a:chOff x="7053120" y="700200"/>
            <a:chExt cx="1180800" cy="288720"/>
          </a:xfrm>
        </p:grpSpPr>
        <p:sp>
          <p:nvSpPr>
            <p:cNvPr id="336" name=""/>
            <p:cNvSpPr/>
            <p:nvPr/>
          </p:nvSpPr>
          <p:spPr>
            <a:xfrm>
              <a:off x="8059320" y="892080"/>
              <a:ext cx="174600" cy="17280"/>
            </a:xfrm>
            <a:custGeom>
              <a:avLst/>
              <a:gdLst/>
              <a:ahLst/>
              <a:rect l="l" t="t" r="r" b="b"/>
              <a:pathLst>
                <a:path w="507" h="75">
                  <a:moveTo>
                    <a:pt x="17" y="4"/>
                  </a:moveTo>
                  <a:lnTo>
                    <a:pt x="507" y="0"/>
                  </a:lnTo>
                  <a:lnTo>
                    <a:pt x="507" y="13"/>
                  </a:lnTo>
                  <a:lnTo>
                    <a:pt x="0" y="75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8003160" y="912600"/>
              <a:ext cx="127800" cy="57960"/>
              <a:chOff x="8003160" y="912600"/>
              <a:chExt cx="127800" cy="57960"/>
            </a:xfrm>
          </p:grpSpPr>
          <p:sp>
            <p:nvSpPr>
              <p:cNvPr id="338" name=""/>
              <p:cNvSpPr/>
              <p:nvPr/>
            </p:nvSpPr>
            <p:spPr>
              <a:xfrm>
                <a:off x="8003160" y="912600"/>
                <a:ext cx="127800" cy="57960"/>
              </a:xfrm>
              <a:custGeom>
                <a:avLst/>
                <a:gdLst/>
                <a:ahLst/>
                <a:rect l="l" t="t" r="r" b="b"/>
                <a:pathLst>
                  <a:path w="371" h="248">
                    <a:moveTo>
                      <a:pt x="228" y="10"/>
                    </a:moveTo>
                    <a:lnTo>
                      <a:pt x="271" y="22"/>
                    </a:lnTo>
                    <a:lnTo>
                      <a:pt x="285" y="26"/>
                    </a:lnTo>
                    <a:lnTo>
                      <a:pt x="293" y="28"/>
                    </a:lnTo>
                    <a:lnTo>
                      <a:pt x="301" y="31"/>
                    </a:lnTo>
                    <a:lnTo>
                      <a:pt x="308" y="33"/>
                    </a:lnTo>
                    <a:lnTo>
                      <a:pt x="315" y="36"/>
                    </a:lnTo>
                    <a:lnTo>
                      <a:pt x="322" y="40"/>
                    </a:lnTo>
                    <a:lnTo>
                      <a:pt x="329" y="45"/>
                    </a:lnTo>
                    <a:lnTo>
                      <a:pt x="336" y="51"/>
                    </a:lnTo>
                    <a:lnTo>
                      <a:pt x="343" y="57"/>
                    </a:lnTo>
                    <a:lnTo>
                      <a:pt x="347" y="62"/>
                    </a:lnTo>
                    <a:lnTo>
                      <a:pt x="352" y="67"/>
                    </a:lnTo>
                    <a:lnTo>
                      <a:pt x="357" y="74"/>
                    </a:lnTo>
                    <a:lnTo>
                      <a:pt x="360" y="82"/>
                    </a:lnTo>
                    <a:lnTo>
                      <a:pt x="363" y="88"/>
                    </a:lnTo>
                    <a:lnTo>
                      <a:pt x="366" y="97"/>
                    </a:lnTo>
                    <a:lnTo>
                      <a:pt x="369" y="106"/>
                    </a:lnTo>
                    <a:lnTo>
                      <a:pt x="371" y="115"/>
                    </a:lnTo>
                    <a:lnTo>
                      <a:pt x="371" y="125"/>
                    </a:lnTo>
                    <a:lnTo>
                      <a:pt x="371" y="134"/>
                    </a:lnTo>
                    <a:lnTo>
                      <a:pt x="371" y="143"/>
                    </a:lnTo>
                    <a:lnTo>
                      <a:pt x="370" y="154"/>
                    </a:lnTo>
                    <a:lnTo>
                      <a:pt x="367" y="165"/>
                    </a:lnTo>
                    <a:lnTo>
                      <a:pt x="364" y="172"/>
                    </a:lnTo>
                    <a:lnTo>
                      <a:pt x="362" y="178"/>
                    </a:lnTo>
                    <a:lnTo>
                      <a:pt x="358" y="186"/>
                    </a:lnTo>
                    <a:lnTo>
                      <a:pt x="354" y="191"/>
                    </a:lnTo>
                    <a:lnTo>
                      <a:pt x="350" y="198"/>
                    </a:lnTo>
                    <a:lnTo>
                      <a:pt x="345" y="203"/>
                    </a:lnTo>
                    <a:lnTo>
                      <a:pt x="341" y="208"/>
                    </a:lnTo>
                    <a:lnTo>
                      <a:pt x="336" y="212"/>
                    </a:lnTo>
                    <a:lnTo>
                      <a:pt x="327" y="219"/>
                    </a:lnTo>
                    <a:lnTo>
                      <a:pt x="317" y="225"/>
                    </a:lnTo>
                    <a:lnTo>
                      <a:pt x="307" y="230"/>
                    </a:lnTo>
                    <a:lnTo>
                      <a:pt x="298" y="233"/>
                    </a:lnTo>
                    <a:lnTo>
                      <a:pt x="289" y="236"/>
                    </a:lnTo>
                    <a:lnTo>
                      <a:pt x="278" y="238"/>
                    </a:lnTo>
                    <a:lnTo>
                      <a:pt x="266" y="241"/>
                    </a:lnTo>
                    <a:lnTo>
                      <a:pt x="252" y="243"/>
                    </a:lnTo>
                    <a:lnTo>
                      <a:pt x="237" y="245"/>
                    </a:lnTo>
                    <a:lnTo>
                      <a:pt x="221" y="247"/>
                    </a:lnTo>
                    <a:lnTo>
                      <a:pt x="202" y="247"/>
                    </a:lnTo>
                    <a:lnTo>
                      <a:pt x="189" y="248"/>
                    </a:lnTo>
                    <a:lnTo>
                      <a:pt x="176" y="247"/>
                    </a:lnTo>
                    <a:lnTo>
                      <a:pt x="162" y="247"/>
                    </a:lnTo>
                    <a:lnTo>
                      <a:pt x="148" y="245"/>
                    </a:lnTo>
                    <a:lnTo>
                      <a:pt x="133" y="243"/>
                    </a:lnTo>
                    <a:lnTo>
                      <a:pt x="118" y="239"/>
                    </a:lnTo>
                    <a:lnTo>
                      <a:pt x="103" y="235"/>
                    </a:lnTo>
                    <a:lnTo>
                      <a:pt x="94" y="232"/>
                    </a:lnTo>
                    <a:lnTo>
                      <a:pt x="83" y="226"/>
                    </a:lnTo>
                    <a:lnTo>
                      <a:pt x="72" y="221"/>
                    </a:lnTo>
                    <a:lnTo>
                      <a:pt x="63" y="215"/>
                    </a:lnTo>
                    <a:lnTo>
                      <a:pt x="53" y="208"/>
                    </a:lnTo>
                    <a:lnTo>
                      <a:pt x="44" y="202"/>
                    </a:lnTo>
                    <a:lnTo>
                      <a:pt x="35" y="193"/>
                    </a:lnTo>
                    <a:lnTo>
                      <a:pt x="30" y="188"/>
                    </a:lnTo>
                    <a:lnTo>
                      <a:pt x="25" y="182"/>
                    </a:lnTo>
                    <a:lnTo>
                      <a:pt x="19" y="175"/>
                    </a:lnTo>
                    <a:lnTo>
                      <a:pt x="14" y="167"/>
                    </a:lnTo>
                    <a:lnTo>
                      <a:pt x="11" y="159"/>
                    </a:lnTo>
                    <a:lnTo>
                      <a:pt x="8" y="152"/>
                    </a:lnTo>
                    <a:lnTo>
                      <a:pt x="0" y="113"/>
                    </a:lnTo>
                    <a:lnTo>
                      <a:pt x="4" y="72"/>
                    </a:lnTo>
                    <a:lnTo>
                      <a:pt x="16" y="49"/>
                    </a:lnTo>
                    <a:lnTo>
                      <a:pt x="51" y="26"/>
                    </a:lnTo>
                    <a:lnTo>
                      <a:pt x="79" y="13"/>
                    </a:lnTo>
                    <a:lnTo>
                      <a:pt x="114" y="5"/>
                    </a:lnTo>
                    <a:lnTo>
                      <a:pt x="161" y="0"/>
                    </a:lnTo>
                    <a:lnTo>
                      <a:pt x="209" y="6"/>
                    </a:lnTo>
                    <a:lnTo>
                      <a:pt x="228" y="1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073000" y="922320"/>
                <a:ext cx="52920" cy="4284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7435080" y="700200"/>
              <a:ext cx="699120" cy="259920"/>
              <a:chOff x="7435080" y="700200"/>
              <a:chExt cx="699120" cy="259920"/>
            </a:xfrm>
          </p:grpSpPr>
          <p:sp>
            <p:nvSpPr>
              <p:cNvPr id="341" name=""/>
              <p:cNvSpPr/>
              <p:nvPr/>
            </p:nvSpPr>
            <p:spPr>
              <a:xfrm>
                <a:off x="7435080" y="700200"/>
                <a:ext cx="698400" cy="259920"/>
              </a:xfrm>
              <a:custGeom>
                <a:avLst/>
                <a:gdLst/>
                <a:ahLst/>
                <a:rect l="l" t="t" r="r" b="b"/>
                <a:pathLst>
                  <a:path w="2024" h="1107">
                    <a:moveTo>
                      <a:pt x="190" y="424"/>
                    </a:moveTo>
                    <a:lnTo>
                      <a:pt x="50" y="508"/>
                    </a:lnTo>
                    <a:lnTo>
                      <a:pt x="41" y="514"/>
                    </a:lnTo>
                    <a:lnTo>
                      <a:pt x="37" y="516"/>
                    </a:lnTo>
                    <a:lnTo>
                      <a:pt x="33" y="519"/>
                    </a:lnTo>
                    <a:lnTo>
                      <a:pt x="28" y="523"/>
                    </a:lnTo>
                    <a:lnTo>
                      <a:pt x="24" y="527"/>
                    </a:lnTo>
                    <a:lnTo>
                      <a:pt x="20" y="532"/>
                    </a:lnTo>
                    <a:lnTo>
                      <a:pt x="16" y="536"/>
                    </a:lnTo>
                    <a:lnTo>
                      <a:pt x="13" y="542"/>
                    </a:lnTo>
                    <a:lnTo>
                      <a:pt x="10" y="548"/>
                    </a:lnTo>
                    <a:lnTo>
                      <a:pt x="8" y="552"/>
                    </a:lnTo>
                    <a:lnTo>
                      <a:pt x="6" y="558"/>
                    </a:lnTo>
                    <a:lnTo>
                      <a:pt x="4" y="563"/>
                    </a:lnTo>
                    <a:lnTo>
                      <a:pt x="3" y="568"/>
                    </a:lnTo>
                    <a:lnTo>
                      <a:pt x="2" y="572"/>
                    </a:lnTo>
                    <a:lnTo>
                      <a:pt x="1" y="579"/>
                    </a:lnTo>
                    <a:lnTo>
                      <a:pt x="0" y="583"/>
                    </a:lnTo>
                    <a:lnTo>
                      <a:pt x="0" y="588"/>
                    </a:lnTo>
                    <a:lnTo>
                      <a:pt x="0" y="592"/>
                    </a:lnTo>
                    <a:lnTo>
                      <a:pt x="1" y="598"/>
                    </a:lnTo>
                    <a:lnTo>
                      <a:pt x="2" y="605"/>
                    </a:lnTo>
                    <a:lnTo>
                      <a:pt x="3" y="612"/>
                    </a:lnTo>
                    <a:lnTo>
                      <a:pt x="5" y="619"/>
                    </a:lnTo>
                    <a:lnTo>
                      <a:pt x="7" y="624"/>
                    </a:lnTo>
                    <a:lnTo>
                      <a:pt x="9" y="629"/>
                    </a:lnTo>
                    <a:lnTo>
                      <a:pt x="11" y="633"/>
                    </a:lnTo>
                    <a:lnTo>
                      <a:pt x="14" y="639"/>
                    </a:lnTo>
                    <a:lnTo>
                      <a:pt x="18" y="645"/>
                    </a:lnTo>
                    <a:lnTo>
                      <a:pt x="21" y="649"/>
                    </a:lnTo>
                    <a:lnTo>
                      <a:pt x="26" y="653"/>
                    </a:lnTo>
                    <a:lnTo>
                      <a:pt x="32" y="658"/>
                    </a:lnTo>
                    <a:lnTo>
                      <a:pt x="39" y="662"/>
                    </a:lnTo>
                    <a:lnTo>
                      <a:pt x="46" y="666"/>
                    </a:lnTo>
                    <a:lnTo>
                      <a:pt x="53" y="668"/>
                    </a:lnTo>
                    <a:lnTo>
                      <a:pt x="61" y="670"/>
                    </a:lnTo>
                    <a:lnTo>
                      <a:pt x="69" y="671"/>
                    </a:lnTo>
                    <a:lnTo>
                      <a:pt x="77" y="671"/>
                    </a:lnTo>
                    <a:lnTo>
                      <a:pt x="83" y="671"/>
                    </a:lnTo>
                    <a:lnTo>
                      <a:pt x="90" y="669"/>
                    </a:lnTo>
                    <a:lnTo>
                      <a:pt x="204" y="635"/>
                    </a:lnTo>
                    <a:lnTo>
                      <a:pt x="208" y="671"/>
                    </a:lnTo>
                    <a:lnTo>
                      <a:pt x="127" y="793"/>
                    </a:lnTo>
                    <a:lnTo>
                      <a:pt x="127" y="834"/>
                    </a:lnTo>
                    <a:lnTo>
                      <a:pt x="138" y="858"/>
                    </a:lnTo>
                    <a:lnTo>
                      <a:pt x="202" y="955"/>
                    </a:lnTo>
                    <a:lnTo>
                      <a:pt x="231" y="994"/>
                    </a:lnTo>
                    <a:lnTo>
                      <a:pt x="243" y="1013"/>
                    </a:lnTo>
                    <a:lnTo>
                      <a:pt x="268" y="1023"/>
                    </a:lnTo>
                    <a:lnTo>
                      <a:pt x="457" y="1101"/>
                    </a:lnTo>
                    <a:lnTo>
                      <a:pt x="482" y="1107"/>
                    </a:lnTo>
                    <a:lnTo>
                      <a:pt x="1515" y="1095"/>
                    </a:lnTo>
                    <a:lnTo>
                      <a:pt x="1551" y="1092"/>
                    </a:lnTo>
                    <a:lnTo>
                      <a:pt x="1596" y="1088"/>
                    </a:lnTo>
                    <a:lnTo>
                      <a:pt x="1627" y="1082"/>
                    </a:lnTo>
                    <a:lnTo>
                      <a:pt x="1664" y="1068"/>
                    </a:lnTo>
                    <a:lnTo>
                      <a:pt x="1704" y="1055"/>
                    </a:lnTo>
                    <a:lnTo>
                      <a:pt x="1739" y="1041"/>
                    </a:lnTo>
                    <a:lnTo>
                      <a:pt x="1768" y="1023"/>
                    </a:lnTo>
                    <a:lnTo>
                      <a:pt x="1795" y="1005"/>
                    </a:lnTo>
                    <a:lnTo>
                      <a:pt x="1822" y="986"/>
                    </a:lnTo>
                    <a:lnTo>
                      <a:pt x="1845" y="965"/>
                    </a:lnTo>
                    <a:lnTo>
                      <a:pt x="1867" y="938"/>
                    </a:lnTo>
                    <a:lnTo>
                      <a:pt x="1888" y="913"/>
                    </a:lnTo>
                    <a:lnTo>
                      <a:pt x="1908" y="887"/>
                    </a:lnTo>
                    <a:lnTo>
                      <a:pt x="1930" y="860"/>
                    </a:lnTo>
                    <a:lnTo>
                      <a:pt x="1945" y="842"/>
                    </a:lnTo>
                    <a:lnTo>
                      <a:pt x="1969" y="816"/>
                    </a:lnTo>
                    <a:lnTo>
                      <a:pt x="1990" y="787"/>
                    </a:lnTo>
                    <a:lnTo>
                      <a:pt x="2006" y="762"/>
                    </a:lnTo>
                    <a:lnTo>
                      <a:pt x="2013" y="746"/>
                    </a:lnTo>
                    <a:lnTo>
                      <a:pt x="2018" y="726"/>
                    </a:lnTo>
                    <a:lnTo>
                      <a:pt x="2023" y="703"/>
                    </a:lnTo>
                    <a:lnTo>
                      <a:pt x="2024" y="682"/>
                    </a:lnTo>
                    <a:lnTo>
                      <a:pt x="2022" y="664"/>
                    </a:lnTo>
                    <a:lnTo>
                      <a:pt x="2020" y="652"/>
                    </a:lnTo>
                    <a:lnTo>
                      <a:pt x="2017" y="637"/>
                    </a:lnTo>
                    <a:lnTo>
                      <a:pt x="2011" y="622"/>
                    </a:lnTo>
                    <a:lnTo>
                      <a:pt x="2004" y="609"/>
                    </a:lnTo>
                    <a:lnTo>
                      <a:pt x="1997" y="597"/>
                    </a:lnTo>
                    <a:lnTo>
                      <a:pt x="1989" y="588"/>
                    </a:lnTo>
                    <a:lnTo>
                      <a:pt x="1977" y="579"/>
                    </a:lnTo>
                    <a:lnTo>
                      <a:pt x="1869" y="464"/>
                    </a:lnTo>
                    <a:lnTo>
                      <a:pt x="1856" y="448"/>
                    </a:lnTo>
                    <a:lnTo>
                      <a:pt x="1840" y="430"/>
                    </a:lnTo>
                    <a:lnTo>
                      <a:pt x="1821" y="413"/>
                    </a:lnTo>
                    <a:lnTo>
                      <a:pt x="1804" y="399"/>
                    </a:lnTo>
                    <a:lnTo>
                      <a:pt x="1787" y="386"/>
                    </a:lnTo>
                    <a:lnTo>
                      <a:pt x="1770" y="376"/>
                    </a:lnTo>
                    <a:lnTo>
                      <a:pt x="1752" y="364"/>
                    </a:lnTo>
                    <a:lnTo>
                      <a:pt x="1731" y="354"/>
                    </a:lnTo>
                    <a:lnTo>
                      <a:pt x="1711" y="344"/>
                    </a:lnTo>
                    <a:lnTo>
                      <a:pt x="1691" y="336"/>
                    </a:lnTo>
                    <a:lnTo>
                      <a:pt x="1671" y="329"/>
                    </a:lnTo>
                    <a:lnTo>
                      <a:pt x="1646" y="323"/>
                    </a:lnTo>
                    <a:lnTo>
                      <a:pt x="1623" y="317"/>
                    </a:lnTo>
                    <a:lnTo>
                      <a:pt x="1598" y="313"/>
                    </a:lnTo>
                    <a:lnTo>
                      <a:pt x="1575" y="310"/>
                    </a:lnTo>
                    <a:lnTo>
                      <a:pt x="1555" y="309"/>
                    </a:lnTo>
                    <a:lnTo>
                      <a:pt x="1532" y="308"/>
                    </a:lnTo>
                    <a:lnTo>
                      <a:pt x="1511" y="309"/>
                    </a:lnTo>
                    <a:lnTo>
                      <a:pt x="1490" y="311"/>
                    </a:lnTo>
                    <a:lnTo>
                      <a:pt x="1473" y="312"/>
                    </a:lnTo>
                    <a:lnTo>
                      <a:pt x="1455" y="315"/>
                    </a:lnTo>
                    <a:lnTo>
                      <a:pt x="1438" y="319"/>
                    </a:lnTo>
                    <a:lnTo>
                      <a:pt x="666" y="529"/>
                    </a:lnTo>
                    <a:lnTo>
                      <a:pt x="503" y="569"/>
                    </a:lnTo>
                    <a:lnTo>
                      <a:pt x="503" y="539"/>
                    </a:lnTo>
                    <a:lnTo>
                      <a:pt x="510" y="534"/>
                    </a:lnTo>
                    <a:lnTo>
                      <a:pt x="519" y="528"/>
                    </a:lnTo>
                    <a:lnTo>
                      <a:pt x="528" y="520"/>
                    </a:lnTo>
                    <a:lnTo>
                      <a:pt x="536" y="509"/>
                    </a:lnTo>
                    <a:lnTo>
                      <a:pt x="546" y="493"/>
                    </a:lnTo>
                    <a:lnTo>
                      <a:pt x="551" y="481"/>
                    </a:lnTo>
                    <a:lnTo>
                      <a:pt x="554" y="469"/>
                    </a:lnTo>
                    <a:lnTo>
                      <a:pt x="556" y="457"/>
                    </a:lnTo>
                    <a:lnTo>
                      <a:pt x="557" y="448"/>
                    </a:lnTo>
                    <a:lnTo>
                      <a:pt x="556" y="439"/>
                    </a:lnTo>
                    <a:lnTo>
                      <a:pt x="555" y="430"/>
                    </a:lnTo>
                    <a:lnTo>
                      <a:pt x="553" y="418"/>
                    </a:lnTo>
                    <a:lnTo>
                      <a:pt x="549" y="407"/>
                    </a:lnTo>
                    <a:lnTo>
                      <a:pt x="544" y="396"/>
                    </a:lnTo>
                    <a:lnTo>
                      <a:pt x="537" y="386"/>
                    </a:lnTo>
                    <a:lnTo>
                      <a:pt x="529" y="376"/>
                    </a:lnTo>
                    <a:lnTo>
                      <a:pt x="522" y="368"/>
                    </a:lnTo>
                    <a:lnTo>
                      <a:pt x="514" y="362"/>
                    </a:lnTo>
                    <a:lnTo>
                      <a:pt x="504" y="355"/>
                    </a:lnTo>
                    <a:lnTo>
                      <a:pt x="496" y="351"/>
                    </a:lnTo>
                    <a:lnTo>
                      <a:pt x="486" y="348"/>
                    </a:lnTo>
                    <a:lnTo>
                      <a:pt x="479" y="345"/>
                    </a:lnTo>
                    <a:lnTo>
                      <a:pt x="469" y="343"/>
                    </a:lnTo>
                    <a:lnTo>
                      <a:pt x="457" y="342"/>
                    </a:lnTo>
                    <a:lnTo>
                      <a:pt x="442" y="342"/>
                    </a:lnTo>
                    <a:lnTo>
                      <a:pt x="430" y="343"/>
                    </a:lnTo>
                    <a:lnTo>
                      <a:pt x="418" y="345"/>
                    </a:lnTo>
                    <a:lnTo>
                      <a:pt x="406" y="349"/>
                    </a:lnTo>
                    <a:lnTo>
                      <a:pt x="394" y="353"/>
                    </a:lnTo>
                    <a:lnTo>
                      <a:pt x="385" y="354"/>
                    </a:lnTo>
                    <a:lnTo>
                      <a:pt x="365" y="355"/>
                    </a:lnTo>
                    <a:lnTo>
                      <a:pt x="346" y="337"/>
                    </a:lnTo>
                    <a:lnTo>
                      <a:pt x="306" y="337"/>
                    </a:lnTo>
                    <a:lnTo>
                      <a:pt x="303" y="332"/>
                    </a:lnTo>
                    <a:lnTo>
                      <a:pt x="224" y="0"/>
                    </a:lnTo>
                    <a:lnTo>
                      <a:pt x="174" y="8"/>
                    </a:lnTo>
                    <a:lnTo>
                      <a:pt x="190" y="424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569000" y="785160"/>
                <a:ext cx="52560" cy="403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074800" y="833400"/>
                <a:ext cx="59400" cy="536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7516440" y="813600"/>
                <a:ext cx="588960" cy="71640"/>
                <a:chOff x="7516440" y="813600"/>
                <a:chExt cx="588960" cy="716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8062560" y="813600"/>
                  <a:ext cx="42840" cy="13680"/>
                </a:xfrm>
                <a:custGeom>
                  <a:avLst/>
                  <a:gdLst/>
                  <a:ahLst/>
                  <a:rect l="l" t="t" r="r" b="b"/>
                  <a:pathLst>
                    <a:path w="125" h="59">
                      <a:moveTo>
                        <a:pt x="70" y="0"/>
                      </a:moveTo>
                      <a:lnTo>
                        <a:pt x="125" y="58"/>
                      </a:lnTo>
                      <a:lnTo>
                        <a:pt x="31" y="59"/>
                      </a:lnTo>
                      <a:lnTo>
                        <a:pt x="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8015400" y="813600"/>
                  <a:ext cx="51480" cy="14040"/>
                </a:xfrm>
                <a:custGeom>
                  <a:avLst/>
                  <a:gdLst/>
                  <a:ahLst/>
                  <a:rect l="l" t="t" r="r" b="b"/>
                  <a:pathLst>
                    <a:path w="150" h="60">
                      <a:moveTo>
                        <a:pt x="3" y="0"/>
                      </a:moveTo>
                      <a:lnTo>
                        <a:pt x="120" y="0"/>
                      </a:lnTo>
                      <a:lnTo>
                        <a:pt x="150" y="60"/>
                      </a:lnTo>
                      <a:lnTo>
                        <a:pt x="0" y="6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989480" y="813600"/>
                  <a:ext cx="20160" cy="14040"/>
                </a:xfrm>
                <a:custGeom>
                  <a:avLst/>
                  <a:gdLst/>
                  <a:ahLst/>
                  <a:rect l="l" t="t" r="r" b="b"/>
                  <a:pathLst>
                    <a:path w="59" h="61">
                      <a:moveTo>
                        <a:pt x="6" y="0"/>
                      </a:moveTo>
                      <a:lnTo>
                        <a:pt x="59" y="0"/>
                      </a:lnTo>
                      <a:lnTo>
                        <a:pt x="55" y="61"/>
                      </a:lnTo>
                      <a:lnTo>
                        <a:pt x="0" y="6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968600" y="813600"/>
                  <a:ext cx="19080" cy="14760"/>
                </a:xfrm>
                <a:custGeom>
                  <a:avLst/>
                  <a:gdLst/>
                  <a:ahLst/>
                  <a:rect l="l" t="t" r="r" b="b"/>
                  <a:pathLst>
                    <a:path w="56" h="63">
                      <a:moveTo>
                        <a:pt x="7" y="0"/>
                      </a:moveTo>
                      <a:lnTo>
                        <a:pt x="56" y="1"/>
                      </a:lnTo>
                      <a:lnTo>
                        <a:pt x="48" y="63"/>
                      </a:lnTo>
                      <a:lnTo>
                        <a:pt x="0" y="6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887240" y="813600"/>
                  <a:ext cx="78840" cy="17640"/>
                </a:xfrm>
                <a:custGeom>
                  <a:avLst/>
                  <a:gdLst/>
                  <a:ahLst/>
                  <a:rect l="l" t="t" r="r" b="b"/>
                  <a:pathLst>
                    <a:path w="229" h="76">
                      <a:moveTo>
                        <a:pt x="229" y="0"/>
                      </a:moveTo>
                      <a:lnTo>
                        <a:pt x="222" y="62"/>
                      </a:lnTo>
                      <a:lnTo>
                        <a:pt x="158" y="66"/>
                      </a:lnTo>
                      <a:lnTo>
                        <a:pt x="111" y="68"/>
                      </a:lnTo>
                      <a:lnTo>
                        <a:pt x="66" y="71"/>
                      </a:lnTo>
                      <a:lnTo>
                        <a:pt x="0" y="76"/>
                      </a:lnTo>
                      <a:lnTo>
                        <a:pt x="3" y="30"/>
                      </a:lnTo>
                      <a:lnTo>
                        <a:pt x="68" y="20"/>
                      </a:lnTo>
                      <a:lnTo>
                        <a:pt x="108" y="15"/>
                      </a:lnTo>
                      <a:lnTo>
                        <a:pt x="171" y="6"/>
                      </a:lnTo>
                      <a:lnTo>
                        <a:pt x="229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516440" y="821520"/>
                  <a:ext cx="367560" cy="63720"/>
                </a:xfrm>
                <a:custGeom>
                  <a:avLst/>
                  <a:gdLst/>
                  <a:ahLst/>
                  <a:rect l="l" t="t" r="r" b="b"/>
                  <a:pathLst>
                    <a:path w="1065" h="272">
                      <a:moveTo>
                        <a:pt x="0" y="251"/>
                      </a:moveTo>
                      <a:lnTo>
                        <a:pt x="0" y="272"/>
                      </a:lnTo>
                      <a:lnTo>
                        <a:pt x="1062" y="45"/>
                      </a:lnTo>
                      <a:lnTo>
                        <a:pt x="1065" y="0"/>
                      </a:lnTo>
                      <a:lnTo>
                        <a:pt x="0" y="251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7053120" y="900000"/>
              <a:ext cx="615240" cy="38160"/>
              <a:chOff x="7053120" y="900000"/>
              <a:chExt cx="615240" cy="38160"/>
            </a:xfrm>
          </p:grpSpPr>
          <p:sp>
            <p:nvSpPr>
              <p:cNvPr id="352" name=""/>
              <p:cNvSpPr/>
              <p:nvPr/>
            </p:nvSpPr>
            <p:spPr>
              <a:xfrm>
                <a:off x="7053120" y="900000"/>
                <a:ext cx="614880" cy="10080"/>
              </a:xfrm>
              <a:custGeom>
                <a:avLst/>
                <a:gdLst/>
                <a:ahLst/>
                <a:rect l="l" t="t" r="r" b="b"/>
                <a:pathLst>
                  <a:path w="1782" h="43">
                    <a:moveTo>
                      <a:pt x="155" y="0"/>
                    </a:moveTo>
                    <a:lnTo>
                      <a:pt x="1752" y="0"/>
                    </a:lnTo>
                    <a:lnTo>
                      <a:pt x="1782" y="43"/>
                    </a:lnTo>
                    <a:lnTo>
                      <a:pt x="0" y="43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243200" y="910080"/>
                <a:ext cx="425160" cy="28080"/>
              </a:xfrm>
              <a:custGeom>
                <a:avLst/>
                <a:gdLst/>
                <a:ahLst/>
                <a:rect l="l" t="t" r="r" b="b"/>
                <a:pathLst>
                  <a:path w="1232" h="120">
                    <a:moveTo>
                      <a:pt x="1232" y="1"/>
                    </a:moveTo>
                    <a:lnTo>
                      <a:pt x="1148" y="120"/>
                    </a:lnTo>
                    <a:lnTo>
                      <a:pt x="763" y="84"/>
                    </a:lnTo>
                    <a:lnTo>
                      <a:pt x="541" y="63"/>
                    </a:lnTo>
                    <a:lnTo>
                      <a:pt x="253" y="62"/>
                    </a:lnTo>
                    <a:lnTo>
                      <a:pt x="24" y="62"/>
                    </a:lnTo>
                    <a:lnTo>
                      <a:pt x="24" y="41"/>
                    </a:lnTo>
                    <a:lnTo>
                      <a:pt x="0" y="41"/>
                    </a:lnTo>
                    <a:lnTo>
                      <a:pt x="14" y="0"/>
                    </a:lnTo>
                    <a:lnTo>
                      <a:pt x="1232" y="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7355880" y="916920"/>
              <a:ext cx="106560" cy="72000"/>
              <a:chOff x="7355880" y="916920"/>
              <a:chExt cx="106560" cy="72000"/>
            </a:xfrm>
          </p:grpSpPr>
          <p:sp>
            <p:nvSpPr>
              <p:cNvPr id="355" name=""/>
              <p:cNvSpPr/>
              <p:nvPr/>
            </p:nvSpPr>
            <p:spPr>
              <a:xfrm>
                <a:off x="7355880" y="916920"/>
                <a:ext cx="106560" cy="720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379640" y="929880"/>
                <a:ext cx="66960" cy="453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6338880" y="893880"/>
            <a:ext cx="1039680" cy="44424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5429160" y="3436920"/>
            <a:ext cx="1071360" cy="660240"/>
            <a:chOff x="5429160" y="3436920"/>
            <a:chExt cx="1071360" cy="660240"/>
          </a:xfrm>
        </p:grpSpPr>
        <p:graphicFrame>
          <p:nvGraphicFramePr>
            <p:cNvPr id="359" name=""/>
            <p:cNvGraphicFramePr/>
            <p:nvPr/>
          </p:nvGraphicFramePr>
          <p:xfrm>
            <a:off x="5429160" y="3579840"/>
            <a:ext cx="1047600" cy="517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29160" y="3579840"/>
                      <a:ext cx="1047600" cy="51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61" name="" descr=""/>
            <p:cNvPicPr/>
            <p:nvPr/>
          </p:nvPicPr>
          <p:blipFill>
            <a:blip r:embed="rId5"/>
            <a:stretch/>
          </p:blipFill>
          <p:spPr>
            <a:xfrm>
              <a:off x="6260760" y="3436920"/>
              <a:ext cx="239760" cy="2826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62" name=""/>
          <p:cNvGraphicFramePr/>
          <p:nvPr/>
        </p:nvGraphicFramePr>
        <p:xfrm>
          <a:off x="6045120" y="1460520"/>
          <a:ext cx="768600" cy="88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45120" y="1460520"/>
                    <a:ext cx="7686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4" name="" descr=""/>
          <p:cNvPicPr/>
          <p:nvPr/>
        </p:nvPicPr>
        <p:blipFill>
          <a:blip r:embed="rId8"/>
          <a:stretch/>
        </p:blipFill>
        <p:spPr>
          <a:xfrm>
            <a:off x="4368960" y="3038400"/>
            <a:ext cx="950760" cy="5749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9"/>
          <a:stretch/>
        </p:blipFill>
        <p:spPr>
          <a:xfrm>
            <a:off x="3270240" y="447840"/>
            <a:ext cx="6634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932040" y="0"/>
            <a:ext cx="7922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ie et climat : un simple flux de carbone… et 2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44480" y="2143080"/>
            <a:ext cx="7978680" cy="255600"/>
          </a:xfrm>
          <a:custGeom>
            <a:avLst/>
            <a:gdLst/>
            <a:ahLst/>
            <a:rect l="l" t="t" r="r" b="b"/>
            <a:pathLst>
              <a:path w="5026" h="161">
                <a:moveTo>
                  <a:pt x="0" y="113"/>
                </a:moveTo>
                <a:cubicBezTo>
                  <a:pt x="192" y="117"/>
                  <a:pt x="398" y="107"/>
                  <a:pt x="590" y="145"/>
                </a:cubicBezTo>
                <a:cubicBezTo>
                  <a:pt x="1137" y="140"/>
                  <a:pt x="1689" y="123"/>
                  <a:pt x="2238" y="137"/>
                </a:cubicBezTo>
                <a:cubicBezTo>
                  <a:pt x="2390" y="112"/>
                  <a:pt x="2421" y="37"/>
                  <a:pt x="2618" y="16"/>
                </a:cubicBezTo>
                <a:cubicBezTo>
                  <a:pt x="2759" y="0"/>
                  <a:pt x="2903" y="10"/>
                  <a:pt x="3046" y="8"/>
                </a:cubicBezTo>
                <a:cubicBezTo>
                  <a:pt x="3180" y="20"/>
                  <a:pt x="3306" y="41"/>
                  <a:pt x="3442" y="48"/>
                </a:cubicBezTo>
                <a:cubicBezTo>
                  <a:pt x="3543" y="76"/>
                  <a:pt x="3653" y="87"/>
                  <a:pt x="3758" y="96"/>
                </a:cubicBezTo>
                <a:cubicBezTo>
                  <a:pt x="3784" y="104"/>
                  <a:pt x="3810" y="114"/>
                  <a:pt x="3838" y="121"/>
                </a:cubicBezTo>
                <a:cubicBezTo>
                  <a:pt x="4012" y="111"/>
                  <a:pt x="4167" y="141"/>
                  <a:pt x="4339" y="161"/>
                </a:cubicBezTo>
                <a:cubicBezTo>
                  <a:pt x="4409" y="158"/>
                  <a:pt x="4480" y="160"/>
                  <a:pt x="4550" y="153"/>
                </a:cubicBezTo>
                <a:cubicBezTo>
                  <a:pt x="4622" y="144"/>
                  <a:pt x="4688" y="105"/>
                  <a:pt x="4760" y="96"/>
                </a:cubicBezTo>
                <a:cubicBezTo>
                  <a:pt x="4818" y="88"/>
                  <a:pt x="4878" y="90"/>
                  <a:pt x="4937" y="88"/>
                </a:cubicBezTo>
                <a:cubicBezTo>
                  <a:pt x="4971" y="77"/>
                  <a:pt x="4995" y="88"/>
                  <a:pt x="5026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78040" y="2514600"/>
            <a:ext cx="2425680" cy="622440"/>
          </a:xfrm>
          <a:custGeom>
            <a:avLst/>
            <a:gdLst/>
            <a:ahLst/>
            <a:rect l="l" t="t" r="r" b="b"/>
            <a:pathLst>
              <a:path w="1528" h="392">
                <a:moveTo>
                  <a:pt x="32" y="240"/>
                </a:moveTo>
                <a:cubicBezTo>
                  <a:pt x="32" y="200"/>
                  <a:pt x="0" y="88"/>
                  <a:pt x="128" y="48"/>
                </a:cubicBezTo>
                <a:cubicBezTo>
                  <a:pt x="256" y="8"/>
                  <a:pt x="592" y="0"/>
                  <a:pt x="800" y="0"/>
                </a:cubicBezTo>
                <a:cubicBezTo>
                  <a:pt x="1008" y="0"/>
                  <a:pt x="1256" y="8"/>
                  <a:pt x="1376" y="48"/>
                </a:cubicBezTo>
                <a:cubicBezTo>
                  <a:pt x="1496" y="88"/>
                  <a:pt x="1528" y="192"/>
                  <a:pt x="1520" y="240"/>
                </a:cubicBezTo>
                <a:cubicBezTo>
                  <a:pt x="1512" y="288"/>
                  <a:pt x="1520" y="312"/>
                  <a:pt x="1328" y="336"/>
                </a:cubicBezTo>
                <a:cubicBezTo>
                  <a:pt x="1136" y="360"/>
                  <a:pt x="568" y="392"/>
                  <a:pt x="368" y="384"/>
                </a:cubicBezTo>
                <a:cubicBezTo>
                  <a:pt x="168" y="376"/>
                  <a:pt x="184" y="312"/>
                  <a:pt x="128" y="288"/>
                </a:cubicBezTo>
                <a:cubicBezTo>
                  <a:pt x="72" y="264"/>
                  <a:pt x="32" y="280"/>
                  <a:pt x="32" y="240"/>
                </a:cubicBezTo>
                <a:close/>
              </a:path>
            </a:pathLst>
          </a:custGeom>
          <a:solidFill>
            <a:srgbClr val="91701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5640" y="2575080"/>
            <a:ext cx="83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2819520" y="1143000"/>
            <a:ext cx="22860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84080" y="1447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133720" y="1066680"/>
            <a:ext cx="8380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80080" y="60948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33520" y="2514600"/>
            <a:ext cx="8229600" cy="1523880"/>
            <a:chOff x="533520" y="2514600"/>
            <a:chExt cx="8229600" cy="1523880"/>
          </a:xfrm>
        </p:grpSpPr>
        <p:sp>
          <p:nvSpPr>
            <p:cNvPr id="375" name=""/>
            <p:cNvSpPr/>
            <p:nvPr/>
          </p:nvSpPr>
          <p:spPr>
            <a:xfrm>
              <a:off x="533520" y="3581280"/>
              <a:ext cx="8229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mbien de temps pouvons jouer à « j’extrais de plus en plus de carbone du sous-sol ? » -&gt; débat sur les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ressour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97480" y="2514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33520" y="609480"/>
            <a:ext cx="8229600" cy="4572000"/>
            <a:chOff x="533520" y="609480"/>
            <a:chExt cx="8229600" cy="4572000"/>
          </a:xfrm>
        </p:grpSpPr>
        <p:sp>
          <p:nvSpPr>
            <p:cNvPr id="378" name=""/>
            <p:cNvSpPr/>
            <p:nvPr/>
          </p:nvSpPr>
          <p:spPr>
            <a:xfrm>
              <a:off x="533520" y="4419720"/>
              <a:ext cx="82296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mbien de temps pouvons nous jouer à « je mets de plus en plus de carbone dans l’atmosphère ? » -&gt; débat sur le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hangement climat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11680" y="609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57200" y="595620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sommation mondiale en Mtep (millions de tonnes équivalent pétrole) depuis 1860. Sources Schilling &amp; al + AIE + BP statistical review, compilation de l’au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7467480" y="2286000"/>
            <a:ext cx="1675800" cy="897480"/>
            <a:chOff x="7467480" y="2286000"/>
            <a:chExt cx="1675800" cy="897480"/>
          </a:xfrm>
        </p:grpSpPr>
        <p:sp>
          <p:nvSpPr>
            <p:cNvPr id="382" name=""/>
            <p:cNvSpPr/>
            <p:nvPr/>
          </p:nvSpPr>
          <p:spPr>
            <a:xfrm>
              <a:off x="7467480" y="2286000"/>
              <a:ext cx="257400" cy="741240"/>
            </a:xfrm>
            <a:custGeom>
              <a:avLst/>
              <a:gdLst>
                <a:gd name="textAreaLeft" fmla="*/ 0 w 257400"/>
                <a:gd name="textAreaRight" fmla="*/ 92880 w 257400"/>
                <a:gd name="textAreaTop" fmla="*/ 19080 h 741240"/>
                <a:gd name="textAreaBottom" fmla="*/ 72216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724880" y="2421000"/>
              <a:ext cx="1418400" cy="7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z (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0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g C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kWh) : 21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7467480" y="3027240"/>
            <a:ext cx="1676160" cy="1392120"/>
            <a:chOff x="7467480" y="3027240"/>
            <a:chExt cx="1676160" cy="1392120"/>
          </a:xfrm>
        </p:grpSpPr>
        <p:sp>
          <p:nvSpPr>
            <p:cNvPr id="385" name=""/>
            <p:cNvSpPr/>
            <p:nvPr/>
          </p:nvSpPr>
          <p:spPr>
            <a:xfrm>
              <a:off x="7467480" y="3027240"/>
              <a:ext cx="335160" cy="1392120"/>
            </a:xfrm>
            <a:custGeom>
              <a:avLst/>
              <a:gdLst>
                <a:gd name="textAreaLeft" fmla="*/ 0 w 335160"/>
                <a:gd name="textAreaRight" fmla="*/ 120960 w 335160"/>
                <a:gd name="textAreaTop" fmla="*/ 36000 h 1392120"/>
                <a:gd name="textAreaBottom" fmla="*/ 1356120 h 13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0680" y="3436560"/>
              <a:ext cx="1452960" cy="7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étrole (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6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g C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kWh) : 34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7467480" y="4419720"/>
            <a:ext cx="1675800" cy="986040"/>
            <a:chOff x="7467480" y="4419720"/>
            <a:chExt cx="1675800" cy="986040"/>
          </a:xfrm>
        </p:grpSpPr>
        <p:sp>
          <p:nvSpPr>
            <p:cNvPr id="388" name=""/>
            <p:cNvSpPr/>
            <p:nvPr/>
          </p:nvSpPr>
          <p:spPr>
            <a:xfrm>
              <a:off x="7467480" y="4419720"/>
              <a:ext cx="295560" cy="969840"/>
            </a:xfrm>
            <a:custGeom>
              <a:avLst/>
              <a:gdLst>
                <a:gd name="textAreaLeft" fmla="*/ 0 w 295560"/>
                <a:gd name="textAreaRight" fmla="*/ 106560 w 295560"/>
                <a:gd name="textAreaTop" fmla="*/ 25200 h 969840"/>
                <a:gd name="textAreaBottom" fmla="*/ 944640 h 9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763040" y="4643280"/>
              <a:ext cx="1380240" cy="7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rbon (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4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g C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kWh) : 24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1165320"/>
            <a:ext cx="7467480" cy="4690800"/>
          </a:xfrm>
          <a:prstGeom prst="rect">
            <a:avLst/>
          </a:prstGeom>
          <a:ln w="0">
            <a:noFill/>
          </a:ln>
        </p:spPr>
      </p:pic>
      <p:grpSp>
        <p:nvGrpSpPr>
          <p:cNvPr id="391" name=""/>
          <p:cNvGrpSpPr/>
          <p:nvPr/>
        </p:nvGrpSpPr>
        <p:grpSpPr>
          <a:xfrm>
            <a:off x="333360" y="2525760"/>
            <a:ext cx="6416640" cy="2371680"/>
            <a:chOff x="333360" y="2525760"/>
            <a:chExt cx="6416640" cy="2371680"/>
          </a:xfrm>
        </p:grpSpPr>
        <p:sp>
          <p:nvSpPr>
            <p:cNvPr id="392" name=""/>
            <p:cNvSpPr/>
            <p:nvPr/>
          </p:nvSpPr>
          <p:spPr>
            <a:xfrm flipV="1">
              <a:off x="3929040" y="2525760"/>
              <a:ext cx="2820960" cy="2371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3360" y="2951280"/>
              <a:ext cx="5776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Grand-papa -&gt; fifille = énergie mondiale x 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Le coup est-il rejouable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357280" y="4289400"/>
            <a:ext cx="1579680" cy="660600"/>
            <a:chOff x="2357280" y="4289400"/>
            <a:chExt cx="1579680" cy="660600"/>
          </a:xfrm>
        </p:grpSpPr>
        <p:sp>
          <p:nvSpPr>
            <p:cNvPr id="395" name=""/>
            <p:cNvSpPr/>
            <p:nvPr/>
          </p:nvSpPr>
          <p:spPr>
            <a:xfrm>
              <a:off x="2357280" y="4289400"/>
              <a:ext cx="157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pa-mam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09760" y="4670280"/>
              <a:ext cx="570240" cy="27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5699160" y="4341960"/>
            <a:ext cx="7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5392800" y="4241520"/>
            <a:ext cx="560160" cy="12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572080" y="190512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i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75240" y="2203560"/>
            <a:ext cx="330480" cy="290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50760" y="0"/>
            <a:ext cx="66438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z et électricité à tous les étages, cela donne ceci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eur</cp:lastModifiedBy>
  <dcterms:modified xsi:type="dcterms:W3CDTF">2009-07-21T13:55:41Z</dcterms:modified>
  <cp:revision>237</cp:revision>
  <dc:subject/>
  <dc:title>Energie et climat : des certitudes du 20è siècle aux incertitudes du 21è siècle</dc:title>
</cp:coreProperties>
</file>